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875-6213-43E8-89C9-D77FA919A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6E45-96B1-428E-960D-137646AAE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B4E-E280-4B98-8A79-485AA4A23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68B-30D6-40C8-B46F-8C29F62B2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C7F-6871-461A-8900-C0633A38E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0534-D98F-4914-A304-0E3DE64D8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5E45-3D5E-42EC-9AB4-86DC88091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000-ACB2-431C-A492-F07E6FA62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184-67EA-4AE5-B43F-F35DF44FF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143-A702-4218-A663-6C26AD34B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2E35-3F29-4893-87B3-F246C56CB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EB2-5891-4998-B636-23E34F3F1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7E8-718D-4ECB-A6A3-FB4F9B15A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55F-4712-412B-BB7F-CE13CD17C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08F4-8875-435C-9E30-B38C1AE2B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0EF-C0C7-40F4-8351-781468294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BDD-E740-40C7-AE85-30D9F993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0D6-1429-4E06-9174-4062F4F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08A-D790-4852-9041-D0A21FD0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66E-71EA-4D8F-A7FA-87F99884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82-225C-43AF-A4E2-E839B2A3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7EF-6EB4-420D-B57F-CE775655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555-08F9-49CF-A82B-371EDE37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D25-E5BD-420E-807F-0EC6102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4DF-3D18-4A4D-A652-DFFF5EC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938-54B1-4283-A7C7-AC91082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4EB-C8AA-4F7F-8AF0-186EC4A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EDE-8C4C-4154-961A-2E96025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A2D-CA78-4FE4-ACEA-9CF149A00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Winter Seminar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November 7,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um Sauk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semin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llet WSW/NPW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NWS: http://inws.wrh.noaa.g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4" descr="iNWS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WS: http://inws.wrh.noaa.g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WS Alerts: Text and 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bile Aviation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bile Weather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type Cell Phone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904680" y="4359240"/>
            <a:ext cx="737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Will become a fully suppor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NWS System: Spring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AS: Extension of Emergency Alert Service (EAS) to mobile cellular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rning, Alert, and Response Network Act of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xt: Later voice, video, other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cs Octo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based on Short Message Service (S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llular broadcasting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Alert Protocol (CA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ographically targ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riers and Service Provider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major carriers are particip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UST let users know if they are not participating in C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: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MAS is Opt ou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ullet Format For WSW/NP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1800" y="177480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ilar to severe weather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ries of bullets: Get to the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 or 2 sentences per bul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horter produ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to start December 8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724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aum Sauk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TSOverview"/>
          <p:cNvPicPr/>
          <p:nvPr/>
        </p:nvPicPr>
        <p:blipFill>
          <a:blip r:embed="rId1"/>
          <a:stretch/>
        </p:blipFill>
        <p:spPr>
          <a:xfrm>
            <a:off x="1425600" y="1600200"/>
            <a:ext cx="62928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16840" y="28954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per Reservo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113080" y="52578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Pl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um Sauk Plant Operation.wmv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585720" y="701640"/>
            <a:ext cx="72835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ecember 14, 200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lood12.jpe"/>
          <p:cNvPicPr/>
          <p:nvPr/>
        </p:nvPicPr>
        <p:blipFill>
          <a:blip r:embed="rId1"/>
          <a:stretch/>
        </p:blipFill>
        <p:spPr>
          <a:xfrm>
            <a:off x="1325520" y="1676520"/>
            <a:ext cx="6647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pper Reservoir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lestervillereservoirbreach.gif"/>
          <p:cNvPicPr/>
          <p:nvPr/>
        </p:nvPicPr>
        <p:blipFill>
          <a:blip r:embed="rId1"/>
          <a:stretch/>
        </p:blipFill>
        <p:spPr>
          <a:xfrm>
            <a:off x="866880" y="1176480"/>
            <a:ext cx="7057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0" descr="TS and Lesterville aerial"/>
          <p:cNvPicPr/>
          <p:nvPr/>
        </p:nvPicPr>
        <p:blipFill>
          <a:blip r:embed="rId1"/>
          <a:stretch/>
        </p:blipFill>
        <p:spPr>
          <a:xfrm>
            <a:off x="2209680" y="1219320"/>
            <a:ext cx="5859720" cy="5327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872320" y="152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802480" y="35812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Reservo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19640" y="2057400"/>
            <a:ext cx="217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son’s Shut-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5-Point Star 6"/>
          <p:cNvSpPr/>
          <p:nvPr/>
        </p:nvSpPr>
        <p:spPr>
          <a:xfrm>
            <a:off x="4800600" y="1828800"/>
            <a:ext cx="304920" cy="457200"/>
          </a:xfrm>
          <a:custGeom>
            <a:avLst/>
            <a:gdLst>
              <a:gd name="textAreaLeft" fmla="*/ 94320 w 304920"/>
              <a:gd name="textAreaRight" fmla="*/ 210600 w 3049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04800" h="457200">
                <a:moveTo>
                  <a:pt x="0" y="174634"/>
                </a:moveTo>
                <a:lnTo>
                  <a:pt x="116424" y="174636"/>
                </a:lnTo>
                <a:lnTo>
                  <a:pt x="152400" y="0"/>
                </a:lnTo>
                <a:lnTo>
                  <a:pt x="188376" y="174636"/>
                </a:lnTo>
                <a:lnTo>
                  <a:pt x="304800" y="174634"/>
                </a:lnTo>
                <a:lnTo>
                  <a:pt x="210611" y="282564"/>
                </a:lnTo>
                <a:lnTo>
                  <a:pt x="246588" y="457198"/>
                </a:lnTo>
                <a:lnTo>
                  <a:pt x="152400" y="349267"/>
                </a:lnTo>
                <a:lnTo>
                  <a:pt x="58212" y="457198"/>
                </a:lnTo>
                <a:lnTo>
                  <a:pt x="94189" y="28256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Taum Sauk 07-09-08"/>
          <p:cNvPicPr/>
          <p:nvPr/>
        </p:nvPicPr>
        <p:blipFill>
          <a:blip r:embed="rId1"/>
          <a:stretch/>
        </p:blipFill>
        <p:spPr>
          <a:xfrm>
            <a:off x="1639800" y="1447920"/>
            <a:ext cx="6492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SC00339"/>
          <p:cNvPicPr/>
          <p:nvPr/>
        </p:nvPicPr>
        <p:blipFill>
          <a:blip r:embed="rId1"/>
          <a:stretch/>
        </p:blipFill>
        <p:spPr>
          <a:xfrm>
            <a:off x="137160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filling: 0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“Action Levels”: A,B, and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call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-up with a real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48:13Z</dcterms:created>
  <dc:creator>james.kramper</dc:creator>
  <dc:description/>
  <dc:language>en-US</dc:language>
  <cp:lastModifiedBy>james.kramper</cp:lastModifiedBy>
  <dcterms:modified xsi:type="dcterms:W3CDTF">2009-11-07T13:11:46Z</dcterms:modified>
  <cp:revision>13</cp:revision>
  <dc:subject/>
  <dc:title>Winter Weather Meeting 2009</dc:title>
</cp:coreProperties>
</file>