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7925-8B75-40A8-B14B-F25A237DC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D578-D4D5-41F6-A7C9-FCA89AE7A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048C-B008-4B01-8526-370FC7D90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966C-FC51-4498-906F-7729C9D1F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C020-8995-4B8D-B2B2-5B55ABB10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D75F-FABA-47AE-9208-0C2A961B8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1F59-7B1A-40F9-BA66-A9605805B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DCF1-E016-4ADD-8D46-322BEB68F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8C80-A72E-4EC4-B6D7-C5BCEDE5F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F4D1-11E8-4930-97C5-8A47F1A0D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D702-8356-472E-A9E5-4472B73C6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06E7-A5DF-4ECA-8986-0DE1CFFFC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AC9C-F11E-46DE-9A38-8E0AA0C94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5257-9C9F-4B89-9A60-10662D70D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CF05-3F5E-44C7-AE72-ABFCA8964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9E5E-EFF8-44C1-A949-FDFCBC33D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532-0CDF-4A49-B717-9B1D7E4C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11A-BCA0-49FE-9009-44EEBB0E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C190-B6C1-4150-82BB-3F8F4A03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618-8A5C-4D9A-8297-EB6E015B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C76-7E47-4F01-96AA-0A0A92C0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3ED-2588-4D9A-BABE-17A920CC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0DC-80E1-43D0-AFC4-D1CEBBEB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996-78C4-49CB-B40F-3C8CBF7E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EB2-48C4-46D7-9EED-9D8BC63E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EE9-1CC4-44C8-AD99-BFAB6341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411-0DFF-4285-9EFE-8FC5FBD8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130-B7AE-4AA2-916E-2E918F0B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AE6A-50C8-45C9-9077-AC357D455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Winter Seminar 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November 7,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um Sauk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semin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llet WSW/NPW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alibri"/>
              </a:rPr>
              <a:t>i</a:t>
            </a: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NWS: http://inws.wrh.noaa.g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4" descr="iNWS.JPG"/>
          <p:cNvPicPr/>
          <p:nvPr/>
        </p:nvPicPr>
        <p:blipFill>
          <a:blip r:embed="rId1"/>
          <a:stretch/>
        </p:blipFill>
        <p:spPr>
          <a:xfrm>
            <a:off x="668160" y="1600200"/>
            <a:ext cx="78076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524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NWS: http://inws.wrh.noaa.g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28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WS Alerts: Text and e-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bile Aviation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bile Weather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otype Cell Phone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904680" y="4359240"/>
            <a:ext cx="737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Will become a fully support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NWS System: Spring 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524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Commercial Mobile Alert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28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AS: Extension of Emergency Alert Service (EAS) to mobile cellular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rning, Alert, and Response Network Act of 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xt: Later voice, video, other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524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Commercial Mobile Alert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cs October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 based on Short Message Service (S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llular broadcasting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Alert Protocol (CA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ographically targe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524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Commercial Mobile Alert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rriers and Service Providers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p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 major carriers are particip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UST let users know if they are not participating in C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s: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MAS is Opt ou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Bullet Format For WSW/NP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61800" y="177480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ilar to severe weather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eries of bullets: Get to the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1 or 2 sentences per bul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horter produ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 to start December 8,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47242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Taum Sauk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TSOverview"/>
          <p:cNvPicPr/>
          <p:nvPr/>
        </p:nvPicPr>
        <p:blipFill>
          <a:blip r:embed="rId1"/>
          <a:stretch/>
        </p:blipFill>
        <p:spPr>
          <a:xfrm>
            <a:off x="1425600" y="1600200"/>
            <a:ext cx="62928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516840" y="289548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per Reservo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113080" y="525780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Pl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aum Sauk Plant Operation.wmv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3" descr=""/>
          <p:cNvPicPr/>
          <p:nvPr/>
        </p:nvPicPr>
        <p:blipFill>
          <a:blip r:embed="rId2"/>
          <a:stretch/>
        </p:blipFill>
        <p:spPr>
          <a:xfrm>
            <a:off x="585720" y="701640"/>
            <a:ext cx="728352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ecember 14, 200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flood12.jpe"/>
          <p:cNvPicPr/>
          <p:nvPr/>
        </p:nvPicPr>
        <p:blipFill>
          <a:blip r:embed="rId1"/>
          <a:stretch/>
        </p:blipFill>
        <p:spPr>
          <a:xfrm>
            <a:off x="1325520" y="1676520"/>
            <a:ext cx="6647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Upper Reservoir Fail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lestervillereservoirbreach.gif"/>
          <p:cNvPicPr/>
          <p:nvPr/>
        </p:nvPicPr>
        <p:blipFill>
          <a:blip r:embed="rId1"/>
          <a:stretch/>
        </p:blipFill>
        <p:spPr>
          <a:xfrm>
            <a:off x="866880" y="1176480"/>
            <a:ext cx="70578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0" descr="TS and Lesterville aerial"/>
          <p:cNvPicPr/>
          <p:nvPr/>
        </p:nvPicPr>
        <p:blipFill>
          <a:blip r:embed="rId1"/>
          <a:stretch/>
        </p:blipFill>
        <p:spPr>
          <a:xfrm>
            <a:off x="2209680" y="1219320"/>
            <a:ext cx="5859720" cy="5327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5872320" y="15238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5802480" y="358128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er Reservo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519640" y="2057400"/>
            <a:ext cx="217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son’s Shut-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5-Point Star 6"/>
          <p:cNvSpPr/>
          <p:nvPr/>
        </p:nvSpPr>
        <p:spPr>
          <a:xfrm>
            <a:off x="4800600" y="1828800"/>
            <a:ext cx="304920" cy="457200"/>
          </a:xfrm>
          <a:custGeom>
            <a:avLst/>
            <a:gdLst>
              <a:gd name="textAreaLeft" fmla="*/ 94320 w 304920"/>
              <a:gd name="textAreaRight" fmla="*/ 210600 w 30492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304800" h="457200">
                <a:moveTo>
                  <a:pt x="0" y="174634"/>
                </a:moveTo>
                <a:lnTo>
                  <a:pt x="116424" y="174636"/>
                </a:lnTo>
                <a:lnTo>
                  <a:pt x="152400" y="0"/>
                </a:lnTo>
                <a:lnTo>
                  <a:pt x="188376" y="174636"/>
                </a:lnTo>
                <a:lnTo>
                  <a:pt x="304800" y="174634"/>
                </a:lnTo>
                <a:lnTo>
                  <a:pt x="210611" y="282564"/>
                </a:lnTo>
                <a:lnTo>
                  <a:pt x="246588" y="457198"/>
                </a:lnTo>
                <a:lnTo>
                  <a:pt x="152400" y="349267"/>
                </a:lnTo>
                <a:lnTo>
                  <a:pt x="58212" y="457198"/>
                </a:lnTo>
                <a:lnTo>
                  <a:pt x="94189" y="28256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Taum Sauk 07-09-08"/>
          <p:cNvPicPr/>
          <p:nvPr/>
        </p:nvPicPr>
        <p:blipFill>
          <a:blip r:embed="rId1"/>
          <a:stretch/>
        </p:blipFill>
        <p:spPr>
          <a:xfrm>
            <a:off x="1639800" y="1447920"/>
            <a:ext cx="64929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DSC00339"/>
          <p:cNvPicPr/>
          <p:nvPr/>
        </p:nvPicPr>
        <p:blipFill>
          <a:blip r:embed="rId1"/>
          <a:stretch/>
        </p:blipFill>
        <p:spPr>
          <a:xfrm>
            <a:off x="1371600" y="13716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gin filling: 01/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ree “Action Levels”: A,B, and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ic call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-up with a real 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0:48:13Z</dcterms:created>
  <dc:creator>james.kramper</dc:creator>
  <dc:description/>
  <dc:language>en-US</dc:language>
  <cp:lastModifiedBy>james.kramper</cp:lastModifiedBy>
  <dcterms:modified xsi:type="dcterms:W3CDTF">2009-11-07T13:11:46Z</dcterms:modified>
  <cp:revision>13</cp:revision>
  <dc:subject/>
  <dc:title>Winter Weather Meeting 2009</dc:title>
</cp:coreProperties>
</file>