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376-0B44-4F28-B0F3-FD31B916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560-3526-47CD-8467-D440FEFB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302-881D-438A-8D4A-D33CC0FE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C8D-E708-4A82-A435-606E8036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FB0-1D64-46AF-8FF4-529891A0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B9F-9FF0-4094-A277-A64B32D5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3EF-B6CD-4698-AAD7-C569FE0A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3B9-1938-4CCD-A68D-FD6714FA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625-0CCB-4A95-B652-0FF5A0D1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D0C-4DB1-4750-8368-8FA56022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5DB-82A4-43D4-9778-87C28C92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FF6-D712-4452-88D7-96A07F8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7CD7-5364-4355-90FE-E64CBEB74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NWS St. Louis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Webpage Proje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Eric L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t. Louis Information Technology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entral Region Web Services Team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entral Region GIS Team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560" y="43560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23840" y="176040"/>
            <a:ext cx="7096320" cy="650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ttp://www.weather.gov/l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286000"/>
            <a:ext cx="4191120" cy="838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971800"/>
            <a:ext cx="144792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429000"/>
            <a:ext cx="144792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281640" cy="6431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andardized Watch/Warn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50760"/>
            <a:ext cx="7238880" cy="655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unty-Level Watch/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azardous Weather Resource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917640"/>
            <a:ext cx="86104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26672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aphical HWO: Hazard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889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553080" cy="6438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aphical HWO: Threa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cal Nowcast (Graphica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778" t="6565" r="24074" b="21228"/>
          <a:stretch/>
        </p:blipFill>
        <p:spPr>
          <a:xfrm>
            <a:off x="533520" y="954000"/>
            <a:ext cx="81532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ents…ple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1:46:30Z</dcterms:created>
  <dc:creator> </dc:creator>
  <dc:description/>
  <dc:language>en-US</dc:language>
  <cp:lastModifiedBy> </cp:lastModifiedBy>
  <dcterms:modified xsi:type="dcterms:W3CDTF">2007-02-09T18:07:02Z</dcterms:modified>
  <cp:revision>14</cp:revision>
  <dc:subject/>
  <dc:title>Graphical HWO: Hazard Scale</dc:title>
</cp:coreProperties>
</file>