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94800" cy="7034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94400" cy="70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41640" cy="35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5252760" y="-360"/>
            <a:ext cx="3941640" cy="35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2828880" y="533160"/>
            <a:ext cx="354168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1215720" y="3362400"/>
            <a:ext cx="6762600" cy="313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6670440"/>
            <a:ext cx="3941640" cy="35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5252760" y="6670440"/>
            <a:ext cx="3941640" cy="35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F9991D-4F10-4FE6-A214-BA54764C1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828880" y="533520"/>
            <a:ext cx="3541680" cy="26557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15720" y="3362400"/>
            <a:ext cx="6762600" cy="313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 introduction and introduction of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28040" indent="-18972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7480" indent="-18972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7480" indent="-189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7480" indent="-189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52280" y="380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229600" y="380880"/>
            <a:ext cx="733320" cy="73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1141200"/>
            <a:ext cx="829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Weather Servic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dia Seminar February 2007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014640"/>
            <a:ext cx="6400800" cy="6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F Tornado Rating Scal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0440" y="2795760"/>
            <a:ext cx="5913360" cy="85680"/>
          </a:xfrm>
          <a:prstGeom prst="rect">
            <a:avLst/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14600" y="3848040"/>
            <a:ext cx="5913360" cy="85680"/>
          </a:xfrm>
          <a:prstGeom prst="rect">
            <a:avLst/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8320" y="4054320"/>
            <a:ext cx="755172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im Kram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ning Coordination Meteorolog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Weather Service, St. Louis,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46920" y="655308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AA’s National Weathe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 Rat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63760" y="1239840"/>
            <a:ext cx="6419880" cy="410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20840" y="5703840"/>
            <a:ext cx="493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cted Wind = 97 m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901 L 4.44444E-006 0.2504 E"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17480" y="1436760"/>
          <a:ext cx="7772400" cy="4701960"/>
        </p:xfrm>
        <a:graphic>
          <a:graphicData uri="http://schemas.openxmlformats.org/drawingml/2006/table">
            <a:tbl>
              <a:tblPr/>
              <a:tblGrid>
                <a:gridCol w="3243240"/>
                <a:gridCol w="4529160"/>
              </a:tblGrid>
              <a:tr h="58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EF 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- Second gust speed (mp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-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-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-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jita (F)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Tetsuya Theodore Fujita - 197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 tornado wind speeds based on damage left beh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0 - F5 (F6 - F1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jita (F) Scal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7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ck of damage indica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account for construction quality and variabil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77800" y="3940200"/>
          <a:ext cx="7794720" cy="1844640"/>
        </p:xfrm>
        <a:graphic>
          <a:graphicData uri="http://schemas.openxmlformats.org/drawingml/2006/table">
            <a:tbl>
              <a:tblPr/>
              <a:tblGrid>
                <a:gridCol w="957240"/>
                <a:gridCol w="2210040"/>
                <a:gridCol w="462744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-206 m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fs and walls torn off well-constructed ho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7 - 260 m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ll-constructed housed leve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jita (F) Scal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blem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79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nadoes were rated in an inconsistent man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definitive correlation between damage and wind sp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estimate of tornado wind sp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hanced F (EF)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68520"/>
            <a:ext cx="8001000" cy="45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as Tech University Wind Science and Engineering Research Cen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ering Committ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jita Scale F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dentify additional damage indicato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rrelate appearance of damage and wind spe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serve the historical database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ek input from us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696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8 Damage Indicators (D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ypical Construction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eries of Degrees of Damage (DO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xpected wind speed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er bound wind speed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pper bound wind speed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185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 scale fastest ¼ mile sp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 - Second Gust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F speeds were compared to Expected wind speeds: regression analy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 = 0.6246x + 36.393   (y = EF, x =F)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611360"/>
          <a:ext cx="7772400" cy="4713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sec 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 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sec 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-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-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-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-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-1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-2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-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0-2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-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2-2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-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7480" y="1436760"/>
          <a:ext cx="7772400" cy="4701960"/>
        </p:xfrm>
        <a:graphic>
          <a:graphicData uri="http://schemas.openxmlformats.org/drawingml/2006/table">
            <a:tbl>
              <a:tblPr/>
              <a:tblGrid>
                <a:gridCol w="3243240"/>
                <a:gridCol w="4529160"/>
              </a:tblGrid>
              <a:tr h="58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EF 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- Second gust speed (mp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-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-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-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21:24:44Z</dcterms:created>
  <dc:creator>ISS</dc:creator>
  <dc:description/>
  <dc:language>en-US</dc:language>
  <cp:lastModifiedBy>JKramper</cp:lastModifiedBy>
  <cp:lastPrinted>1999-11-15T21:20:23Z</cp:lastPrinted>
  <dcterms:modified xsi:type="dcterms:W3CDTF">2007-02-09T20:19:44Z</dcterms:modified>
  <cp:revision>216</cp:revision>
  <dc:subject/>
  <dc:title>National Weather Service </dc:title>
</cp:coreProperties>
</file>