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596-9A5D-4047-A87A-C29CFAE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43B-E716-45BF-8528-85A839F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1BB-FA47-4C7C-9532-C5963504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264-AE7B-4B89-9485-0E8A9CDD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6A8-1FAD-4F68-8628-DE87917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8CE-2A01-4708-B794-ADEBB5A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4DF-3448-41A9-8D51-16EFFB58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C86-8BEE-426E-B8D5-F1DC49E8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AE7-1A0B-49DF-AC8F-4E4BFA2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DD0-C5EF-4583-8102-0AD0FDD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0C4-8F35-487D-BFB3-226FBFD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A20-6B30-493D-AD4C-B1A4107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11D-787B-4683-95F9-5CA81424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7120" y="19432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ge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Pathca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43280" y="0"/>
            <a:ext cx="54021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26240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43480" y="228600"/>
            <a:ext cx="5287680" cy="6629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43480" y="228600"/>
            <a:ext cx="5287680" cy="6629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0" t="5574" r="67940" b="5574"/>
          <a:stretch/>
        </p:blipFill>
        <p:spPr>
          <a:xfrm>
            <a:off x="685800" y="457200"/>
            <a:ext cx="2651040" cy="603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4915080"/>
            <a:ext cx="799920" cy="342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800280"/>
            <a:ext cx="811512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Imprecision of Radar Signature Locations and Storm Path Forecast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heger/Smit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WA Dig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ember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57400" y="9144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dar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2286000"/>
            <a:ext cx="8572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From Rad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Err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Error .50 m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Error 1.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-20 mi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.2 mi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13%                       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-50 mi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.6 miles                      51%                     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-80 miles                            .8 miles                      63%                    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-110 miles                        1.1 miles                      79%                     4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0-140 miles                      1.5 miles                      79%                     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eorolog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m motion ≠ tornado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m motion is not alway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of storm used for arriv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257480" y="685800"/>
          <a:ext cx="6933960" cy="52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685800"/>
                    <a:ext cx="693396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flipV="1">
            <a:off x="4000680" y="4229280"/>
            <a:ext cx="457200" cy="799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057400"/>
            <a:ext cx="685800" cy="1028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86400" y="3200400"/>
            <a:ext cx="1371600" cy="114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1159" t="9270" r="0" b="18255"/>
          <a:stretch/>
        </p:blipFill>
        <p:spPr>
          <a:xfrm>
            <a:off x="1257480" y="800280"/>
            <a:ext cx="6814800" cy="514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486040" y="3657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914720" y="4000680"/>
            <a:ext cx="1028520" cy="799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4228920"/>
            <a:ext cx="457200" cy="102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Meteorologic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17188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n/city identified as 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detail imply level of accuracy that cannot be achie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l use of times given in path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l use of town listed in path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wn not named ≠ no 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39760" y="1881360"/>
            <a:ext cx="6865920" cy="310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39760" y="2400480"/>
            <a:ext cx="6865920" cy="2066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19240" y="2428920"/>
            <a:ext cx="6904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102852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dar Considera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eorlogical Considera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Meteorologic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3080" y="37720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es the public understand these limi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eorolog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m motion ≠ tornado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 motion of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of storm used for arriv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28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343080"/>
            <a:ext cx="749592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28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28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172f75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0280" y="343080"/>
            <a:ext cx="748656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3:23:34Z</dcterms:created>
  <dc:creator>Scott C. Truett</dc:creator>
  <dc:description/>
  <dc:language>en-US</dc:language>
  <cp:lastModifiedBy>mandy.dawn</cp:lastModifiedBy>
  <dcterms:modified xsi:type="dcterms:W3CDTF">2007-02-09T13:13:19Z</dcterms:modified>
  <cp:revision>6</cp:revision>
  <dc:subject/>
  <dc:title>Slide 1</dc:title>
</cp:coreProperties>
</file>