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3698-E7FD-4726-8291-F245E2B9B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C4CF-D6BB-4148-AA84-418B5530E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A650-8912-47DF-8ABB-0F839D5CF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91D6-1989-459A-86FD-AE60AD3CF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1B08-16A5-4A19-BB03-F38D90E60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5997-C9DC-48CE-A456-EE4154BCE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BB9C-81DE-477F-8359-43BF3FB7A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13BD-EF9E-4E2E-B70F-DE769F595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F5A1-B52F-4405-94FF-325BB14FD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C111-EB5B-4F4F-9BF3-6DCA95F3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AC25-4BB0-479B-8197-7B1CD1DF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45E0-B749-4D52-8F4C-C8A147712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F1544-CE9A-4DD1-81EF-8D0D2CE1A9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NWS St. Louis</a:t>
            </a:r>
            <a:br>
              <a:rPr sz="5400"/>
            </a:b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Webpage Projec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3520" y="388620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Eric Le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St. Louis Information Technology Offi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99"/>
                </a:solidFill>
                <a:latin typeface="Arial"/>
              </a:rPr>
              <a:t>Central Region Web Services Team M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99"/>
                </a:solidFill>
                <a:latin typeface="Arial"/>
              </a:rPr>
              <a:t>Central Region GIS Team M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560" y="4356000"/>
            <a:ext cx="170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23840" y="176040"/>
            <a:ext cx="7096320" cy="65059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ttp://www.weather.gov/ls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2286000"/>
            <a:ext cx="4191120" cy="83808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2971800"/>
            <a:ext cx="1447920" cy="30492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3429000"/>
            <a:ext cx="1447920" cy="30492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47920" y="228600"/>
            <a:ext cx="6281640" cy="64310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Standardized Watch/Warning P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14400" y="50760"/>
            <a:ext cx="7238880" cy="65516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unty-Level Watch/Warn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Hazardous Weather Resource P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8600" y="917640"/>
            <a:ext cx="8610480" cy="57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274680"/>
            <a:ext cx="266724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raphical HWO: Hazard Sc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971800" y="152280"/>
            <a:ext cx="588960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447920" y="304920"/>
            <a:ext cx="6553080" cy="64389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raphical HWO: Threat Sc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Graphical Nowcast (Graphicas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2778" t="6565" r="24074" b="21228"/>
          <a:stretch/>
        </p:blipFill>
        <p:spPr>
          <a:xfrm>
            <a:off x="533520" y="954000"/>
            <a:ext cx="8153280" cy="56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mments…plea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01:46:30Z</dcterms:created>
  <dc:creator> </dc:creator>
  <dc:description/>
  <dc:language>en-US</dc:language>
  <cp:lastModifiedBy> </cp:lastModifiedBy>
  <dcterms:modified xsi:type="dcterms:W3CDTF">2007-02-09T18:07:02Z</dcterms:modified>
  <cp:revision>14</cp:revision>
  <dc:subject/>
  <dc:title>Graphical HWO: Hazard Scale</dc:title>
</cp:coreProperties>
</file>