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8.png" ContentType="image/png"/>
  <Override PartName="/ppt/media/image28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12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0.png" ContentType="image/png"/>
  <Override PartName="/ppt/media/image2.jpeg" ContentType="image/jpe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32.jpeg" ContentType="image/jpeg"/>
  <Override PartName="/ppt/media/image17.png" ContentType="image/png"/>
  <Override PartName="/ppt/media/image19.png" ContentType="image/png"/>
  <Override PartName="/ppt/media/image2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CA37D-C052-4988-936B-1BD8BC630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9A991-73DB-4EB2-81ED-5B06265E2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37F11-BB19-4E69-9B4C-C519FCAF6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E34A4-44E7-4A87-824A-C41B0D72A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5AF8C-CE3D-4997-BAF8-87BD60CF9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B9401-EA2F-4C14-9A73-CE1D7E808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6ED39-94D8-41C3-BF48-EE5531248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F8F17-F23E-401F-824D-AB10B8EDC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1B3F6-D2E0-4A0D-B9BA-74E2A2610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859A5-E2A8-4EB4-B640-A6025EBAD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58A0D-EDA3-4786-BCBD-48EC87CD4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158AC-0E3E-4D6E-AB75-9EBAE9E43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489C6-BAAB-442B-A60A-FDF26E95FE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The Role of Conveyor Belts in Organizing Processes Associated with Heavy Banded Snowfal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190760" y="2209320"/>
            <a:ext cx="472428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mes T. Moore, Sam Ng, and Charles E. Gra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aint Louis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operative Institute for Precipitation Syst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56480" y="2057400"/>
            <a:ext cx="3809880" cy="30607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990720" y="6095880"/>
            <a:ext cx="7619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523880" y="5943600"/>
            <a:ext cx="7086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6248520"/>
            <a:ext cx="762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038480" y="4952880"/>
            <a:ext cx="4648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28600" y="594360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1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onference on Weather Analysis and Forecasting: 3 Aug. 20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rcRect l="0" t="7139" r="0" b="0"/>
          <a:stretch/>
        </p:blipFill>
        <p:spPr>
          <a:xfrm>
            <a:off x="990720" y="1036800"/>
            <a:ext cx="7315200" cy="58212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1295280" y="152280"/>
            <a:ext cx="6782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42-h Precipitation Forecast ending                            1200 UTC 27 November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rcRect l="26646" t="18314" r="26756" b="17651"/>
          <a:stretch/>
        </p:blipFill>
        <p:spPr>
          <a:xfrm>
            <a:off x="1295280" y="685800"/>
            <a:ext cx="6429600" cy="57150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457200" y="15228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Surface Analysis for 1200 UTC 26 November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452680" y="3189240"/>
            <a:ext cx="1909800" cy="2579760"/>
          </a:xfrm>
          <a:custGeom>
            <a:avLst/>
            <a:gdLst/>
            <a:ahLst/>
            <a:rect l="l" t="t" r="r" b="b"/>
            <a:pathLst>
              <a:path w="1203" h="1625">
                <a:moveTo>
                  <a:pt x="1082" y="0"/>
                </a:moveTo>
                <a:cubicBezTo>
                  <a:pt x="1093" y="23"/>
                  <a:pt x="1133" y="40"/>
                  <a:pt x="1151" y="141"/>
                </a:cubicBezTo>
                <a:cubicBezTo>
                  <a:pt x="1169" y="242"/>
                  <a:pt x="1203" y="462"/>
                  <a:pt x="1193" y="607"/>
                </a:cubicBezTo>
                <a:cubicBezTo>
                  <a:pt x="1183" y="752"/>
                  <a:pt x="1126" y="905"/>
                  <a:pt x="1091" y="1013"/>
                </a:cubicBezTo>
                <a:cubicBezTo>
                  <a:pt x="1056" y="1121"/>
                  <a:pt x="1059" y="1162"/>
                  <a:pt x="983" y="1256"/>
                </a:cubicBezTo>
                <a:cubicBezTo>
                  <a:pt x="907" y="1350"/>
                  <a:pt x="763" y="1525"/>
                  <a:pt x="632" y="1575"/>
                </a:cubicBezTo>
                <a:cubicBezTo>
                  <a:pt x="501" y="1625"/>
                  <a:pt x="296" y="1566"/>
                  <a:pt x="191" y="1556"/>
                </a:cubicBezTo>
                <a:cubicBezTo>
                  <a:pt x="86" y="1546"/>
                  <a:pt x="40" y="1524"/>
                  <a:pt x="0" y="1515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184640" y="3138480"/>
            <a:ext cx="1301760" cy="484200"/>
          </a:xfrm>
          <a:custGeom>
            <a:avLst/>
            <a:gdLst/>
            <a:ahLst/>
            <a:rect l="l" t="t" r="r" b="b"/>
            <a:pathLst>
              <a:path w="820" h="305">
                <a:moveTo>
                  <a:pt x="0" y="15"/>
                </a:moveTo>
                <a:cubicBezTo>
                  <a:pt x="33" y="12"/>
                  <a:pt x="135" y="0"/>
                  <a:pt x="197" y="5"/>
                </a:cubicBezTo>
                <a:cubicBezTo>
                  <a:pt x="259" y="10"/>
                  <a:pt x="317" y="25"/>
                  <a:pt x="370" y="44"/>
                </a:cubicBezTo>
                <a:cubicBezTo>
                  <a:pt x="423" y="63"/>
                  <a:pt x="472" y="89"/>
                  <a:pt x="520" y="119"/>
                </a:cubicBezTo>
                <a:cubicBezTo>
                  <a:pt x="568" y="149"/>
                  <a:pt x="614" y="189"/>
                  <a:pt x="664" y="221"/>
                </a:cubicBezTo>
                <a:cubicBezTo>
                  <a:pt x="714" y="252"/>
                  <a:pt x="787" y="288"/>
                  <a:pt x="820" y="305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886200" y="3143160"/>
            <a:ext cx="304920" cy="133560"/>
          </a:xfrm>
          <a:custGeom>
            <a:avLst/>
            <a:gdLst/>
            <a:ahLst/>
            <a:rect l="l" t="t" r="r" b="b"/>
            <a:pathLst>
              <a:path w="192" h="84">
                <a:moveTo>
                  <a:pt x="0" y="84"/>
                </a:moveTo>
                <a:cubicBezTo>
                  <a:pt x="10" y="72"/>
                  <a:pt x="34" y="24"/>
                  <a:pt x="59" y="12"/>
                </a:cubicBezTo>
                <a:cubicBezTo>
                  <a:pt x="84" y="0"/>
                  <a:pt x="125" y="8"/>
                  <a:pt x="147" y="12"/>
                </a:cubicBezTo>
                <a:cubicBezTo>
                  <a:pt x="169" y="16"/>
                  <a:pt x="183" y="31"/>
                  <a:pt x="192" y="36"/>
                </a:cubicBezTo>
              </a:path>
            </a:pathLst>
          </a:custGeom>
          <a:noFill/>
          <a:ln w="38160">
            <a:solidFill>
              <a:srgbClr val="cc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rcRect l="0" t="6914" r="0" b="0"/>
          <a:stretch/>
        </p:blipFill>
        <p:spPr>
          <a:xfrm>
            <a:off x="838080" y="838080"/>
            <a:ext cx="7620120" cy="59436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990720" y="0"/>
            <a:ext cx="73152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700 hPa 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Ө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  <a:ea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and S-R Streamlines valid                                 1500 UTC 26 November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114800" y="2948040"/>
            <a:ext cx="1460520" cy="2766960"/>
          </a:xfrm>
          <a:custGeom>
            <a:avLst/>
            <a:gdLst/>
            <a:ahLst/>
            <a:rect l="l" t="t" r="r" b="b"/>
            <a:pathLst>
              <a:path w="920" h="1743">
                <a:moveTo>
                  <a:pt x="0" y="207"/>
                </a:moveTo>
                <a:cubicBezTo>
                  <a:pt x="27" y="184"/>
                  <a:pt x="110" y="100"/>
                  <a:pt x="163" y="71"/>
                </a:cubicBezTo>
                <a:cubicBezTo>
                  <a:pt x="216" y="42"/>
                  <a:pt x="261" y="40"/>
                  <a:pt x="321" y="30"/>
                </a:cubicBezTo>
                <a:cubicBezTo>
                  <a:pt x="381" y="20"/>
                  <a:pt x="456" y="0"/>
                  <a:pt x="522" y="13"/>
                </a:cubicBezTo>
                <a:cubicBezTo>
                  <a:pt x="588" y="26"/>
                  <a:pt x="674" y="59"/>
                  <a:pt x="720" y="111"/>
                </a:cubicBezTo>
                <a:cubicBezTo>
                  <a:pt x="766" y="163"/>
                  <a:pt x="777" y="252"/>
                  <a:pt x="797" y="322"/>
                </a:cubicBezTo>
                <a:cubicBezTo>
                  <a:pt x="817" y="392"/>
                  <a:pt x="828" y="445"/>
                  <a:pt x="839" y="530"/>
                </a:cubicBezTo>
                <a:cubicBezTo>
                  <a:pt x="850" y="615"/>
                  <a:pt x="852" y="709"/>
                  <a:pt x="864" y="831"/>
                </a:cubicBezTo>
                <a:cubicBezTo>
                  <a:pt x="876" y="953"/>
                  <a:pt x="904" y="1135"/>
                  <a:pt x="912" y="1263"/>
                </a:cubicBezTo>
                <a:cubicBezTo>
                  <a:pt x="920" y="1391"/>
                  <a:pt x="912" y="1519"/>
                  <a:pt x="912" y="1599"/>
                </a:cubicBezTo>
                <a:cubicBezTo>
                  <a:pt x="912" y="1679"/>
                  <a:pt x="912" y="1711"/>
                  <a:pt x="912" y="1743"/>
                </a:cubicBezTo>
              </a:path>
            </a:pathLst>
          </a:custGeom>
          <a:noFill/>
          <a:ln w="381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762120" y="1219320"/>
            <a:ext cx="7619760" cy="508608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990720" y="16812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400-500 hPa layer-averaged pseudo-water vapor imagery valid 1500 UTC 26 November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209680" y="3186000"/>
            <a:ext cx="2590920" cy="790560"/>
          </a:xfrm>
          <a:custGeom>
            <a:avLst/>
            <a:gdLst/>
            <a:ahLst/>
            <a:rect l="l" t="t" r="r" b="b"/>
            <a:pathLst>
              <a:path w="1632" h="498">
                <a:moveTo>
                  <a:pt x="0" y="48"/>
                </a:moveTo>
                <a:cubicBezTo>
                  <a:pt x="60" y="100"/>
                  <a:pt x="123" y="146"/>
                  <a:pt x="192" y="192"/>
                </a:cubicBezTo>
                <a:cubicBezTo>
                  <a:pt x="261" y="238"/>
                  <a:pt x="326" y="279"/>
                  <a:pt x="416" y="326"/>
                </a:cubicBezTo>
                <a:cubicBezTo>
                  <a:pt x="506" y="373"/>
                  <a:pt x="618" y="446"/>
                  <a:pt x="730" y="472"/>
                </a:cubicBezTo>
                <a:cubicBezTo>
                  <a:pt x="842" y="498"/>
                  <a:pt x="974" y="497"/>
                  <a:pt x="1087" y="480"/>
                </a:cubicBezTo>
                <a:cubicBezTo>
                  <a:pt x="1200" y="463"/>
                  <a:pt x="1329" y="410"/>
                  <a:pt x="1408" y="370"/>
                </a:cubicBezTo>
                <a:cubicBezTo>
                  <a:pt x="1487" y="330"/>
                  <a:pt x="1530" y="279"/>
                  <a:pt x="1563" y="239"/>
                </a:cubicBezTo>
                <a:cubicBezTo>
                  <a:pt x="1596" y="199"/>
                  <a:pt x="1594" y="169"/>
                  <a:pt x="1605" y="129"/>
                </a:cubicBezTo>
                <a:cubicBezTo>
                  <a:pt x="1616" y="89"/>
                  <a:pt x="1627" y="27"/>
                  <a:pt x="1632" y="0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4800600" y="3047760"/>
            <a:ext cx="0" cy="152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2438280" y="762120"/>
            <a:ext cx="5680080" cy="60195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1219320" y="0"/>
            <a:ext cx="685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700-500 hPa layer-averaged EPV and RH valid 1500 UTC 26 November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52280" y="1219320"/>
            <a:ext cx="198144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Times New Roman"/>
              </a:rPr>
              <a:t>Green shading = RH &gt; 7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Red line =           EPV &lt;=-.25 PV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Blue dashed line= EPV &lt;=.25 PV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676520" y="685800"/>
            <a:ext cx="5897520" cy="61722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1295280" y="76320"/>
            <a:ext cx="685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800-600 hPa layer-averaged frontogenesis valid 1500 UTC 26 November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505320" y="3200400"/>
            <a:ext cx="1981080" cy="685800"/>
          </a:xfrm>
          <a:custGeom>
            <a:avLst/>
            <a:gdLst/>
            <a:ahLst/>
            <a:rect l="l" t="t" r="r" b="b"/>
            <a:pathLst>
              <a:path w="1248" h="432">
                <a:moveTo>
                  <a:pt x="0" y="432"/>
                </a:moveTo>
                <a:cubicBezTo>
                  <a:pt x="17" y="428"/>
                  <a:pt x="64" y="421"/>
                  <a:pt x="104" y="405"/>
                </a:cubicBezTo>
                <a:cubicBezTo>
                  <a:pt x="144" y="389"/>
                  <a:pt x="183" y="376"/>
                  <a:pt x="240" y="336"/>
                </a:cubicBezTo>
                <a:cubicBezTo>
                  <a:pt x="297" y="296"/>
                  <a:pt x="388" y="211"/>
                  <a:pt x="447" y="163"/>
                </a:cubicBezTo>
                <a:cubicBezTo>
                  <a:pt x="506" y="115"/>
                  <a:pt x="557" y="70"/>
                  <a:pt x="597" y="46"/>
                </a:cubicBezTo>
                <a:cubicBezTo>
                  <a:pt x="637" y="22"/>
                  <a:pt x="635" y="28"/>
                  <a:pt x="689" y="21"/>
                </a:cubicBezTo>
                <a:cubicBezTo>
                  <a:pt x="743" y="14"/>
                  <a:pt x="857" y="7"/>
                  <a:pt x="922" y="4"/>
                </a:cubicBezTo>
                <a:cubicBezTo>
                  <a:pt x="987" y="1"/>
                  <a:pt x="1027" y="5"/>
                  <a:pt x="1081" y="4"/>
                </a:cubicBezTo>
                <a:cubicBezTo>
                  <a:pt x="1135" y="3"/>
                  <a:pt x="1213" y="1"/>
                  <a:pt x="1248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>
            <a:lum contrast="12000"/>
          </a:blip>
          <a:srcRect l="11298" t="15874" r="12691" b="18253"/>
          <a:stretch/>
        </p:blipFill>
        <p:spPr>
          <a:xfrm>
            <a:off x="76320" y="304920"/>
            <a:ext cx="5638680" cy="632448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5638680" y="1392120"/>
            <a:ext cx="3353040" cy="35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YSPLIT MM5 model forward 24 h trajectories beginning at 18 UTC 25 November 2001 illustrating air parcels within the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warm conveyor be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cels start at 931 hPa (500 m AG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>
            <a:lum contrast="12000"/>
          </a:blip>
          <a:srcRect l="10295" t="15910" r="11765" b="18182"/>
          <a:stretch/>
        </p:blipFill>
        <p:spPr>
          <a:xfrm>
            <a:off x="152280" y="304920"/>
            <a:ext cx="5500800" cy="601956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5562720" y="1447920"/>
            <a:ext cx="3352680" cy="35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YSPLIT MM5 model forward 24 h trajectories beginning at 18 UTC 25 November 2001 illustrating air parcels within the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warm conveyor be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cels start at 851 hPa (1000 m AG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>
            <a:lum contrast="12000"/>
          </a:blip>
          <a:srcRect l="11919" t="15791" r="13160" b="18420"/>
          <a:stretch/>
        </p:blipFill>
        <p:spPr>
          <a:xfrm>
            <a:off x="304920" y="304920"/>
            <a:ext cx="5297400" cy="60195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5562720" y="1392120"/>
            <a:ext cx="3352680" cy="35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YSPLIT MM5 model forward 24 h trajectories beginning at 18 UTC 25 November 2001 illustrating air parcels within the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cold conveyor be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cels start at 922 hPa (250 m AG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>
            <a:lum contrast="6000"/>
          </a:blip>
          <a:srcRect l="9860" t="16192" r="13738" b="18096"/>
          <a:stretch/>
        </p:blipFill>
        <p:spPr>
          <a:xfrm>
            <a:off x="76320" y="228600"/>
            <a:ext cx="5613120" cy="62485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5638680" y="1219320"/>
            <a:ext cx="3353040" cy="35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YSPLIT MM5 model forward 24 h trajectories beginning at 18 UTC 25 November 2001 illustrating air parcels within the </a:t>
            </a:r>
            <a:r>
              <a:rPr b="1" lang="en-US" sz="2400" spc="-1" strike="noStrike">
                <a:solidFill>
                  <a:srgbClr val="cc9900"/>
                </a:solidFill>
                <a:latin typeface="Times New Roman"/>
              </a:rPr>
              <a:t>dry conveyor bel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cels start at 548-622 hPa (3500 m AG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28600" y="152280"/>
            <a:ext cx="8610480" cy="66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Important Processes for Producing Heavy Sn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s with warm season weather we need to consider three critical factors for the production of heavy precipitat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375"/>
              </a:spcBef>
              <a:buClr>
                <a:srgbClr val="ff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Lif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375"/>
              </a:spcBef>
              <a:buClr>
                <a:srgbClr val="ff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Moistu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375"/>
              </a:spcBef>
              <a:buClr>
                <a:srgbClr val="ff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Instabilit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Winter storms are typically are accompanied by strong dynamics which produce synoptic-scale lift. So, the forecaster must diagnose/forecast if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ift will become focused through frontogenetical forc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oisture will be deep enough to produce ice crystals in a region where the temperature is between -13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to -17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 C (dendrite formation zone) – to increase snow to liquid equivalent rati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stability will be generated to contract and enhance the upward vertical motions (possibly linear bands) on the meso-</a:t>
            </a:r>
            <a:r>
              <a:rPr b="0" lang="en-US" sz="2200" spc="-1" strike="noStrike">
                <a:solidFill>
                  <a:srgbClr val="000000"/>
                </a:solidFill>
                <a:latin typeface="WP Greek Century"/>
                <a:ea typeface="WP Greek Century"/>
              </a:rPr>
              <a:t>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(20-200 km) sca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>
            <a:lum contrast="12000"/>
          </a:blip>
          <a:srcRect l="9467" t="15855" r="13216" b="17072"/>
          <a:stretch/>
        </p:blipFill>
        <p:spPr>
          <a:xfrm>
            <a:off x="0" y="304920"/>
            <a:ext cx="5634000" cy="63244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5562720" y="1392120"/>
            <a:ext cx="3352680" cy="35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YSPLIT MM5 model forward 24 h trajectories beginning at 18 UTC 25 November 2001 illustrating air parcels within the </a:t>
            </a:r>
            <a:r>
              <a:rPr b="1" lang="en-US" sz="2400" spc="-1" strike="noStrike">
                <a:solidFill>
                  <a:srgbClr val="cc9900"/>
                </a:solidFill>
                <a:latin typeface="Times New Roman"/>
              </a:rPr>
              <a:t>dry conveyor bel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cels start at 709-627 hPa (2500 m AG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5715000" y="1219320"/>
            <a:ext cx="3276720" cy="394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YSPLIT MM5 model forward 42 h trajectories beginning at 18 UTC 25 November 2001 illustrating air parcels within the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warm conveyor be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cels start at 931 hPa (250 m AG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>
            <a:lum contrast="12000"/>
          </a:blip>
          <a:srcRect l="10783" t="16667" r="12651" b="19167"/>
          <a:stretch/>
        </p:blipFill>
        <p:spPr>
          <a:xfrm>
            <a:off x="0" y="228600"/>
            <a:ext cx="583236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>
            <a:lum contrast="6000"/>
          </a:blip>
          <a:srcRect l="11931" t="16311" r="12811" b="19151"/>
          <a:stretch/>
        </p:blipFill>
        <p:spPr>
          <a:xfrm>
            <a:off x="152280" y="152280"/>
            <a:ext cx="5767560" cy="64008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5867280" y="1066680"/>
            <a:ext cx="2971800" cy="394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YSPLIT MM5 model forward 24 h trajectories beginning at 18 UTC 25 November 2001 illustrating air parcels within the major conveyor bel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rot="19837800">
            <a:off x="4336920" y="2325240"/>
            <a:ext cx="322560" cy="938160"/>
          </a:xfrm>
          <a:prstGeom prst="ellipse">
            <a:avLst/>
          </a:prstGeom>
          <a:noFill/>
          <a:ln w="381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20069400">
            <a:off x="3673440" y="2211120"/>
            <a:ext cx="988920" cy="376200"/>
          </a:xfrm>
          <a:prstGeom prst="ellipse">
            <a:avLst/>
          </a:prstGeom>
          <a:noFill/>
          <a:ln w="38160">
            <a:solidFill>
              <a:srgbClr val="cc00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 rot="20070000">
            <a:off x="6019560" y="4723200"/>
            <a:ext cx="984240" cy="309600"/>
          </a:xfrm>
          <a:prstGeom prst="ellipse">
            <a:avLst/>
          </a:prstGeom>
          <a:noFill/>
          <a:ln w="38160">
            <a:solidFill>
              <a:srgbClr val="cc00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162920" y="449568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ntogenesis reg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rot="20151600">
            <a:off x="6552720" y="5333760"/>
            <a:ext cx="360360" cy="669960"/>
          </a:xfrm>
          <a:prstGeom prst="ellipse">
            <a:avLst/>
          </a:prstGeom>
          <a:noFill/>
          <a:ln w="381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162920" y="541008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PV &lt;0 reg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>
            <a:lum contrast="12000"/>
          </a:blip>
          <a:srcRect l="0" t="2746" r="0" b="0"/>
          <a:stretch/>
        </p:blipFill>
        <p:spPr>
          <a:xfrm>
            <a:off x="1523880" y="1066680"/>
            <a:ext cx="6400800" cy="53974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533520" y="152280"/>
            <a:ext cx="8076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48-h Snowfall Analysis for the Period Ending                   1200 UTC 10 November 199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191120" y="3048120"/>
            <a:ext cx="609480" cy="152280"/>
          </a:xfrm>
          <a:custGeom>
            <a:avLst/>
            <a:gdLst/>
            <a:ahLst/>
            <a:rect l="l" t="t" r="r" b="b"/>
            <a:pathLst>
              <a:path w="384" h="96">
                <a:moveTo>
                  <a:pt x="0" y="96"/>
                </a:moveTo>
                <a:cubicBezTo>
                  <a:pt x="68" y="76"/>
                  <a:pt x="136" y="56"/>
                  <a:pt x="192" y="48"/>
                </a:cubicBezTo>
                <a:cubicBezTo>
                  <a:pt x="248" y="40"/>
                  <a:pt x="304" y="56"/>
                  <a:pt x="336" y="48"/>
                </a:cubicBezTo>
                <a:cubicBezTo>
                  <a:pt x="368" y="40"/>
                  <a:pt x="376" y="20"/>
                  <a:pt x="384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038480" y="3505320"/>
            <a:ext cx="533520" cy="88920"/>
          </a:xfrm>
          <a:custGeom>
            <a:avLst/>
            <a:gdLst/>
            <a:ahLst/>
            <a:rect l="l" t="t" r="r" b="b"/>
            <a:pathLst>
              <a:path w="336" h="56">
                <a:moveTo>
                  <a:pt x="0" y="0"/>
                </a:moveTo>
                <a:cubicBezTo>
                  <a:pt x="68" y="20"/>
                  <a:pt x="136" y="40"/>
                  <a:pt x="192" y="48"/>
                </a:cubicBezTo>
                <a:cubicBezTo>
                  <a:pt x="248" y="56"/>
                  <a:pt x="292" y="52"/>
                  <a:pt x="336" y="48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124080" y="2133720"/>
            <a:ext cx="609840" cy="228600"/>
          </a:xfrm>
          <a:custGeom>
            <a:avLst/>
            <a:gdLst/>
            <a:ahLst/>
            <a:rect l="l" t="t" r="r" b="b"/>
            <a:pathLst>
              <a:path w="384" h="144">
                <a:moveTo>
                  <a:pt x="0" y="144"/>
                </a:moveTo>
                <a:cubicBezTo>
                  <a:pt x="0" y="144"/>
                  <a:pt x="192" y="72"/>
                  <a:pt x="384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038480" y="2133720"/>
            <a:ext cx="838440" cy="101520"/>
          </a:xfrm>
          <a:custGeom>
            <a:avLst/>
            <a:gdLst/>
            <a:ahLst/>
            <a:rect l="l" t="t" r="r" b="b"/>
            <a:pathLst>
              <a:path w="528" h="64">
                <a:moveTo>
                  <a:pt x="0" y="8"/>
                </a:moveTo>
                <a:cubicBezTo>
                  <a:pt x="4" y="4"/>
                  <a:pt x="8" y="0"/>
                  <a:pt x="48" y="8"/>
                </a:cubicBezTo>
                <a:cubicBezTo>
                  <a:pt x="88" y="16"/>
                  <a:pt x="160" y="48"/>
                  <a:pt x="240" y="56"/>
                </a:cubicBezTo>
                <a:cubicBezTo>
                  <a:pt x="320" y="64"/>
                  <a:pt x="424" y="60"/>
                  <a:pt x="528" y="56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>
            <a:lum contrast="12000"/>
          </a:blip>
          <a:srcRect l="3092" t="2612" r="5154" b="4002"/>
          <a:stretch/>
        </p:blipFill>
        <p:spPr>
          <a:xfrm>
            <a:off x="1143000" y="1219320"/>
            <a:ext cx="6781680" cy="533376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533520" y="152280"/>
            <a:ext cx="8076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42-h Snowfall Analysis for the Period Ending                   0000 UTC 11 November 199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>
            <a:lum contrast="18000"/>
          </a:blip>
          <a:srcRect l="30211" t="0" r="0" b="16852"/>
          <a:stretch/>
        </p:blipFill>
        <p:spPr>
          <a:xfrm>
            <a:off x="1219320" y="685800"/>
            <a:ext cx="6476760" cy="599292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457200" y="2286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Surface Analysis for 1200 UTC 10 November 199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809880" y="3352680"/>
            <a:ext cx="1016280" cy="3200400"/>
          </a:xfrm>
          <a:custGeom>
            <a:avLst/>
            <a:gdLst/>
            <a:ahLst/>
            <a:rect l="l" t="t" r="r" b="b"/>
            <a:pathLst>
              <a:path w="640" h="2016">
                <a:moveTo>
                  <a:pt x="144" y="0"/>
                </a:moveTo>
                <a:cubicBezTo>
                  <a:pt x="228" y="48"/>
                  <a:pt x="316" y="90"/>
                  <a:pt x="384" y="144"/>
                </a:cubicBezTo>
                <a:cubicBezTo>
                  <a:pt x="452" y="198"/>
                  <a:pt x="515" y="262"/>
                  <a:pt x="555" y="326"/>
                </a:cubicBezTo>
                <a:cubicBezTo>
                  <a:pt x="595" y="390"/>
                  <a:pt x="612" y="446"/>
                  <a:pt x="624" y="528"/>
                </a:cubicBezTo>
                <a:cubicBezTo>
                  <a:pt x="636" y="610"/>
                  <a:pt x="640" y="720"/>
                  <a:pt x="624" y="816"/>
                </a:cubicBezTo>
                <a:cubicBezTo>
                  <a:pt x="608" y="912"/>
                  <a:pt x="568" y="1000"/>
                  <a:pt x="528" y="1104"/>
                </a:cubicBezTo>
                <a:cubicBezTo>
                  <a:pt x="488" y="1208"/>
                  <a:pt x="440" y="1328"/>
                  <a:pt x="384" y="1440"/>
                </a:cubicBezTo>
                <a:cubicBezTo>
                  <a:pt x="328" y="1552"/>
                  <a:pt x="256" y="1680"/>
                  <a:pt x="192" y="1776"/>
                </a:cubicBezTo>
                <a:cubicBezTo>
                  <a:pt x="128" y="1872"/>
                  <a:pt x="64" y="1944"/>
                  <a:pt x="0" y="2016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038480" y="3186000"/>
            <a:ext cx="1981440" cy="1614600"/>
          </a:xfrm>
          <a:custGeom>
            <a:avLst/>
            <a:gdLst/>
            <a:ahLst/>
            <a:rect l="l" t="t" r="r" b="b"/>
            <a:pathLst>
              <a:path w="1248" h="1017">
                <a:moveTo>
                  <a:pt x="0" y="57"/>
                </a:moveTo>
                <a:cubicBezTo>
                  <a:pt x="24" y="50"/>
                  <a:pt x="98" y="22"/>
                  <a:pt x="144" y="13"/>
                </a:cubicBezTo>
                <a:cubicBezTo>
                  <a:pt x="190" y="4"/>
                  <a:pt x="230" y="6"/>
                  <a:pt x="278" y="5"/>
                </a:cubicBezTo>
                <a:cubicBezTo>
                  <a:pt x="326" y="4"/>
                  <a:pt x="382" y="0"/>
                  <a:pt x="432" y="9"/>
                </a:cubicBezTo>
                <a:cubicBezTo>
                  <a:pt x="482" y="18"/>
                  <a:pt x="520" y="33"/>
                  <a:pt x="576" y="57"/>
                </a:cubicBezTo>
                <a:cubicBezTo>
                  <a:pt x="632" y="81"/>
                  <a:pt x="711" y="117"/>
                  <a:pt x="768" y="153"/>
                </a:cubicBezTo>
                <a:cubicBezTo>
                  <a:pt x="825" y="189"/>
                  <a:pt x="868" y="229"/>
                  <a:pt x="920" y="272"/>
                </a:cubicBezTo>
                <a:cubicBezTo>
                  <a:pt x="972" y="315"/>
                  <a:pt x="1048" y="354"/>
                  <a:pt x="1079" y="414"/>
                </a:cubicBezTo>
                <a:cubicBezTo>
                  <a:pt x="1110" y="474"/>
                  <a:pt x="1100" y="573"/>
                  <a:pt x="1104" y="633"/>
                </a:cubicBezTo>
                <a:cubicBezTo>
                  <a:pt x="1108" y="693"/>
                  <a:pt x="1097" y="726"/>
                  <a:pt x="1104" y="777"/>
                </a:cubicBezTo>
                <a:cubicBezTo>
                  <a:pt x="1111" y="828"/>
                  <a:pt x="1122" y="900"/>
                  <a:pt x="1146" y="940"/>
                </a:cubicBezTo>
                <a:cubicBezTo>
                  <a:pt x="1170" y="980"/>
                  <a:pt x="1227" y="1001"/>
                  <a:pt x="1248" y="1017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657600" y="3124080"/>
            <a:ext cx="380880" cy="152640"/>
          </a:xfrm>
          <a:custGeom>
            <a:avLst/>
            <a:gdLst/>
            <a:ahLst/>
            <a:rect l="l" t="t" r="r" b="b"/>
            <a:pathLst>
              <a:path w="240" h="96">
                <a:moveTo>
                  <a:pt x="0" y="0"/>
                </a:moveTo>
                <a:cubicBezTo>
                  <a:pt x="17" y="4"/>
                  <a:pt x="76" y="19"/>
                  <a:pt x="100" y="27"/>
                </a:cubicBezTo>
                <a:cubicBezTo>
                  <a:pt x="124" y="35"/>
                  <a:pt x="121" y="37"/>
                  <a:pt x="144" y="48"/>
                </a:cubicBezTo>
                <a:cubicBezTo>
                  <a:pt x="167" y="59"/>
                  <a:pt x="204" y="80"/>
                  <a:pt x="240" y="96"/>
                </a:cubicBezTo>
              </a:path>
            </a:pathLst>
          </a:custGeom>
          <a:noFill/>
          <a:ln w="38160">
            <a:solidFill>
              <a:srgbClr val="cc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066680" y="860400"/>
            <a:ext cx="7010640" cy="58453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990720" y="0"/>
            <a:ext cx="73152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700 hPa 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Ө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  <a:ea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and S-R Streamlines valid                                 0900 UTC 10 November 199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624560" y="2252520"/>
            <a:ext cx="1903320" cy="3792600"/>
          </a:xfrm>
          <a:custGeom>
            <a:avLst/>
            <a:gdLst/>
            <a:ahLst/>
            <a:rect l="l" t="t" r="r" b="b"/>
            <a:pathLst>
              <a:path w="1199" h="2389">
                <a:moveTo>
                  <a:pt x="735" y="2373"/>
                </a:moveTo>
                <a:cubicBezTo>
                  <a:pt x="739" y="2381"/>
                  <a:pt x="743" y="2389"/>
                  <a:pt x="783" y="2325"/>
                </a:cubicBezTo>
                <a:cubicBezTo>
                  <a:pt x="823" y="2261"/>
                  <a:pt x="911" y="2125"/>
                  <a:pt x="975" y="1989"/>
                </a:cubicBezTo>
                <a:cubicBezTo>
                  <a:pt x="1039" y="1853"/>
                  <a:pt x="1135" y="1661"/>
                  <a:pt x="1167" y="1509"/>
                </a:cubicBezTo>
                <a:cubicBezTo>
                  <a:pt x="1199" y="1357"/>
                  <a:pt x="1183" y="1229"/>
                  <a:pt x="1167" y="1077"/>
                </a:cubicBezTo>
                <a:cubicBezTo>
                  <a:pt x="1151" y="925"/>
                  <a:pt x="1127" y="733"/>
                  <a:pt x="1071" y="597"/>
                </a:cubicBezTo>
                <a:cubicBezTo>
                  <a:pt x="1015" y="461"/>
                  <a:pt x="902" y="345"/>
                  <a:pt x="831" y="261"/>
                </a:cubicBezTo>
                <a:cubicBezTo>
                  <a:pt x="760" y="177"/>
                  <a:pt x="715" y="134"/>
                  <a:pt x="643" y="92"/>
                </a:cubicBezTo>
                <a:cubicBezTo>
                  <a:pt x="571" y="50"/>
                  <a:pt x="469" y="16"/>
                  <a:pt x="401" y="8"/>
                </a:cubicBezTo>
                <a:cubicBezTo>
                  <a:pt x="333" y="0"/>
                  <a:pt x="287" y="21"/>
                  <a:pt x="234" y="42"/>
                </a:cubicBezTo>
                <a:cubicBezTo>
                  <a:pt x="181" y="63"/>
                  <a:pt x="123" y="88"/>
                  <a:pt x="84" y="134"/>
                </a:cubicBezTo>
                <a:cubicBezTo>
                  <a:pt x="45" y="180"/>
                  <a:pt x="17" y="279"/>
                  <a:pt x="0" y="317"/>
                </a:cubicBezTo>
              </a:path>
            </a:pathLst>
          </a:custGeom>
          <a:noFill/>
          <a:ln w="5724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08644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990720" y="16812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400-500 hPa layer-averaged pseudo-water vapor imagery valid 0900 UTC 10 November 199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276720" y="2743200"/>
            <a:ext cx="1884240" cy="1349280"/>
          </a:xfrm>
          <a:custGeom>
            <a:avLst/>
            <a:gdLst/>
            <a:ahLst/>
            <a:rect l="l" t="t" r="r" b="b"/>
            <a:pathLst>
              <a:path w="1187" h="850">
                <a:moveTo>
                  <a:pt x="0" y="720"/>
                </a:moveTo>
                <a:cubicBezTo>
                  <a:pt x="60" y="760"/>
                  <a:pt x="120" y="795"/>
                  <a:pt x="192" y="816"/>
                </a:cubicBezTo>
                <a:cubicBezTo>
                  <a:pt x="264" y="837"/>
                  <a:pt x="332" y="850"/>
                  <a:pt x="432" y="843"/>
                </a:cubicBezTo>
                <a:cubicBezTo>
                  <a:pt x="532" y="836"/>
                  <a:pt x="696" y="812"/>
                  <a:pt x="791" y="776"/>
                </a:cubicBezTo>
                <a:cubicBezTo>
                  <a:pt x="886" y="740"/>
                  <a:pt x="946" y="682"/>
                  <a:pt x="1000" y="626"/>
                </a:cubicBezTo>
                <a:cubicBezTo>
                  <a:pt x="1054" y="570"/>
                  <a:pt x="1088" y="505"/>
                  <a:pt x="1117" y="442"/>
                </a:cubicBezTo>
                <a:cubicBezTo>
                  <a:pt x="1146" y="379"/>
                  <a:pt x="1165" y="304"/>
                  <a:pt x="1175" y="250"/>
                </a:cubicBezTo>
                <a:cubicBezTo>
                  <a:pt x="1185" y="196"/>
                  <a:pt x="1187" y="159"/>
                  <a:pt x="1175" y="117"/>
                </a:cubicBezTo>
                <a:cubicBezTo>
                  <a:pt x="1163" y="75"/>
                  <a:pt x="1119" y="24"/>
                  <a:pt x="1104" y="0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4952880" y="2666880"/>
            <a:ext cx="76320" cy="763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209680" y="990720"/>
            <a:ext cx="5459400" cy="579096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1219320" y="0"/>
            <a:ext cx="685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700-500 hPa layer-averaged EPV and RH valid 0900 UTC 10 November 199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2280" y="1219320"/>
            <a:ext cx="198144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Times New Roman"/>
              </a:rPr>
              <a:t>Green shading = RH &gt; 7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Red line =           EPV &lt;=-.25 PV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Blue dashed line= EPV &lt;=.25 PV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981080" y="990720"/>
            <a:ext cx="5381640" cy="562932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1295280" y="76320"/>
            <a:ext cx="685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800-600 hPa layer-averaged frontogenesis valid 0900 UTC 10 November 199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962520" y="2425680"/>
            <a:ext cx="990360" cy="1003320"/>
          </a:xfrm>
          <a:custGeom>
            <a:avLst/>
            <a:gdLst/>
            <a:ahLst/>
            <a:rect l="l" t="t" r="r" b="b"/>
            <a:pathLst>
              <a:path w="624" h="632">
                <a:moveTo>
                  <a:pt x="0" y="632"/>
                </a:moveTo>
                <a:cubicBezTo>
                  <a:pt x="36" y="564"/>
                  <a:pt x="64" y="495"/>
                  <a:pt x="96" y="440"/>
                </a:cubicBezTo>
                <a:cubicBezTo>
                  <a:pt x="128" y="385"/>
                  <a:pt x="152" y="348"/>
                  <a:pt x="192" y="300"/>
                </a:cubicBezTo>
                <a:cubicBezTo>
                  <a:pt x="232" y="252"/>
                  <a:pt x="296" y="193"/>
                  <a:pt x="336" y="152"/>
                </a:cubicBezTo>
                <a:cubicBezTo>
                  <a:pt x="376" y="111"/>
                  <a:pt x="392" y="80"/>
                  <a:pt x="432" y="56"/>
                </a:cubicBezTo>
                <a:cubicBezTo>
                  <a:pt x="472" y="32"/>
                  <a:pt x="544" y="16"/>
                  <a:pt x="576" y="8"/>
                </a:cubicBezTo>
                <a:cubicBezTo>
                  <a:pt x="608" y="0"/>
                  <a:pt x="616" y="4"/>
                  <a:pt x="624" y="8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Physical Processes Critical to the Production of Heavy Banded Snowfa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velopment of the TROWAL airstre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d-level frontogenetical circu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duction of  stability ( decreasing EPV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latively deep-layer moisture to northwest of  the  extratropical cyclone (ET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of these processes/features are related to the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war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ol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dr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onveyor belts – which can only be visualized through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ystem-relative flo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alysis on isentropic (</a:t>
            </a:r>
            <a:r>
              <a:rPr b="0" lang="en-US" sz="2800" spc="-1" strike="noStrike">
                <a:solidFill>
                  <a:srgbClr val="000000"/>
                </a:solidFill>
                <a:latin typeface="WP Greek Century"/>
                <a:ea typeface="WP Greek Century"/>
              </a:rPr>
              <a:t>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lang="en-US" sz="2800" spc="-1" strike="noStrike">
                <a:solidFill>
                  <a:srgbClr val="000000"/>
                </a:solidFill>
                <a:latin typeface="WP Greek Century"/>
                <a:ea typeface="WP Greek Century"/>
              </a:rPr>
              <a:t>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surfaces or atmospheric trajecto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>
            <a:lum contrast="6000"/>
          </a:blip>
          <a:srcRect l="11014" t="17022" r="13253" b="19148"/>
          <a:stretch/>
        </p:blipFill>
        <p:spPr>
          <a:xfrm>
            <a:off x="76320" y="380880"/>
            <a:ext cx="5587920" cy="609624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5638680" y="1219320"/>
            <a:ext cx="3276720" cy="35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YSPLIT MM5 model forward 24 h trajectories beginning at 12 UTC 9 November 1998 illustrating air parcels within the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warm conveyor be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cels start at 953 hPa (250 m AG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486400" y="1468440"/>
            <a:ext cx="3429000" cy="35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YSPLIT MM5 model forward 24 h trajectories beginning  at 12 UTC 9 November 1998 illustrating air parcels within the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warm conveyor be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cels start at 871 hPa (1000 m AG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>
            <a:lum contrast="12000"/>
          </a:blip>
          <a:srcRect l="11255" t="16304" r="11373" b="18478"/>
          <a:stretch/>
        </p:blipFill>
        <p:spPr>
          <a:xfrm>
            <a:off x="228600" y="533520"/>
            <a:ext cx="530856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5562720" y="1468440"/>
            <a:ext cx="3429000" cy="35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YSPLIT MM5 model forward 24 h trajectories beginning  at 12 UTC 9 November 1998 illustrating air parcels within the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cold conveyor be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cels start at 944 hPa (250 m AG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>
            <a:lum contrast="12000"/>
          </a:blip>
          <a:srcRect l="10459" t="16163" r="12419" b="19194"/>
          <a:stretch/>
        </p:blipFill>
        <p:spPr>
          <a:xfrm>
            <a:off x="76320" y="457200"/>
            <a:ext cx="554976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5638680" y="1392120"/>
            <a:ext cx="3276720" cy="35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YSPLIT MM5 model forward 24 h trajectories beginning at 12 UTC 9 November 1998 illustrating air parcels within the </a:t>
            </a:r>
            <a:r>
              <a:rPr b="1" lang="en-US" sz="2400" spc="-1" strike="noStrike">
                <a:solidFill>
                  <a:srgbClr val="cc9900"/>
                </a:solidFill>
                <a:latin typeface="Times New Roman"/>
              </a:rPr>
              <a:t>dry conveyor bel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cels start at 569-515 hPa (4500 m AG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>
            <a:lum contrast="12000"/>
          </a:blip>
          <a:srcRect l="11765" t="16364" r="12941" b="19091"/>
          <a:stretch/>
        </p:blipFill>
        <p:spPr>
          <a:xfrm>
            <a:off x="76320" y="380880"/>
            <a:ext cx="549432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5715000" y="1219320"/>
            <a:ext cx="3200400" cy="35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YSPLIT MM5 model forward 24 h trajectories beginning at 12 UTC 9 November 1998 illustrating air parcels within the </a:t>
            </a:r>
            <a:r>
              <a:rPr b="1" lang="en-US" sz="2400" spc="-1" strike="noStrike">
                <a:solidFill>
                  <a:srgbClr val="cc9900"/>
                </a:solidFill>
                <a:latin typeface="Times New Roman"/>
              </a:rPr>
              <a:t>dry conveyor bel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cels start at 715-654 hPa (2500 m AG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>
            <a:lum contrast="12000"/>
          </a:blip>
          <a:srcRect l="10533" t="16280" r="12728" b="18607"/>
          <a:stretch/>
        </p:blipFill>
        <p:spPr>
          <a:xfrm>
            <a:off x="0" y="228600"/>
            <a:ext cx="582948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>
            <a:lum contrast="12000"/>
          </a:blip>
          <a:srcRect l="10786" t="16667" r="12361" b="18750"/>
          <a:stretch/>
        </p:blipFill>
        <p:spPr>
          <a:xfrm>
            <a:off x="76320" y="228600"/>
            <a:ext cx="5744880" cy="624852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5791320" y="1147680"/>
            <a:ext cx="3200400" cy="32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YSPLIT MM5 model forward 24 h trajectories beginning at 12 UTC 9 November 1998 illustrating air parcels within the major conveyor bel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V="1" rot="20070000">
            <a:off x="6019560" y="4723200"/>
            <a:ext cx="984240" cy="309600"/>
          </a:xfrm>
          <a:prstGeom prst="ellipse">
            <a:avLst/>
          </a:prstGeom>
          <a:noFill/>
          <a:ln w="38160">
            <a:solidFill>
              <a:srgbClr val="cc00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rot="20151600">
            <a:off x="6552720" y="5333760"/>
            <a:ext cx="360360" cy="669960"/>
          </a:xfrm>
          <a:prstGeom prst="ellipse">
            <a:avLst/>
          </a:prstGeom>
          <a:noFill/>
          <a:ln w="381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162920" y="4495680"/>
            <a:ext cx="167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ntogenesis reg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086600" y="548640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PV &lt; 0 reg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9269600">
            <a:off x="3556080" y="2369880"/>
            <a:ext cx="385560" cy="306360"/>
          </a:xfrm>
          <a:prstGeom prst="ellipse">
            <a:avLst/>
          </a:prstGeom>
          <a:noFill/>
          <a:ln w="38160">
            <a:solidFill>
              <a:srgbClr val="cc00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9851000">
            <a:off x="4116240" y="2296800"/>
            <a:ext cx="287640" cy="1073160"/>
          </a:xfrm>
          <a:prstGeom prst="ellipse">
            <a:avLst/>
          </a:prstGeom>
          <a:noFill/>
          <a:ln w="381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80880" y="990720"/>
            <a:ext cx="8534520" cy="59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wer branch of the WCB turn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yclonical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ascends; forms trowal airstream which brings warm, moist air to the NW of the 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pper branch of the WCB tends to tur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ticyclonicall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ascends, joining the wester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pper branch of the DCB turns cyclonically ascending into the ETC circulation – it becomes superimposed over the trowal airstream resulting in an EPV reduction zone NW of trowal ax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CB remains at lower-tropospheric levels as it slowly ascends into the ETC circulation; it doe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t ascend and turn anticyclonical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CB helps to maintain cold temperature profile for snow and interacts with lower branch of WCB to create frontogenetical zone NW of 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685800" y="22860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Conclusions (cont.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33520" y="1066680"/>
            <a:ext cx="8153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57200" y="990720"/>
            <a:ext cx="8305920" cy="48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aviest precipitation falls on the equatorward side of the maximum frontogenesis axis, to the NW of the trowal axis, and on the northern periphery of the minimum EP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us, to forecast these heavy banded snowfall events, it is suggested that forecaste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1.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Recognize the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patter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associated with these ev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2.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Compute the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magnitude and orientatio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of the key ingredients required for the snowfall (e.g., frontogenesis, EPV, etc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3.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Understand the processes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hat are creating the banded snowfa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2971800" y="1066680"/>
            <a:ext cx="5791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gratefully acknowledge the support of this research through the NOAA Collaborative Science, Technology, and Applied Research (CSTAR) program under award NA03-NWS4680019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304920" y="83808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990720" y="441972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powerpoint presentation is available for download a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eas.slu.edu/CIPS/Pres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04920" y="152280"/>
            <a:ext cx="8686800" cy="634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What is a Conveyor Bel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veyor be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an ensemble of air parcels having nearly the same </a:t>
            </a:r>
            <a:r>
              <a:rPr b="0" lang="en-US" sz="2400" spc="-1" strike="noStrike">
                <a:solidFill>
                  <a:srgbClr val="000000"/>
                </a:solidFill>
                <a:latin typeface="WP Greek Century"/>
                <a:ea typeface="WP Greek Century"/>
              </a:rPr>
              <a:t>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or </a:t>
            </a:r>
            <a:r>
              <a:rPr b="0" lang="en-US" sz="2400" spc="-1" strike="noStrike">
                <a:solidFill>
                  <a:srgbClr val="000000"/>
                </a:solidFill>
                <a:latin typeface="WP Greek Century"/>
                <a:ea typeface="WP Greek Century"/>
              </a:rPr>
              <a:t>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comprised of parcels which initiate from a common lo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vels over synoptic-scale time periods (&gt; 24 h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ypically several hundreds of km wide and several km dee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stem-relative wind and trajectory analysis reveal the existence of sharply-defined boundaries, which differentiate air streams of vastly differing moisture contents containing relatively narrow ranges of  </a:t>
            </a:r>
            <a:r>
              <a:rPr b="0" lang="en-US" sz="2400" spc="-1" strike="noStrike">
                <a:solidFill>
                  <a:srgbClr val="000000"/>
                </a:solidFill>
                <a:latin typeface="WP Greek Century"/>
                <a:ea typeface="WP Greek Century"/>
              </a:rPr>
              <a:t>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WP Greek Century"/>
                <a:ea typeface="WP Greek Century"/>
              </a:rPr>
              <a:t>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WP Greek Century"/>
                <a:ea typeface="WP Greek Century"/>
              </a:rPr>
              <a:t>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w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culiar to the air stream’s origi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earchers have identifie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warm conveyor be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cold conveyor be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and the </a:t>
            </a:r>
            <a:r>
              <a:rPr b="1" lang="en-US" sz="2400" spc="-1" strike="noStrike">
                <a:solidFill>
                  <a:srgbClr val="996633"/>
                </a:solidFill>
                <a:latin typeface="Times New Roman"/>
              </a:rPr>
              <a:t>dry conveyor be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990720" y="30492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52280" y="6095880"/>
            <a:ext cx="899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dapted from Dusan Djuric (1994) “Weather Analysis”, Chap.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800600" y="5029200"/>
            <a:ext cx="190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Harrold 1973 (QJRM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705720" y="2041560"/>
            <a:ext cx="182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Carlson 1980 (MWR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4784760"/>
            <a:ext cx="2209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Danielsen 1964 (Proj. Springfield Repor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514600" y="624852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Ng (2005) Doctoral Disser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15228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Revised View of Conveyor Belts Illustrating 3-D De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85640" y="523800"/>
            <a:ext cx="8172720" cy="581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62120" y="76320"/>
            <a:ext cx="80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Winter Storms’ Simulations Using MM5 and HYSPL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28600" y="762120"/>
            <a:ext cx="8686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04920" y="595440"/>
            <a:ext cx="8686800" cy="59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M5 Simulatio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d 3 domains of 90 km, 30 km and 10 km grid spacing with 2-way inter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8 h simulation at 90 km, 42 h simulations at 30 km and 10 km (6 h after star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itialized with Eta 212 grid and updated every 12 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ameterizations: Kain-Fritsch 2 with shallow convection option, Goddard microphysics, MRF PBL, multi-layer soil diffusion, CCM2 radiation sche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0 km grid used for analysis, 10 km grid used for precipitation estim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se 1 initiation time: 1200 UTC 25 November 2001, Case 2 initiation time: 0000 UTC 9 November 199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YSPLIT Trajectories (from AR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 24 h backward trajectories from area of heaviest precipitation at levels from 50 m to 5000 m to find source regions of three major conveyor bel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xt, ran 24 h forward trajectories from 1800 UTC 25 November 2001 for case 1 and 1200 UTC 9 November 1998 for case 2 from three source reg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143000" y="762120"/>
            <a:ext cx="7134120" cy="541944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04920" y="15228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Domains used for MM5 Model for Winter Storm Simu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295280" y="914400"/>
            <a:ext cx="6782040" cy="579744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533520" y="76320"/>
            <a:ext cx="8076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48-h Snowfall Analysis for the Period Ending                   1200 UTC 27 November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840200" y="3276720"/>
            <a:ext cx="646200" cy="685800"/>
          </a:xfrm>
          <a:custGeom>
            <a:avLst/>
            <a:gdLst/>
            <a:ahLst/>
            <a:rect l="l" t="t" r="r" b="b"/>
            <a:pathLst>
              <a:path w="407" h="432">
                <a:moveTo>
                  <a:pt x="0" y="432"/>
                </a:moveTo>
                <a:cubicBezTo>
                  <a:pt x="5" y="416"/>
                  <a:pt x="11" y="368"/>
                  <a:pt x="23" y="336"/>
                </a:cubicBezTo>
                <a:cubicBezTo>
                  <a:pt x="35" y="304"/>
                  <a:pt x="53" y="270"/>
                  <a:pt x="71" y="240"/>
                </a:cubicBezTo>
                <a:cubicBezTo>
                  <a:pt x="89" y="210"/>
                  <a:pt x="107" y="180"/>
                  <a:pt x="131" y="156"/>
                </a:cubicBezTo>
                <a:cubicBezTo>
                  <a:pt x="155" y="132"/>
                  <a:pt x="185" y="114"/>
                  <a:pt x="215" y="96"/>
                </a:cubicBezTo>
                <a:cubicBezTo>
                  <a:pt x="245" y="78"/>
                  <a:pt x="279" y="64"/>
                  <a:pt x="311" y="48"/>
                </a:cubicBezTo>
                <a:cubicBezTo>
                  <a:pt x="343" y="32"/>
                  <a:pt x="391" y="8"/>
                  <a:pt x="407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590920" y="4165560"/>
            <a:ext cx="1143000" cy="863640"/>
          </a:xfrm>
          <a:custGeom>
            <a:avLst/>
            <a:gdLst/>
            <a:ahLst/>
            <a:rect l="l" t="t" r="r" b="b"/>
            <a:pathLst>
              <a:path w="720" h="544">
                <a:moveTo>
                  <a:pt x="0" y="544"/>
                </a:moveTo>
                <a:cubicBezTo>
                  <a:pt x="52" y="508"/>
                  <a:pt x="104" y="472"/>
                  <a:pt x="144" y="448"/>
                </a:cubicBezTo>
                <a:cubicBezTo>
                  <a:pt x="184" y="424"/>
                  <a:pt x="201" y="428"/>
                  <a:pt x="240" y="400"/>
                </a:cubicBezTo>
                <a:cubicBezTo>
                  <a:pt x="279" y="372"/>
                  <a:pt x="332" y="319"/>
                  <a:pt x="380" y="279"/>
                </a:cubicBezTo>
                <a:cubicBezTo>
                  <a:pt x="428" y="239"/>
                  <a:pt x="495" y="188"/>
                  <a:pt x="528" y="160"/>
                </a:cubicBezTo>
                <a:cubicBezTo>
                  <a:pt x="561" y="132"/>
                  <a:pt x="552" y="136"/>
                  <a:pt x="576" y="112"/>
                </a:cubicBezTo>
                <a:cubicBezTo>
                  <a:pt x="600" y="88"/>
                  <a:pt x="648" y="32"/>
                  <a:pt x="672" y="16"/>
                </a:cubicBezTo>
                <a:cubicBezTo>
                  <a:pt x="696" y="0"/>
                  <a:pt x="708" y="8"/>
                  <a:pt x="720" y="16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447920" y="4191120"/>
            <a:ext cx="1143000" cy="253800"/>
          </a:xfrm>
          <a:custGeom>
            <a:avLst/>
            <a:gdLst/>
            <a:ahLst/>
            <a:rect l="l" t="t" r="r" b="b"/>
            <a:pathLst>
              <a:path w="720" h="160">
                <a:moveTo>
                  <a:pt x="0" y="0"/>
                </a:moveTo>
                <a:cubicBezTo>
                  <a:pt x="88" y="12"/>
                  <a:pt x="176" y="24"/>
                  <a:pt x="240" y="48"/>
                </a:cubicBezTo>
                <a:cubicBezTo>
                  <a:pt x="304" y="72"/>
                  <a:pt x="352" y="128"/>
                  <a:pt x="384" y="144"/>
                </a:cubicBezTo>
                <a:cubicBezTo>
                  <a:pt x="416" y="160"/>
                  <a:pt x="408" y="144"/>
                  <a:pt x="432" y="144"/>
                </a:cubicBezTo>
                <a:cubicBezTo>
                  <a:pt x="456" y="144"/>
                  <a:pt x="496" y="152"/>
                  <a:pt x="528" y="144"/>
                </a:cubicBezTo>
                <a:cubicBezTo>
                  <a:pt x="560" y="136"/>
                  <a:pt x="592" y="112"/>
                  <a:pt x="624" y="96"/>
                </a:cubicBezTo>
                <a:cubicBezTo>
                  <a:pt x="656" y="80"/>
                  <a:pt x="688" y="64"/>
                  <a:pt x="720" y="48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2T03:18:54Z</dcterms:created>
  <dc:creator> Jim Moore</dc:creator>
  <dc:description/>
  <dc:language>en-US</dc:language>
  <cp:lastModifiedBy>gg</cp:lastModifiedBy>
  <dcterms:modified xsi:type="dcterms:W3CDTF">2005-08-30T16:06:43Z</dcterms:modified>
  <cp:revision>28</cp:revision>
  <dc:subject/>
  <dc:title>The Role of Conveyor Belts in Organizing Processes Associated with Heavy Banded Snowfall</dc:title>
</cp:coreProperties>
</file>