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A34A-58BE-426C-B945-81E97B89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FA03-80D5-4615-B29C-6EC43587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1E2C-5649-48A9-8FB6-9A8EC053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C06-56CD-45E9-B5F1-BE6CE653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2918-7516-4F78-B7B7-C3D45D08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C3FF-65D0-4ADA-9C83-ABE58E53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3461-03E3-4F30-BE14-36E01D98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5593-1E5E-4A5A-A77D-1445FB27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4BA6-81FC-4B04-986D-4D4D666D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B9CB-D7AD-4AE5-AFAB-4DC1A7D7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003A-BF4C-48CC-B02C-F7FB469A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90F2-0A44-4578-8DA8-6131517C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2A4A-00F8-48E2-89F4-6C22D5C8F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MET’s Influence on Meteorological Education and Research within Universities: The Saint Louis University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67080" y="2362320"/>
            <a:ext cx="47246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T. Moore and Charles E. Gr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int Louis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operative Institute for Precipit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200" y="2209680"/>
            <a:ext cx="3809880" cy="3060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90720" y="609588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5943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62485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95288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5943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ference on Weather Analysis and Forecasting: 1 Aug.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280" y="76320"/>
            <a:ext cx="8763120" cy="69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LU-NWS/AWS COMET Outreach Activities: 1991-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3427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s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udy of the Initiation and Propagation of Mesoscale Precipitation Systems (with FO St. Louis, 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gation and Evolution of MCS Producing Flash Floods (with FO St. Louis, 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g Prediction Using a Simple Numerical Model (with Scott AFB and Offitt AF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ies of Tornadoes Associated with Tropical Cyclones (with S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2286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LU-NWS/AWS COMET Outreach Activities: 1991-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s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520" y="1600200"/>
            <a:ext cx="8809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and Forecasting of Tornadoes Associated with Tropical Cyclones (with SPC, FO Jacksonville, F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MM5 Short-term Integrated Kinematic Fields to Distinguish TC Gabrielle’s Mesocyclones which Produced Tornadoes from Those Which Did Not in Florida (with SPC and FO Jacksonville, F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agnostic and Prognostic Examination of a Major Flash Flood in Eastern Iowa and Northwest Illinois: 3-4 June 2002 (with FO Davenport, 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600" y="152280"/>
            <a:ext cx="861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LU-NWS/AWS COMET Outreach Activities: 1991-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perativ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on Midwestern Severe Convective Storms  (with FO St. Louis, MO and FO Louisville, 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on Severe Mesoscale Convective Systems and Quantitative Precipitation Forecasting across the Middle Mississippi and Ohio River Valleys (with FO St. Louis, MO; FO Louisville, KY; FO Paducah, KY; and FO Slidell, 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629560" cy="5983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0" y="4648320"/>
            <a:ext cx="4419720" cy="20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aded orange: max 925-850 </a:t>
            </a:r>
            <a:r>
              <a:rPr b="1" lang="en-US" sz="18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</a:t>
            </a:r>
            <a:r>
              <a:rPr b="1" lang="en-US" sz="1800" spc="-1" strike="noStrike" baseline="-18000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adv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shed lines = 925 hPa </a:t>
            </a:r>
            <a:r>
              <a:rPr b="1" lang="en-US" sz="18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</a:t>
            </a:r>
            <a:r>
              <a:rPr b="1" lang="en-US" sz="1800" spc="-1" strike="noStrike" baseline="-18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shed-X lines = 925-850 hPa M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een arrow = low-level jet (LL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d X = active MCS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763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arm Season Elevated Thunderstorm Compo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281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876920" y="4343400"/>
            <a:ext cx="4038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lid lines = 500 hPa h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shed lines = 200 hPa isotac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ippled area = surface-500 hPa    mean relative humidity &gt; 70%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een arrow = 700 hPa 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d X = active MCS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763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arm Season Elevated Thunderstorm Compo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866880"/>
            <a:ext cx="8115480" cy="5298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43000" y="62485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ed from a figure by Trier and Parsons, 1993, M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763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arm Season Elevated Thunderstorm Compo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79440" y="868320"/>
            <a:ext cx="6950160" cy="5838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96920" y="46080"/>
            <a:ext cx="76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lass Model for Forecasting Heavy Rainfall Associated with Warm Season MC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31880" y="868320"/>
            <a:ext cx="7682040" cy="5672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14400" y="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id-Altitude Radial Convergence Signature for Strong Straight-Line Wi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4927320" cy="5410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0880" y="22860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osh Scheck’s Doctoral Dissertation on TC Tornadoes:                Baroclinically-Induced Horizontal Vort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65280" y="304920"/>
            <a:ext cx="5865840" cy="6095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31880" y="1417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uoya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1880" y="4525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ertical Velo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 Major Areas of Concen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4600" y="1332000"/>
            <a:ext cx="81532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idence Cla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.g., Hydrometeorology course, MSC winter weather course, COMAP, Faculty courses, COMAP Symposia, WDTB 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ance Learning Edu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aserdiscs, CD-ROMs, web-based learning, multimedia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reach 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artners and Cooperative 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Stud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GARP case studies and now WES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60680" y="168120"/>
            <a:ext cx="4914720" cy="6553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82520" y="2332080"/>
            <a:ext cx="21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M5-Generated Composite Refl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193840" y="1311120"/>
          <a:ext cx="5029200" cy="41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3840" y="1311120"/>
                    <a:ext cx="5029200" cy="41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304920" y="56214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-generated SRH in m2s-2 at the 2-km domain valid at 1100 UTC (RHS). This simulation used routine FNL dat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2520" y="152280"/>
            <a:ext cx="877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rishna Santhanam’s Doctoral Dissertation                        on TC Torna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096240" cy="4952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2280" y="514944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-generated SRH at the 2-km domain valid at 1100 UTC Using ARPS Initialization Data. Higher values are present in the central Florida.  Note the increase in SRH along the east coast of Flor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14400" y="1050840"/>
            <a:ext cx="676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520" y="720720"/>
            <a:ext cx="8778960" cy="60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ss, F. H., 1998: A Climatology of Widespread Heavy Rainfall Events Across Missouri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prints, 19th Conference on Severe Local Storm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neapolis, MN, American Meteorological Society, 540-54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ine, S. R., F. H. Glass, and J. T. Moore, 1998: A Synoptic Climatology of Significant Rainfall Events Over the Mid-Mississippi River Valley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prints, 19th Conference on Severe Local Storm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neapolis, MN, American Meteorological Society, 544-547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re, J.T., S.R. Considine, S.M. Rochette, F.H. Glass, and T.M. Tworek, 1998: A Comparison of Cool Season and Warm Season Heavy Rain Events in the mid-Mississippi River Valley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prints, 16th Conf. on Weather Analysis and Foreca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hoenix, AZ, Amer. Meteor. Soc., 267-26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, P.S., J.T. Moore, S.R. Considine, T. Funk, and S.M. Rochette, 1998: A Synoptic Comparison of Two Heavy Precipitation Events in the Ohio River Valley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prints, 16th Conf. on Weather Analysis and Foreca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hoenix, AZ, Amer. Meteor. Soc., 358-36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re, J.T., S.M. Rochette, F.H. Glass, D.L. Ferry, and P.S. Market, 1996: Elevated Thunderstorms Associated with Heavy Rainfall in the Midwest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prints, 18th Conf. on Severe Local Sto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an Francisco, CA, Amer. Meteor. Soc., 772-77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5040" y="228600"/>
            <a:ext cx="84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nference Preprints from MCS COMET-Related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49360" y="136440"/>
            <a:ext cx="80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nference Preprints from MCS COMET-Related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03280"/>
            <a:ext cx="896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520" y="503280"/>
            <a:ext cx="877896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k, T. and J.T. Moore, 1995: Vertical Motion Forcing Mechanisms Responsible for the Production of a Mesoscale Very Heavy Snow Band across Northern Kentucky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stprints, 4th National Winter Weather Worksh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Kansas City, MO, NOAA Tech. Memo. NWS CR-112, 19:1-1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chette, S.M., J.T. Moore, P.S. Market, F.H. Glass, and D.L. Ferry, 1995: Heavy Rain Events Associated with Elevated Thunderstorms in the Midwest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stprints, 4th National Winter Weather Worksh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Kansas City, MO, NOAA Tech. Memo. NWS CR-112, 25:1-1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ss, F.H., D.L. Ferry, J.T. Moore, and S.M. Nolan, 1995: Characteristics of Heavy Convective Rainfall Events across the Mid-Mississippi Valley during the Warm Season: Meteorological Conditions and a Conceptual Model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prints, 14th Conf. on Weather Analysis and Foreca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allas, TX, Amer. Meteor. Soc., 34-4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re, J.T., S.M. Nolan, F.H. Glass, D.L. Ferry, and S.M. Rochette, 1995: Flash Flood Producing High-Precipitation Supercells in Missouri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prints, 14th Conf. on Weather Analysis and Foreca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allas, TX, Amer. Meteor. Soc., (J4)7-(J4)1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31880" y="228600"/>
            <a:ext cx="80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nference Preprints from MCS COMET-Related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2520" y="819000"/>
            <a:ext cx="877896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re, J.T., C.H. Pappas, and F.H. Glass, 1993: Propagation Characteristics of Mesoscale Convective System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prints, 17th Conf. on Severe Local Sto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t. Louis, MO, Amer. Meteor. Soc., 538-54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re, J.T., and F.H. Glass, 1992: Mesoscale Convective Systems: Initiation and Propagation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prints, 4th Atmospheric Environment Ser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anadian Met. and Ocean Soc. Workshop on Operation Meteorology, Whistler, Canada, 215-22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MET Dissertation Fellow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O’Sullivan, 2001: Improving Operational Forecasts of Mesoscale Convective Systems Using a Mesoscale Model and Selected Doppler Radar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31880" y="136440"/>
            <a:ext cx="804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nference Preprints from Fog and TC                      COMET-Related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040" y="1050840"/>
            <a:ext cx="84139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o, G.V. 1998: Soil Moisture Inclusion in a Simple Numerical Model Meant for Fog Prediction. GCIP Mississippi River Climate Conference.  June 8-12, 1998. St. Louis, MO, Program and Abstracts Volume, 1998, 19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o, G.V., J. Schneider, S. Klaus, and C.E. Graves, 1999: Diagnostic Structures of Tropical Storm 06B Based in Remotely Sensed Data.  Preprint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3rd Conf. on Hurricanes and Tropical Meteorolo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allas, TX, Amer. Meteor. Soc., 10-15 January 1999, 163-16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o, G.V. and W.D. Meyer, 1999: Simulation of the Onset of Radiation Fog Based on the Diurnal Variation of Temperature and Dewpoint Temperature At Brunei. Preprint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rnational Conf. cum Workshop on Air Quality Management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nei Darusslan, Malaysai, Unversiti Brunei Darussalam, 15-19 November 1999, Session 3, Air Quality Modelling I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o, G.V., R. Edwards, and J. Scheck, 2000: Case Studies of Tornadoes Associated with Tropical Cyclones Based on Conventional and WSR-88D Data. Preprint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onf. on Hurricanes and Tropical Meteorolog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t Lauderdale, FL, Amer. Meteor. Soc., 29 May – 2June 2000, 306-3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31880" y="136440"/>
            <a:ext cx="804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nference Preprints from Fog and TC                      COMET-Related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5040" y="1050840"/>
            <a:ext cx="8596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wards, R. G.V. Rao, and J.W. Scheck, 2000: Examination of Tornadic Supercells in Tropical Cyclone Earl (1998) using Conventional and WSR-88D Data Suites. Preprint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0th Conf. on Severe Local Storm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lando, FL, Amer. Meteor. Soc., 11-15 September 2000, P4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31880" y="136440"/>
            <a:ext cx="80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fereed Publications from COMET-Related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1760" y="857160"/>
            <a:ext cx="89614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ves, C. E., R. A. Wolf, J. T. Moore, J. A. Zogg, and B. L. Mickelson, 2005: Analysis of the 3-4 June 2002 Extreme Rainfall Event Over Iowa and Illinois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t. Wea. Dig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n re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re, J. T., F. H. Glass, C. E. Graves, S. M. Rochette, and M. J. Singer, 2003: The Environment of Warm-Season Elevated Thunderstorms Associated with Heavy Rainfall over the Central United State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a. Foreca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861-87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yer, W. D. and G.V. Rao, 1999: Radiation Fog Prediction Using a Simple Numerical Model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ure Appl. Geoph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57-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re, J. T., A. C. Czarnetzki, and P. S. Market, 1998: Heavy Precipitation Associated with Elevated Thunderstorms Formed in a Convectively Unstable Layer Aloft. 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eorological Applications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3-38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, P. S., and J. T. Moore, 1998:  Mesoscale Evolution of a continental  Occluded Cyclone. 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n. Wea. Rev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6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93-181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chette, S.M., and J.T. Moore, 1996: Initiation of an Elevated Mesoscale Convective System Associated with Heavy Rainfall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a. Foreca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443-45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82520" y="136440"/>
            <a:ext cx="877896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MET’s Impact on Graduate Students                               and Research at S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een M.S. degrees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Doctoral degrees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 peer-reviewed articles and numerous conference prepr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with six NWS Forecast Offices, the Storm Prediction Center, the Hydrometeorological Prediction Center, Air Force, and CO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 cases now available for students to learn AWIPS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 for graduate students with NWS for future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s and Cooperative grants used to partially fund students’ stipends, tuition, travel to conferences, paper 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52280"/>
            <a:ext cx="8610480" cy="60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pular COMET Modules Used at SLU for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entropic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nvective Storm Matrix: Buoyancy and Shear Depend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emble Forecasting Expla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t Streak Circu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n Common NWP Misconce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esoscale Models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rted Troughs and Their Associated Precipitation Regi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scale Convective Systems: Squall Lines and Bow Echo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ntitative Precipitation Forecasting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vy Banded Sn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 Fundament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52280" y="76320"/>
            <a:ext cx="8839440" cy="63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ARP Case Studies Used at S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-13 March 1993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m of the 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ay 1999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lahoma City Torna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0" y="581040"/>
            <a:ext cx="3733920" cy="2427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365760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1522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ARP Case Studies Used at S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762120"/>
            <a:ext cx="8077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 October 199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chita,KS Halloween Fl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ay 1996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w Echo over Paducah, 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79800" y="762120"/>
            <a:ext cx="3962520" cy="2863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0" r="16983" b="0"/>
          <a:stretch/>
        </p:blipFill>
        <p:spPr>
          <a:xfrm>
            <a:off x="4876920" y="3886200"/>
            <a:ext cx="358128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152280"/>
            <a:ext cx="853416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ARP Case Studies Used at S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-19 July 1996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cago, IL F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-26 January 200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Coast Cyclo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205160" y="741240"/>
            <a:ext cx="4756320" cy="2687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206960" y="3755880"/>
            <a:ext cx="347328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880" y="83808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-11 November 1998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vy Snow in Sioux Falls, S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Winter Severe 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October 1998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sas City, 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 F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52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ARP Case Studies Used at S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878360" y="685800"/>
            <a:ext cx="3900600" cy="3032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867200" y="4038480"/>
            <a:ext cx="400536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82520" y="71280"/>
            <a:ext cx="87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Way Things Were…..Before and After CO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82520" y="579600"/>
          <a:ext cx="8778960" cy="6033960"/>
        </p:xfrm>
        <a:graphic>
          <a:graphicData uri="http://schemas.openxmlformats.org/drawingml/2006/table">
            <a:tbl>
              <a:tblPr/>
              <a:tblGrid>
                <a:gridCol w="2925720"/>
                <a:gridCol w="2927520"/>
                <a:gridCol w="2925720"/>
              </a:tblGrid>
              <a:tr h="98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e-COM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M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ng with N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ed and infrequ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ve and promoted through gr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Case Stud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dious, time consuming, limited suite of 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RP/WES cases – timely with plethora of data typ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dating NWP In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. Proc. Bull. – Inefficient and Incomple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dated regularly through meted site and easily 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taining Graphical Teaching Ai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tually non-existent (photocopy from texts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ily accessible static/  animated illustrations (multi-media databas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ding Educational Re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consuming, often limited to texts and professor’s expert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ve topics, in-depth coverage via meted.ucar.ed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82520" y="71280"/>
            <a:ext cx="87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Way Things Were…..Before and After CO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14280" y="685800"/>
          <a:ext cx="8596440" cy="6045120"/>
        </p:xfrm>
        <a:graphic>
          <a:graphicData uri="http://schemas.openxmlformats.org/drawingml/2006/table">
            <a:tbl>
              <a:tblPr/>
              <a:tblGrid>
                <a:gridCol w="2865600"/>
                <a:gridCol w="2865240"/>
                <a:gridCol w="286560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e-COM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M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ing Results of Researc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ally through confere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d through webcasts and residence cour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hancing Faculty Knowledge and Pedagog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equent and limited in sco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frequent, focused on various topics (e.g., Instructional Tech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tional Collabora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imi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MO courses, MSC winter weather course,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grading Forecaster Trai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training mostly at the NWS Training Cen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uate-level residence courses and involvement in 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giality between researchers and  foreca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al at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stly enhanced through partnerships and residence cour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49360" y="136440"/>
            <a:ext cx="841212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 Shor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T has revolutioniz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y in which operational research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eteorological knowledge is transfer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tudents and faculty learn new concepts/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y in which collaboration among operational meteorologist, researchers and university professors takes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new data types (e.g., GOES-Next, WSR-88D data, profilers, new mesoscale models) are assimilated by meteorolog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eld of meteorolog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ANY THANKS, COMET, for the last 17 ye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971800" y="106668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gratefully acknowledge the support of this research through the NOAA Collaborative Science, Technology, and Applied Research (CSTAR) program under award NA03-NWS4680019 and the COMET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90720" y="4419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owerpoint presentation is available for download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as.slu.edu/CIPS/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1880" y="635040"/>
            <a:ext cx="7772400" cy="5651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28800" y="62485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rtesy of COM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3840" y="46080"/>
            <a:ext cx="49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et Streak Circulations Web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519120"/>
            <a:ext cx="7772400" cy="5653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81080" y="62485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rtesy of COM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3840" y="46080"/>
            <a:ext cx="49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et Streak Circulations Web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76500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46280" y="190440"/>
            <a:ext cx="60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eavy Banded Snow Web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31880" y="68580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46280" y="190440"/>
            <a:ext cx="60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eavy Banded Snow Web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318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46280" y="190440"/>
            <a:ext cx="60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eavy Banded Snow Web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542880"/>
            <a:ext cx="7848720" cy="5716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46280" y="136440"/>
            <a:ext cx="60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eavy Banded Snow Web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02:32:45Z</dcterms:created>
  <dc:creator>James Moore</dc:creator>
  <dc:description/>
  <dc:language>en-US</dc:language>
  <cp:lastModifiedBy>gg</cp:lastModifiedBy>
  <dcterms:modified xsi:type="dcterms:W3CDTF">2005-07-15T14:18:31Z</dcterms:modified>
  <cp:revision>24</cp:revision>
  <dc:subject/>
  <dc:title>COMET’s Influence on Meteorological Education and Research within Universities: The Saint Louis University Experience</dc:title>
</cp:coreProperties>
</file>