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2.png" ContentType="image/png"/>
  <Override PartName="/ppt/media/image10.png" ContentType="image/png"/>
  <Override PartName="/ppt/media/image47.png" ContentType="image/png"/>
  <Override PartName="/ppt/media/image14.png" ContentType="image/png"/>
  <Override PartName="/ppt/media/image20.png" ContentType="image/png"/>
  <Override PartName="/ppt/media/image57.png" ContentType="image/png"/>
  <Override PartName="/ppt/media/image22.png" ContentType="image/png"/>
  <Override PartName="/ppt/media/image59.png" ContentType="image/png"/>
  <Override PartName="/ppt/media/image58.png" ContentType="image/png"/>
  <Override PartName="/ppt/media/image1.jpeg" ContentType="image/jpeg"/>
  <Override PartName="/ppt/media/image21.png" ContentType="image/png"/>
  <Override PartName="/ppt/media/image23.png" ContentType="image/png"/>
  <Override PartName="/ppt/media/image60.png" ContentType="image/png"/>
  <Override PartName="/ppt/media/image24.png" ContentType="image/png"/>
  <Override PartName="/ppt/media/image61.png" ContentType="image/png"/>
  <Override PartName="/ppt/media/image74.png" ContentType="image/png"/>
  <Override PartName="/ppt/media/image25.png" ContentType="image/png"/>
  <Override PartName="/ppt/media/image62.png" ContentType="image/png"/>
  <Override PartName="/ppt/media/image73.png" ContentType="image/png"/>
  <Override PartName="/ppt/media/image35.png" ContentType="image/png"/>
  <Override PartName="/ppt/media/image17.png" ContentType="image/png"/>
  <Override PartName="/ppt/media/image5.png" ContentType="image/png"/>
  <Override PartName="/ppt/media/image72.png" ContentType="image/png"/>
  <Override PartName="/ppt/media/image71.png" ContentType="image/png"/>
  <Override PartName="/ppt/media/image29.png" ContentType="image/png"/>
  <Override PartName="/ppt/media/image69.png" ContentType="image/png"/>
  <Override PartName="/ppt/media/image70.png" ContentType="image/png"/>
  <Override PartName="/ppt/media/image28.png" ContentType="image/png"/>
  <Override PartName="/ppt/media/image68.png" ContentType="image/png"/>
  <Override PartName="/ppt/media/image2.jpeg" ContentType="image/jpeg"/>
  <Override PartName="/ppt/media/image31.png" ContentType="image/png"/>
  <Override PartName="/ppt/media/image67.png" ContentType="image/png"/>
  <Override PartName="/ppt/media/image30.png" ContentType="image/png"/>
  <Override PartName="/ppt/media/image66.png" ContentType="image/png"/>
  <Override PartName="/ppt/media/image65.png" ContentType="image/png"/>
  <Override PartName="/ppt/media/image64.png" ContentType="image/png"/>
  <Override PartName="/ppt/media/image63.png" ContentType="image/png"/>
  <Override PartName="/ppt/media/image26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6.pn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7.png"/><Relationship Id="rId3" Type="http://schemas.openxmlformats.org/officeDocument/2006/relationships/image" Target="../media/image47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8.png"/><Relationship Id="rId3" Type="http://schemas.openxmlformats.org/officeDocument/2006/relationships/image" Target="../media/image48.png"/><Relationship Id="rId4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9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0.png"/><Relationship Id="rId3" Type="http://schemas.openxmlformats.org/officeDocument/2006/relationships/image" Target="../media/image50.png"/><Relationship Id="rId4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1.png"/><Relationship Id="rId3" Type="http://schemas.openxmlformats.org/officeDocument/2006/relationships/image" Target="../media/image51.png"/><Relationship Id="rId4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2.png"/><Relationship Id="rId3" Type="http://schemas.openxmlformats.org/officeDocument/2006/relationships/image" Target="../media/image52.png"/><Relationship Id="rId4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3.png"/><Relationship Id="rId3" Type="http://schemas.openxmlformats.org/officeDocument/2006/relationships/image" Target="../media/image53.png"/><Relationship Id="rId4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4.png"/><Relationship Id="rId3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5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7.png"/><Relationship Id="rId3" Type="http://schemas.openxmlformats.org/officeDocument/2006/relationships/image" Target="../media/image56.png"/><Relationship Id="rId4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8.png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9.png"/><Relationship Id="rId3" Type="http://schemas.openxmlformats.org/officeDocument/2006/relationships/image" Target="../media/image60.png"/><Relationship Id="rId4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1.png"/><Relationship Id="rId3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2.png"/><Relationship Id="rId3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3.png"/><Relationship Id="rId3" Type="http://schemas.openxmlformats.org/officeDocument/2006/relationships/image" Target="../media/image64.png"/><Relationship Id="rId4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5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6.png"/><Relationship Id="rId3" Type="http://schemas.openxmlformats.org/officeDocument/2006/relationships/image" Target="../media/image67.png"/><Relationship Id="rId4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8.png"/><Relationship Id="rId3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9.png"/><Relationship Id="rId3" Type="http://schemas.openxmlformats.org/officeDocument/2006/relationships/image" Target="../media/image69.png"/><Relationship Id="rId4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0.png"/><Relationship Id="rId3" Type="http://schemas.openxmlformats.org/officeDocument/2006/relationships/image" Target="../media/image71.png"/><Relationship Id="rId4" Type="http://schemas.openxmlformats.org/officeDocument/2006/relationships/image" Target="../media/image72.png"/><Relationship Id="rId5" Type="http://schemas.openxmlformats.org/officeDocument/2006/relationships/image" Target="../media/image73.png"/><Relationship Id="rId6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4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50796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The Role of Warm Sector Convection in Mesoscale Banded Snowfal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"/>
          <p:cNvSpPr/>
          <p:nvPr/>
        </p:nvSpPr>
        <p:spPr>
          <a:xfrm>
            <a:off x="4343400" y="2743200"/>
            <a:ext cx="46483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66"/>
                </a:solidFill>
                <a:latin typeface="Arial"/>
              </a:rPr>
              <a:t>Marty Bax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66"/>
                </a:solidFill>
                <a:latin typeface="Arial"/>
              </a:rPr>
              <a:t>Saint Louis Univers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66"/>
                </a:solidFill>
                <a:latin typeface="Arial"/>
              </a:rPr>
              <a:t>Dept. of Earth and Atmospheric Sci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7badb"/>
                </a:solidFill>
                <a:latin typeface="Arial"/>
              </a:rPr>
              <a:t>PhD Defe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7badb"/>
                </a:solidFill>
                <a:latin typeface="Arial"/>
              </a:rPr>
              <a:t>7-28-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" name="" descr=""/>
          <p:cNvPicPr/>
          <p:nvPr/>
        </p:nvPicPr>
        <p:blipFill>
          <a:blip r:embed="rId2"/>
          <a:stretch/>
        </p:blipFill>
        <p:spPr>
          <a:xfrm>
            <a:off x="304920" y="2590920"/>
            <a:ext cx="38098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Parameterizations 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798480"/>
            <a:ext cx="9144000" cy="605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plicit Moisture – Reisner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vection – Gr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 CPS on Domain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abatic heating was output from both of the above sche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BL – MRF (Hong-Pa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adiation – Dudhia (clou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rface – Five-layer soil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92200" y="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Data 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74240" y="852480"/>
            <a:ext cx="87138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rth American Regional Reana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2 km, 45 layers, 3 hour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ilar in resolution to the 36 km outermost gr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ows the LBC’s to be updated more frequently than with Eta analysis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vailable from NCD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0" y="685440"/>
            <a:ext cx="91440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vestigating 2 cases that featured both warm-sector convection and banded snowf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erifying that the model simulation was faithful to what actually occur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owing that the low-level PV in the warm-sector was diabatically gener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vestigating the flow due to the diabatically produced PV from convection only (on 36 km gri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vestigating the moisture transport using trajectories on the 4 km explicit dom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Four Parts of St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ase One Bas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91440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ng event – 48 hr sim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200 UTC 22 Nov 2003 – 1200 UTC 24 Nov 20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road swath of snowfall in N. Pla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x of 10-12 in, winds as high as 40 k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LCS develops in MO and propagates north and eastw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re weather repor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0 kt wi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 inch ha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inimum pressure at the end of the 48 hr period was 993 m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2"/>
          <a:srcRect l="0" t="12045" r="5329" b="3521"/>
          <a:stretch/>
        </p:blipFill>
        <p:spPr>
          <a:xfrm>
            <a:off x="71280" y="82440"/>
            <a:ext cx="3751560" cy="33498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3605040" y="3278160"/>
            <a:ext cx="5538960" cy="35514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0" y="4275000"/>
            <a:ext cx="30351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 example of the 37 model sigma lev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132440" y="1011240"/>
            <a:ext cx="4308120" cy="16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cation of doma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utput from domain 2 not u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11680" y="0"/>
            <a:ext cx="53323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imulation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539200" y="1068480"/>
            <a:ext cx="0" cy="1604880"/>
          </a:xfrm>
          <a:prstGeom prst="line">
            <a:avLst/>
          </a:prstGeom>
          <a:ln w="38160">
            <a:solidFill>
              <a:srgbClr val="66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3292560" y="4149360"/>
            <a:ext cx="0" cy="1576440"/>
          </a:xfrm>
          <a:prstGeom prst="line">
            <a:avLst/>
          </a:prstGeom>
          <a:ln w="38160">
            <a:solidFill>
              <a:srgbClr val="66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Radar Compari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5311800" y="1106640"/>
            <a:ext cx="3736800" cy="43099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85680" y="712800"/>
            <a:ext cx="5064120" cy="50641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0" y="5813280"/>
            <a:ext cx="9144000" cy="10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Domain 3 (4 km) simulated reflectivity (F0600 – F4800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vs. NOWRAD (2 km resolution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1500" fill="hold"/>
                                        <p:tgtEl>
                                          <p:spTgt spid="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" dur="21500" fill="hold"/>
                                        <p:tgtEl>
                                          <p:spTgt spid="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" restart="whenNotActive" nodeType="interactiveSeq" fill="hold">
                <p:stCondLst>
                  <p:cond evt="onClick">
                    <p:tgtEl>
                      <p:spTgt spid="79"/>
                    </p:tgtEl>
                  </p:cond>
                </p:stCondLst>
                <p:childTnLst>
                  <p:par>
                    <p:cTn id="10" fill="hold">
                      <p:stCondLst>
                        <p:cond evt="onClick">
                          <p:tgtEl>
                            <p:spTgt spid="79"/>
                          </p:tgtEl>
                        </p:cond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3" dur="1" fill="hold"/>
                                        <p:tgtEl>
                                          <p:spTgt spid="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" restart="whenNotActive" nodeType="interactiveSeq" fill="hold">
                <p:stCondLst>
                  <p:cond evt="onClick">
                    <p:tgtEl>
                      <p:spTgt spid="80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ynoptic Analysis (MM5 F1800, 36 k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rcRect l="8819" t="8569" r="20133" b="8569"/>
          <a:stretch/>
        </p:blipFill>
        <p:spPr>
          <a:xfrm>
            <a:off x="717480" y="452520"/>
            <a:ext cx="7653240" cy="63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ynoptic Analysis (RUC F0000, 80 k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rcRect l="8819" t="8926" r="20264" b="8545"/>
          <a:stretch/>
        </p:blipFill>
        <p:spPr>
          <a:xfrm>
            <a:off x="746280" y="476280"/>
            <a:ext cx="7681680" cy="63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Model QPF vs. Observed Q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4140360" y="627120"/>
            <a:ext cx="4960800" cy="434484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0" y="611280"/>
            <a:ext cx="4106880" cy="5418000"/>
            <a:chOff x="0" y="611280"/>
            <a:chExt cx="4106880" cy="5418000"/>
          </a:xfrm>
        </p:grpSpPr>
        <p:pic>
          <p:nvPicPr>
            <p:cNvPr id="89" name="" descr=""/>
            <p:cNvPicPr/>
            <p:nvPr/>
          </p:nvPicPr>
          <p:blipFill>
            <a:blip r:embed="rId3"/>
            <a:srcRect l="20048" t="11581" r="18358" b="7273"/>
            <a:stretch/>
          </p:blipFill>
          <p:spPr>
            <a:xfrm>
              <a:off x="0" y="611280"/>
              <a:ext cx="4106880" cy="541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" name="" descr=""/>
            <p:cNvPicPr/>
            <p:nvPr/>
          </p:nvPicPr>
          <p:blipFill>
            <a:blip r:embed="rId4"/>
            <a:srcRect l="92198" t="13053" r="621" b="8842"/>
            <a:stretch/>
          </p:blipFill>
          <p:spPr>
            <a:xfrm>
              <a:off x="3585960" y="682560"/>
              <a:ext cx="479520" cy="521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1" name=""/>
          <p:cNvSpPr/>
          <p:nvPr/>
        </p:nvSpPr>
        <p:spPr>
          <a:xfrm>
            <a:off x="4108320" y="5197320"/>
            <a:ext cx="5035680" cy="18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Domain 3 (F0600 - F4800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vs. NWS COOP gauge data (F0000 - F4800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801680" y="257040"/>
            <a:ext cx="434196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Backward Traj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rcRect l="5070" t="20019" r="2095" b="15695"/>
          <a:stretch/>
        </p:blipFill>
        <p:spPr>
          <a:xfrm>
            <a:off x="4078440" y="3332160"/>
            <a:ext cx="5022720" cy="348300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rcRect l="4859" t="12865" r="2311" b="8325"/>
          <a:stretch/>
        </p:blipFill>
        <p:spPr>
          <a:xfrm>
            <a:off x="57240" y="88920"/>
            <a:ext cx="4948200" cy="42069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5018040" y="882720"/>
            <a:ext cx="4125960" cy="23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 Domain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3000 – F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ding at 500 m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pproximating the dry conveyor be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4792680"/>
            <a:ext cx="409716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ding at 925 m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pproximating the cold conveyor be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266840" y="6203880"/>
            <a:ext cx="1870200" cy="0"/>
          </a:xfrm>
          <a:prstGeom prst="line">
            <a:avLst/>
          </a:prstGeom>
          <a:ln w="38160">
            <a:solidFill>
              <a:srgbClr val="66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5908680" y="3095640"/>
            <a:ext cx="1687680" cy="0"/>
          </a:xfrm>
          <a:prstGeom prst="line">
            <a:avLst/>
          </a:prstGeom>
          <a:ln w="38160">
            <a:solidFill>
              <a:srgbClr val="66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25560"/>
            <a:ext cx="914400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tatement of th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0" y="663120"/>
            <a:ext cx="9144000" cy="619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recasting the presence, location, intensity, and duration of mesoscale snowbands remains challeng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 ‘typical’ dynamic and thermodynamic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quires the relative roles of physical processes and the synergistic interactions between them be analyz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soscale processes attendant with banded snowfall are largely controlled by the large scale conveyor be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531036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Backward Traj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rcRect l="9071" t="11792" r="6522" b="7063"/>
          <a:stretch/>
        </p:blipFill>
        <p:spPr>
          <a:xfrm>
            <a:off x="39600" y="522360"/>
            <a:ext cx="5148360" cy="49561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rcRect l="1474" t="13269" r="6765" b="5160"/>
          <a:stretch/>
        </p:blipFill>
        <p:spPr>
          <a:xfrm>
            <a:off x="5297400" y="3443400"/>
            <a:ext cx="3776760" cy="33620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4"/>
          <a:srcRect l="1263" t="13269" r="6760" b="5160"/>
          <a:stretch/>
        </p:blipFill>
        <p:spPr>
          <a:xfrm>
            <a:off x="5313240" y="54000"/>
            <a:ext cx="3716640" cy="330048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0" y="5489640"/>
            <a:ext cx="532116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ding at 700 m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pproximating the warm conveyor be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1082520" y="2152440"/>
            <a:ext cx="1308240" cy="298116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53160" y="225360"/>
            <a:ext cx="27892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F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805360" y="3654360"/>
            <a:ext cx="27892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F3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F3000 </a:t>
            </a:r>
            <a:r>
              <a:rPr b="1" lang="el-GR" sz="3200" spc="-1" strike="noStrike">
                <a:solidFill>
                  <a:srgbClr val="ffff00"/>
                </a:solidFill>
                <a:latin typeface="Arial"/>
                <a:ea typeface="Arial"/>
              </a:rPr>
              <a:t>θ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Arial"/>
                <a:ea typeface="Arial"/>
              </a:rPr>
              <a:t>e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at  750, 700, 650, and 600 m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rcRect l="9351" t="8378" r="23160" b="8378"/>
          <a:stretch/>
        </p:blipFill>
        <p:spPr>
          <a:xfrm>
            <a:off x="911160" y="468360"/>
            <a:ext cx="7216920" cy="629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F3000 Moisture and Stability Compos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85680" y="479520"/>
            <a:ext cx="5632560" cy="63356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721480" y="636480"/>
            <a:ext cx="3422520" cy="633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700 – 500 mb averag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RH &gt; 70% shade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EPV contoured (using </a:t>
            </a:r>
            <a:r>
              <a:rPr b="0" lang="el-GR" sz="2700" spc="-1" strike="noStrike">
                <a:solidFill>
                  <a:srgbClr val="ffffff"/>
                </a:solidFill>
                <a:latin typeface="Arial"/>
                <a:ea typeface="Arial"/>
              </a:rPr>
              <a:t>θ</a:t>
            </a:r>
            <a:r>
              <a:rPr b="0" lang="en-US" sz="27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es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2 areas of SEPV &lt; 0 PVU within the dry slot – indicating CSI or CI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urrounding area of SEPV &lt; 0.25 – indicating WS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F3000 Frontogenesis and F-vector Ana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rcRect l="5539" t="28097" r="16715" b="25492"/>
          <a:stretch/>
        </p:blipFill>
        <p:spPr>
          <a:xfrm>
            <a:off x="112680" y="565200"/>
            <a:ext cx="7188120" cy="30337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rcRect l="5657" t="28669" r="17102" b="25492"/>
          <a:stretch/>
        </p:blipFill>
        <p:spPr>
          <a:xfrm>
            <a:off x="98280" y="3746520"/>
            <a:ext cx="7247160" cy="30402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7329600" y="577800"/>
            <a:ext cx="1814400" cy="11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329040" indent="-3290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800-600 Av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a) FG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b) F C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&amp; vecto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29600" y="3754440"/>
            <a:ext cx="1814400" cy="11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3000"/>
          </a:bodyPr>
          <a:p>
            <a:pPr marL="261720" indent="-2617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800-600 Av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1720" indent="-2617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1720" indent="-2617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a) F</a:t>
            </a:r>
            <a:r>
              <a:rPr b="0" lang="en-US" sz="22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C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1720" indent="-2617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&amp; vecto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1720" indent="-2617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b) F</a:t>
            </a:r>
            <a:r>
              <a:rPr b="0" lang="en-US" sz="22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C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1720" indent="-2617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&amp; vecto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1720" indent="-261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1720" indent="-26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F3000 Banded Snow Cross S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397560" y="636480"/>
            <a:ext cx="2746440" cy="633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EPV reduction above FGEN maxim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Two FGEN maxima noted!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5362560"/>
            <a:ext cx="6389640" cy="15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) RH &gt; 70% shaded; SEPV da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GEN dotted; 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  <a:ea typeface="Arial"/>
              </a:rPr>
              <a:t>θ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sol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) Vertical velo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rcRect l="44791" t="28097" r="16715" b="25492"/>
          <a:stretch/>
        </p:blipFill>
        <p:spPr>
          <a:xfrm>
            <a:off x="5541840" y="3753000"/>
            <a:ext cx="3559320" cy="30337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rcRect l="7246" t="10250" r="18557" b="9869"/>
          <a:stretch/>
        </p:blipFill>
        <p:spPr>
          <a:xfrm>
            <a:off x="41400" y="492120"/>
            <a:ext cx="6289560" cy="47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Two Areas of Frontogen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rcRect l="5048" t="13269" r="2122" b="8535"/>
          <a:stretch/>
        </p:blipFill>
        <p:spPr>
          <a:xfrm>
            <a:off x="71280" y="525600"/>
            <a:ext cx="6189840" cy="522108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6397560" y="1073160"/>
            <a:ext cx="2746440" cy="633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PV reduction above FGEN maxi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wo FGEN maxima noted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GEN aloft due to CCB and WCB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GEN below due to surface fro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5770440"/>
            <a:ext cx="9144000" cy="11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3000 – F000 backward trajectories from 750 m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resents transition zone between CCB &amp; WC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2"/>
          <a:srcRect l="0" t="13569" r="0" b="5170"/>
          <a:stretch/>
        </p:blipFill>
        <p:spPr>
          <a:xfrm>
            <a:off x="4324320" y="2684520"/>
            <a:ext cx="4762440" cy="387036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rcRect l="20100" t="11800" r="0" b="7400"/>
          <a:stretch/>
        </p:blipFill>
        <p:spPr>
          <a:xfrm>
            <a:off x="257040" y="507960"/>
            <a:ext cx="3805200" cy="384804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4448160" y="465120"/>
            <a:ext cx="434340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1700, convective initi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PE in OK is surface based, CAPE further North is elev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arlier convection developed further SW closer to sfc based CA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4417920"/>
            <a:ext cx="434340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oss-section along traj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vection fires along and NW of this pa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vated CAPE centered on 900 m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onvective Initiation – Domain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327480" y="4832280"/>
            <a:ext cx="717480" cy="0"/>
          </a:xfrm>
          <a:prstGeom prst="line">
            <a:avLst/>
          </a:prstGeom>
          <a:ln w="38160">
            <a:solidFill>
              <a:srgbClr val="66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6378120" y="2341440"/>
            <a:ext cx="1195560" cy="0"/>
          </a:xfrm>
          <a:prstGeom prst="line">
            <a:avLst/>
          </a:prstGeom>
          <a:ln w="38160">
            <a:solidFill>
              <a:srgbClr val="66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2"/>
          <a:srcRect l="0" t="14234" r="1754" b="0"/>
          <a:stretch/>
        </p:blipFill>
        <p:spPr>
          <a:xfrm>
            <a:off x="128520" y="960480"/>
            <a:ext cx="6310440" cy="550872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539040" y="682560"/>
            <a:ext cx="260496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17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unding at ending point of traj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ows small area of CA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CIN pres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gative 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rong unidirectional sh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igh K index indicates fairly mo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onvective Initiation – Domain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rcRect l="19903" t="11649" r="18694" b="7189"/>
          <a:stretch/>
        </p:blipFill>
        <p:spPr>
          <a:xfrm>
            <a:off x="5076720" y="2171880"/>
            <a:ext cx="3502080" cy="462888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rcRect l="19200" t="11535" r="0" b="6803"/>
          <a:stretch/>
        </p:blipFill>
        <p:spPr>
          <a:xfrm>
            <a:off x="189000" y="496800"/>
            <a:ext cx="4460760" cy="450864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4619520" y="506520"/>
            <a:ext cx="4343400" cy="20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vection develops in the gradient of the 0-6 km sh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ter extends into the region of maximum CA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5232240"/>
            <a:ext cx="501804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rong unidirectional shear favors squall line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rong shear and dry air aloft led to observed wind dam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onvective Initiation – Domain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4656240" y="5133600"/>
            <a:ext cx="0" cy="885960"/>
          </a:xfrm>
          <a:prstGeom prst="line">
            <a:avLst/>
          </a:prstGeom>
          <a:ln w="38160">
            <a:solidFill>
              <a:srgbClr val="66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791560" y="1406520"/>
            <a:ext cx="0" cy="900000"/>
          </a:xfrm>
          <a:prstGeom prst="line">
            <a:avLst/>
          </a:prstGeom>
          <a:ln w="38160">
            <a:solidFill>
              <a:srgbClr val="66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2"/>
          <a:srcRect l="19775" t="11860" r="0" b="6576"/>
          <a:stretch/>
        </p:blipFill>
        <p:spPr>
          <a:xfrm>
            <a:off x="285840" y="461880"/>
            <a:ext cx="4091040" cy="415944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3"/>
          <a:srcRect l="19389" t="12155" r="0" b="6932"/>
          <a:stretch/>
        </p:blipFill>
        <p:spPr>
          <a:xfrm>
            <a:off x="4741920" y="457200"/>
            <a:ext cx="4138560" cy="415440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0" y="4628880"/>
            <a:ext cx="457056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850 mb </a:t>
            </a:r>
            <a:r>
              <a:rPr b="0" lang="el-GR" sz="2800" spc="-1" strike="noStrike">
                <a:solidFill>
                  <a:srgbClr val="ffffff"/>
                </a:solidFill>
                <a:latin typeface="Arial"/>
                <a:ea typeface="Arial"/>
              </a:rPr>
              <a:t>θ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(solid); isotachs (shaded); winds (m/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rong low level jet at 850, strong </a:t>
            </a:r>
            <a:r>
              <a:rPr b="0" lang="el-GR" sz="2800" spc="-1" strike="noStrike">
                <a:solidFill>
                  <a:srgbClr val="ffffff"/>
                </a:solidFill>
                <a:latin typeface="Arial"/>
                <a:ea typeface="Arial"/>
              </a:rPr>
              <a:t>θ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v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onvective Initiation – Domain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710240" y="4653000"/>
            <a:ext cx="4433760" cy="22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rface isobars (solid); winds (m/s); temperatures (shaded;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rong stationary boundary leading to strong mesoscale li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4"/>
          <a:srcRect l="44096" t="94393" r="39264" b="3375"/>
          <a:stretch/>
        </p:blipFill>
        <p:spPr>
          <a:xfrm>
            <a:off x="3222720" y="4451400"/>
            <a:ext cx="1109520" cy="14904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5"/>
          <a:srcRect l="44501" t="95034" r="39668" b="3257"/>
          <a:stretch/>
        </p:blipFill>
        <p:spPr>
          <a:xfrm>
            <a:off x="7721640" y="4467240"/>
            <a:ext cx="1055520" cy="11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Ques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91440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role does convection play in the physical processes that create banded snowfall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es warm-sector convection aid or inhibit the development of banded snowfal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Question not well po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can convection influence the balance of processes that create banded snowfal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Maintenance of Conv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0" y="915480"/>
            <a:ext cx="9144000" cy="63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later times, the convection eliminates the CA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rontal boundary remains strong, providing low-level mesoscale lif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w-level jet and </a:t>
            </a:r>
            <a:r>
              <a:rPr b="0" lang="el-GR" sz="2800" spc="-1" strike="noStrike">
                <a:solidFill>
                  <a:srgbClr val="ffffff"/>
                </a:solidFill>
                <a:latin typeface="Arial"/>
                <a:ea typeface="Arial"/>
              </a:rPr>
              <a:t>θ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vection remain stro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rge scale lifting increases as the 500 mb wave approaches, and the area lies under the right entrance region of a 300 mb jet strea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 the instability decreases, the convection is less robust, yet the presence of large amounts of moisture and strong lifting seem to balance the near neutral stability enviro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PV Frame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>
            <a:lum contrast="18000"/>
          </a:blip>
          <a:stretch/>
        </p:blipFill>
        <p:spPr>
          <a:xfrm>
            <a:off x="152280" y="727200"/>
            <a:ext cx="6019920" cy="35668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6249960" y="1398600"/>
                <a:ext cx="2743200" cy="13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P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g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ζ</m:t>
                                </m:r>
                              </m:e>
                              <m:sub>
                                <m:r>
                                  <m:t xml:space="preserve">θ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f</m:t>
                            </m:r>
                          </m:e>
                        </m:d>
                      </m:num>
                      <m:den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p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θ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5" name=""/>
          <p:cNvSpPr/>
          <p:nvPr/>
        </p:nvSpPr>
        <p:spPr>
          <a:xfrm>
            <a:off x="152280" y="4551480"/>
            <a:ext cx="8991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bbe0e3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V is conserved for 3-D, adiabatic, frictionless fl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be0e3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parcel acquires more cyclonic vorticity as it moves into a region of lower static stability as a result of vortex tube stretc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6535800" y="3298680"/>
                <a:ext cx="2281320" cy="112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ρ</m:t>
                        </m:r>
                      </m:den>
                    </m:f>
                    <m:r>
                      <m:t xml:space="preserve">η</m:t>
                    </m:r>
                    <m:r>
                      <m:t xml:space="preserve">⋅</m:t>
                    </m:r>
                    <m:r>
                      <m:t xml:space="preserve">∇</m:t>
                    </m:r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7" name=""/>
          <p:cNvSpPr/>
          <p:nvPr/>
        </p:nvSpPr>
        <p:spPr>
          <a:xfrm>
            <a:off x="6756480" y="808200"/>
            <a:ext cx="198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ccff"/>
                </a:solidFill>
                <a:latin typeface="Arial"/>
              </a:rPr>
              <a:t>Isentropic PV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953400" y="2828880"/>
            <a:ext cx="15890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ccff"/>
                </a:solidFill>
                <a:latin typeface="Arial"/>
              </a:rPr>
              <a:t>Ertel’s PV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16000" y="-360"/>
            <a:ext cx="8686800" cy="5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PV Framework – Non-conser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28600" y="93024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 PV is created and destroyed only through diabatic processes and the effect of fri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n-conservation of PV is actually due to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gradient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n diabatic heating/cooling (Lackmann 2002, Posselt and Martin 200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V will be created in regions where the diabatic heating increases with heigh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 we can expect to see diabatically generated positive PV anomalies below the mid-trop level where LHR is maximiz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2819520" y="5335560"/>
                <a:ext cx="3504960" cy="105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rPr>
                            <m:lit/>
                            <m:nor/>
                          </m:rPr>
                          <m:t xml:space="preserve">PV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gζ</m:t>
                        </m:r>
                      </m:e>
                      <m:sub>
                        <m:r>
                          <m:t xml:space="preserve">α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∇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dθ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PV Framework – Non-conser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-360" y="94464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V maxima develop upshear from LHR maxima along the absolute vorticity vector (Raymond 199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344520" y="3087720"/>
            <a:ext cx="4114800" cy="2757600"/>
            <a:chOff x="344520" y="3087720"/>
            <a:chExt cx="4114800" cy="2757600"/>
          </a:xfrm>
        </p:grpSpPr>
        <p:grpSp>
          <p:nvGrpSpPr>
            <p:cNvPr id="165" name=""/>
            <p:cNvGrpSpPr/>
            <p:nvPr/>
          </p:nvGrpSpPr>
          <p:grpSpPr>
            <a:xfrm>
              <a:off x="344520" y="3087720"/>
              <a:ext cx="4114800" cy="2757600"/>
              <a:chOff x="344520" y="3087720"/>
              <a:chExt cx="4114800" cy="2757600"/>
            </a:xfrm>
          </p:grpSpPr>
          <p:sp>
            <p:nvSpPr>
              <p:cNvPr id="166" name="Cloud"/>
              <p:cNvSpPr/>
              <p:nvPr/>
            </p:nvSpPr>
            <p:spPr>
              <a:xfrm>
                <a:off x="344520" y="3087720"/>
                <a:ext cx="4114800" cy="2757600"/>
              </a:xfrm>
              <a:prstGeom prst="pie">
                <a:avLst/>
              </a:prstGeom>
              <a:solidFill>
                <a:srgbClr val="ffffff"/>
              </a:solidFill>
              <a:ln w="3168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573120" y="4764240"/>
                <a:ext cx="838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3300"/>
                    </a:solidFill>
                    <a:latin typeface="Times New Roman"/>
                  </a:rPr>
                  <a:t>+PV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3316320" y="3316320"/>
                <a:ext cx="838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3300"/>
                    </a:solidFill>
                    <a:latin typeface="Times New Roman"/>
                  </a:rPr>
                  <a:t>-PV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 flipV="1">
                <a:off x="1335240" y="3773160"/>
                <a:ext cx="2133360" cy="1143000"/>
              </a:xfrm>
              <a:prstGeom prst="line">
                <a:avLst/>
              </a:prstGeom>
              <a:ln w="38160">
                <a:solidFill>
                  <a:srgbClr val="00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1944720" y="3729240"/>
                <a:ext cx="137160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00"/>
                    </a:solidFill>
                    <a:latin typeface="Times New Roman"/>
                  </a:rPr>
                  <a:t>Absolutevorticity vector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1" name=""/>
            <p:cNvGrpSpPr/>
            <p:nvPr/>
          </p:nvGrpSpPr>
          <p:grpSpPr>
            <a:xfrm>
              <a:off x="587520" y="3350880"/>
              <a:ext cx="3276720" cy="2210040"/>
              <a:chOff x="587520" y="3350880"/>
              <a:chExt cx="3276720" cy="2210040"/>
            </a:xfrm>
          </p:grpSpPr>
          <p:sp>
            <p:nvSpPr>
              <p:cNvPr id="172" name=""/>
              <p:cNvSpPr/>
              <p:nvPr/>
            </p:nvSpPr>
            <p:spPr>
              <a:xfrm flipH="1">
                <a:off x="587520" y="5180040"/>
                <a:ext cx="1371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2416320" y="5180040"/>
                <a:ext cx="14479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1425600" y="4494240"/>
                <a:ext cx="0" cy="1066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 flipV="1">
                <a:off x="1425600" y="3350880"/>
                <a:ext cx="0" cy="685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1273320" y="403704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2035440" y="495144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8" name=""/>
          <p:cNvSpPr/>
          <p:nvPr/>
        </p:nvSpPr>
        <p:spPr>
          <a:xfrm>
            <a:off x="228600" y="60199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267080" y="60199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952880" y="3276720"/>
            <a:ext cx="419112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be0e3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be0e3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be0e3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952880" y="335268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876920" y="2819520"/>
            <a:ext cx="4267080" cy="38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ccff"/>
                </a:solidFill>
                <a:latin typeface="Arial"/>
              </a:rPr>
              <a:t>h/d &gt;&gt; f/S: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ransport of PV is horizont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M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ccff"/>
                </a:solidFill>
                <a:latin typeface="Arial"/>
              </a:rPr>
              <a:t>h/d &lt;&lt; f/S:</a:t>
            </a: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ransport of PV is vertic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mall scale t-stor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net PV transport within cloud, it is both created and destroy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PV Budget - F2100 (PV shad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2"/>
          <a:srcRect l="5539" t="16190" r="16967" b="15837"/>
          <a:stretch/>
        </p:blipFill>
        <p:spPr>
          <a:xfrm>
            <a:off x="436680" y="633240"/>
            <a:ext cx="8286480" cy="513900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0" y="5796000"/>
            <a:ext cx="4543560" cy="10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00 mb PV, 650 mb LH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HR in (10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-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K s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-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600440" y="5796000"/>
            <a:ext cx="4543560" cy="10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00 mb PV &amp; non-advective PV tendency (PVU 3 hr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-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PV Budget - F2100 (PV shad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2"/>
          <a:srcRect l="5657" t="16571" r="16967" b="15647"/>
          <a:stretch/>
        </p:blipFill>
        <p:spPr>
          <a:xfrm>
            <a:off x="420840" y="635040"/>
            <a:ext cx="8273880" cy="512424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5796000"/>
            <a:ext cx="4543560" cy="10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00 mb PV &amp; vertical PV tendency (PVU 3 hr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-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600440" y="5796000"/>
            <a:ext cx="4543560" cy="10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00 mb PV &amp; horizontal PV tendency (PVU 3 hr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-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PV Budget - F2100 (PV shad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2901960" y="620640"/>
            <a:ext cx="6053040" cy="537372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0" y="636480"/>
            <a:ext cx="28447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7000"/>
          </a:bodyPr>
          <a:p>
            <a:pPr marL="160920" indent="-1609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tal PV tendency at 700 m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0920" indent="-1609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m of advective and non-advective tenden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0920" indent="-1609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t effect is for PV to advance to the northeast along the LL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0920" indent="-1609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mall downward and eastward propagative effect due to generation ter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0920" indent="-1609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009960" y="6006960"/>
            <a:ext cx="613404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spection at F2400 confirms the validity of the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F0021 Cross-section perpendicular to QL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715000" y="682560"/>
            <a:ext cx="3429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HR (shaded), non-advective PV flux convergence and non-advective PV flux vecto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52520" y="5119560"/>
            <a:ext cx="2855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V (solid), LHR (shaded), Absolute Vorticity Ve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174600" y="4724280"/>
            <a:ext cx="0" cy="1371600"/>
          </a:xfrm>
          <a:prstGeom prst="line">
            <a:avLst/>
          </a:prstGeom>
          <a:ln w="38160">
            <a:solidFill>
              <a:srgbClr val="66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562720" y="1523880"/>
            <a:ext cx="0" cy="990720"/>
          </a:xfrm>
          <a:prstGeom prst="line">
            <a:avLst/>
          </a:prstGeom>
          <a:ln w="38160">
            <a:solidFill>
              <a:srgbClr val="66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3414600" y="2647800"/>
            <a:ext cx="5681880" cy="412920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3"/>
          <a:stretch/>
        </p:blipFill>
        <p:spPr>
          <a:xfrm>
            <a:off x="100080" y="650880"/>
            <a:ext cx="5248080" cy="399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What is Piecewise PV Invers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91440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vides the wind field “induced” by the PV field, give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 appropriate balance cond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n-linear balance equation (Charney 1955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 assumed reference 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time-mean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alistic boundary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Top &amp; bottom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– If selected PV includes lower or upper boundary of simulation, 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  <a:ea typeface="Arial"/>
              </a:rPr>
              <a:t>θ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fields are used, otherwis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vertical derivatives of 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  <a:ea typeface="Arial"/>
              </a:rPr>
              <a:t>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, 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  <a:ea typeface="Arial"/>
              </a:rPr>
              <a:t>Ψ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(Homogeneous Neuman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Later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– Set to the simulated 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  <a:ea typeface="Arial"/>
              </a:rPr>
              <a:t>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, 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  <a:ea typeface="Arial"/>
              </a:rPr>
              <a:t>Ψ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for the full inversion, set to zero for piecewise (Homogeneous Diriche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ing a diagnostic system developed by Davis and Emanuel (199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Details of the Inversion Perform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91440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an state values of PV, </a:t>
            </a:r>
            <a:r>
              <a:rPr b="0" lang="el-GR" sz="3200" spc="-1" strike="noStrike">
                <a:solidFill>
                  <a:srgbClr val="ffffff"/>
                </a:solidFill>
                <a:latin typeface="Arial"/>
                <a:ea typeface="Arial"/>
              </a:rPr>
              <a:t>θ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, </a:t>
            </a:r>
            <a:r>
              <a:rPr b="0" lang="el-GR" sz="3200" spc="-1" strike="noStrike">
                <a:solidFill>
                  <a:srgbClr val="ffffff"/>
                </a:solidFill>
                <a:latin typeface="Arial"/>
                <a:ea typeface="Arial"/>
              </a:rPr>
              <a:t>Φ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, </a:t>
            </a:r>
            <a:r>
              <a:rPr b="0" lang="el-GR" sz="3200" spc="-1" strike="noStrike">
                <a:solidFill>
                  <a:srgbClr val="ffffff"/>
                </a:solidFill>
                <a:latin typeface="Arial"/>
                <a:ea typeface="Arial"/>
              </a:rPr>
              <a:t>Ψ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computed from a 14-day sim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0000 UTC 16 Nov – 0000 UTC 30 N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C’s updated every 12 hr (NARR), output averaged every 12 h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Inversion performed at F27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9 levels used – 1000 to 100 mb (50 mb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Arial"/>
                <a:ea typeface="Arial"/>
              </a:rPr>
              <a:t>θ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at 925 and 125 mb used for upr &amp; lwr BC’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44 x 56 grid, 36 km re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Formulation of balance constraint neglects balanced irrotational part of the wind, as well as any unbalanced mo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0" y="6462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700"/>
              </a:spcBef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ccff"/>
                </a:solidFill>
                <a:latin typeface="Arial"/>
              </a:rPr>
              <a:t>Goodland, KS Dec 1 19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EVER...CONVECTION WITHIN 250 MI OF CWFA MAY ROB US OF NEEDED MOISTURE AND ENERGY FOR SIGNIFICANT PRECIP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700"/>
              </a:spcBef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ccff"/>
                </a:solidFill>
                <a:latin typeface="Arial"/>
              </a:rPr>
              <a:t>Grand Forks, ND Apr 6 2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TH 60KT EASTERLY 850 FLOW DEVELOPING AFTER 09Z WHICH WILL TRANSPORT TREMENDOUS MOISTURE INTO ALL AREAS. DON/T THINK CONVECTION NOW ONGOING WILL ROB TOO MUCH MOISTUR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700"/>
              </a:spcBef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ccff"/>
                </a:solidFill>
                <a:latin typeface="Arial"/>
              </a:rPr>
              <a:t>Detroit, MI Jan 31 20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VECTION OVER TENNESSEE/SOUTHERN OHIO VALLEY WOULD LIKELY ROB US/OR MESS UP THE MOISTURE TRANSPORT FROM THE GULF OF MEXICO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Role of Convection is an Operational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imulated Reflectivity at F27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2"/>
          <a:srcRect l="20263" t="12007" r="0" b="6847"/>
          <a:stretch/>
        </p:blipFill>
        <p:spPr>
          <a:xfrm>
            <a:off x="339840" y="892080"/>
            <a:ext cx="5316480" cy="541836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6033960" y="1311120"/>
            <a:ext cx="284508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9000"/>
          </a:bodyPr>
          <a:p>
            <a:pPr marL="202320" indent="-2023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ia the PV budget, the PV at F2100 has advected northeast and propagated downward, while new PV is being continually generated by gradients in diabatic hea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2320" indent="-2023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PV inversion of the PV due to conv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79280" y="6257520"/>
            <a:ext cx="8964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r F0027, 600 mb (same as radar image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295280" y="574524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stantaneous P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862600" y="574344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an P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2"/>
          <a:srcRect l="5657" t="16756" r="17237" b="15647"/>
          <a:stretch/>
        </p:blipFill>
        <p:spPr>
          <a:xfrm>
            <a:off x="423720" y="574560"/>
            <a:ext cx="8348760" cy="517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PV inversion of the PV due to conv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2"/>
          <a:srcRect l="5539" t="16190" r="17102" b="16190"/>
          <a:stretch/>
        </p:blipFill>
        <p:spPr>
          <a:xfrm>
            <a:off x="492120" y="774720"/>
            <a:ext cx="8272440" cy="511164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1295280" y="608184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turbation P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878360" y="6053040"/>
            <a:ext cx="377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lected Perturbation P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" descr=""/>
          <p:cNvPicPr/>
          <p:nvPr/>
        </p:nvPicPr>
        <p:blipFill>
          <a:blip r:embed="rId2"/>
          <a:srcRect l="5522" t="15456" r="16971" b="11174"/>
          <a:stretch/>
        </p:blipFill>
        <p:spPr>
          <a:xfrm>
            <a:off x="608040" y="593640"/>
            <a:ext cx="7907400" cy="529128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942840" y="5950080"/>
            <a:ext cx="3319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00 mb Induced Heights and Wind (k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483080" y="5985000"/>
            <a:ext cx="4476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ercentage of Balanced Winds (full inversion) due to Selected PV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2" name=""/>
              <p:cNvSpPr txBox="1"/>
              <p:nvPr/>
            </p:nvSpPr>
            <p:spPr>
              <a:xfrm>
                <a:off x="2179800" y="5076720"/>
                <a:ext cx="2369880" cy="74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ψ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y</m:t>
                        </m:r>
                      </m:den>
                    </m:f>
                    <m:acc>
                      <m:accPr>
                        <m:chr m:val="^"/>
                      </m:accPr>
                      <m:e>
                        <m:r>
                          <m:t xml:space="preserve">i</m:t>
                        </m:r>
                      </m:e>
                    </m:acc>
                    <m:r>
                      <m:t xml:space="preserve">+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ψ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</m:den>
                    </m:f>
                    <m:acc>
                      <m:accPr>
                        <m:chr m:val="^"/>
                      </m:accPr>
                      <m:e>
                        <m:r>
                          <m:t xml:space="preserve">j</m:t>
                        </m:r>
                      </m:e>
                    </m:acc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PV inversion of the PV due to conv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PV inversion of the PV due to conv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2"/>
          <a:srcRect l="5657" t="15267" r="18024" b="18606"/>
          <a:stretch/>
        </p:blipFill>
        <p:spPr>
          <a:xfrm>
            <a:off x="276120" y="531720"/>
            <a:ext cx="8667720" cy="531036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590400" y="5950080"/>
            <a:ext cx="36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00 mb Induced Heights and Wind (kts) at F27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890960" y="6068880"/>
            <a:ext cx="44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CEP analysis at F3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PV inversion of the PV due to conv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rcRect l="5670" t="15266" r="16967" b="13775"/>
          <a:stretch/>
        </p:blipFill>
        <p:spPr>
          <a:xfrm>
            <a:off x="466560" y="592200"/>
            <a:ext cx="8272800" cy="536400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195120" y="5950080"/>
            <a:ext cx="4364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900 mb Balanced Moisture Transport Vectors (full inversion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522680" y="5940360"/>
            <a:ext cx="4673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900 mb Balanced Moisture Transport Vectors from Selected PV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4676760" y="650880"/>
                <a:ext cx="1943280" cy="6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q</m:t>
                    </m:r>
                    <m:r>
                      <m:t xml:space="preserve">(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3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PV inversion of the PV due to conv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Traj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91440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roughout the time period, convection builds north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box in southern Wisconsin was selected that contained convection at F2100 for 24 trajecto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00 x 300 km grid 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xt, 8 hour backward trajectories were calculated from this location at 800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ginning at F2100 and going back to F1400, every 15 minutes a new set of back trajectories was calcul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q/dt and d(rh)/dt were investigated along these trajec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a box located in southern Wisconsin, how did the path of the air entering this area change, and how did the moisture along this path chang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5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Trajectory &amp; Moisture Ana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0" y="517680"/>
            <a:ext cx="9144000" cy="63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rom an Eulerian viewpoint, conservation of water vapor is expressed 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rom a Lagrangian viewpoint, conservation of water vapor is expressed 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us, the approach taken represents a combination of both Eulerian and Lagrangian approac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1233360" y="1436760"/>
            <a:ext cx="6324480" cy="1923120"/>
            <a:chOff x="1233360" y="1436760"/>
            <a:chExt cx="6324480" cy="1923120"/>
          </a:xfrm>
        </p:grpSpPr>
        <mc:AlternateContent>
          <mc:Choice xmlns:a14="http://schemas.microsoft.com/office/drawing/2010/main" Requires="a14">
            <p:sp>
              <p:nvSpPr>
                <p:cNvPr id="239" name=""/>
                <p:cNvSpPr txBox="1"/>
                <p:nvPr/>
              </p:nvSpPr>
              <p:spPr>
                <a:xfrm>
                  <a:off x="1949040" y="1436760"/>
                  <a:ext cx="5059440" cy="1509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limLow>
                        <m:e>
                          <m:groupChr>
                            <m:groupChrPr>
                              <m:chr m:val="⏟"/>
                              <m:pos m:val="bot"/>
                              <m:vertJc m:val="top"/>
                            </m:groupChrPr>
                            <m:e>
                              <m:f>
                                <m:num>
                                  <m:r>
                                    <m:t xml:space="preserve">∂</m:t>
                                  </m:r>
                                  <m:r>
                                    <m:t xml:space="preserve">q</m:t>
                                  </m:r>
                                </m:num>
                                <m:den>
                                  <m:r>
                                    <m:t xml:space="preserve">∂</m:t>
                                  </m:r>
                                  <m:r>
                                    <m:t xml:space="preserve">t</m:t>
                                  </m:r>
                                </m:den>
                              </m:f>
                            </m:e>
                          </m:groupChr>
                        </m:e>
                        <m:lim/>
                      </m:limLow>
                      <m:r>
                        <m:t xml:space="preserve">+</m:t>
                      </m:r>
                      <m:limLow>
                        <m:e>
                          <m:groupChr>
                            <m:groupChrPr>
                              <m:chr m:val="⏟"/>
                              <m:pos m:val="bot"/>
                              <m:vertJc m:val="top"/>
                            </m:groupChrPr>
                            <m:e>
                              <m:r>
                                <m:t xml:space="preserve">∇</m:t>
                              </m:r>
                              <m:r>
                                <m:t xml:space="preserve">⋅</m:t>
                              </m:r>
                              <m:r>
                                <m:t xml:space="preserve">q</m:t>
                              </m:r>
                              <m:r>
                                <m:t xml:space="preserve">(</m:t>
                              </m:r>
                              <m:sSub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t xml:space="preserve">h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</m:e>
                          </m:groupChr>
                        </m:e>
                        <m:lim/>
                      </m:limLow>
                      <m:r>
                        <m:t xml:space="preserve">+</m:t>
                      </m:r>
                      <m:limLow>
                        <m:e>
                          <m:groupChr>
                            <m:groupChrPr>
                              <m:chr m:val="⏟"/>
                              <m:pos m:val="bot"/>
                              <m:vertJc m:val="top"/>
                            </m:groupChrPr>
                            <m:e>
                              <m:f>
                                <m:num>
                                  <m:r>
                                    <m:t xml:space="preserve">∂</m:t>
                                  </m:r>
                                </m:num>
                                <m:den>
                                  <m:r>
                                    <m:t xml:space="preserve">∂</m:t>
                                  </m:r>
                                  <m:r>
                                    <m:t xml:space="preserve">p</m:t>
                                  </m:r>
                                </m:den>
                              </m:f>
                              <m:r>
                                <m:t xml:space="preserve">(</m:t>
                              </m:r>
                              <m:r>
                                <m:t xml:space="preserve">qω</m:t>
                              </m:r>
                              <m:r>
                                <m:t xml:space="preserve">)</m:t>
                              </m:r>
                            </m:e>
                          </m:groupChr>
                        </m:e>
                        <m:lim/>
                      </m:limLow>
                      <m:r>
                        <m:t xml:space="preserve">=</m:t>
                      </m:r>
                      <m:limLow>
                        <m:e>
                          <m:groupChr>
                            <m:groupChrPr>
                              <m:chr m:val="⏟"/>
                              <m:pos m:val="bot"/>
                              <m:vertJc m:val="top"/>
                            </m:groupChrPr>
                            <m:e>
                              <m:r>
                                <m:t xml:space="preserve">E</m:t>
                              </m:r>
                              <m:r>
                                <m:t xml:space="preserve">−</m:t>
                              </m:r>
                              <m:r>
                                <m:t xml:space="preserve">C</m:t>
                              </m:r>
                            </m:e>
                          </m:groupChr>
                        </m:e>
                        <m:lim/>
                      </m:limLow>
                    </m:oMath>
                  </a14:m>
                </a:p>
              </p:txBody>
            </p:sp>
          </mc:Choice>
          <mc:Fallback/>
        </mc:AlternateContent>
        <p:sp>
          <p:nvSpPr>
            <p:cNvPr id="240" name=""/>
            <p:cNvSpPr/>
            <p:nvPr/>
          </p:nvSpPr>
          <p:spPr>
            <a:xfrm>
              <a:off x="1233360" y="2639880"/>
              <a:ext cx="1828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00"/>
                  </a:solidFill>
                  <a:latin typeface="Arial"/>
                </a:rPr>
                <a:t>local rate of change of </a:t>
              </a:r>
              <a:r>
                <a:rPr b="0" i="1" lang="en-US" sz="2000" spc="-1" strike="noStrike">
                  <a:solidFill>
                    <a:srgbClr val="00ff00"/>
                  </a:solidFill>
                  <a:latin typeface="Arial"/>
                </a:rPr>
                <a:t>q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757240" y="2656080"/>
              <a:ext cx="16765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00"/>
                  </a:solidFill>
                  <a:latin typeface="Arial"/>
                </a:rPr>
                <a:t>(-) horizontal   MF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357440" y="2656080"/>
              <a:ext cx="16002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00"/>
                  </a:solidFill>
                  <a:latin typeface="Arial"/>
                </a:rPr>
                <a:t>(-) vertical   MF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957640" y="2639880"/>
              <a:ext cx="16002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00"/>
                  </a:solidFill>
                  <a:latin typeface="Arial"/>
                </a:rPr>
                <a:t>sources &amp; sink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3298680" y="4226040"/>
                <a:ext cx="2195640" cy="119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E</m:t>
                    </m:r>
                    <m:r>
                      <m:t xml:space="preserve">−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Backward Trajectories – Domain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2"/>
          <a:srcRect l="22153" t="17934" r="25682" b="43810"/>
          <a:stretch/>
        </p:blipFill>
        <p:spPr>
          <a:xfrm>
            <a:off x="112680" y="660240"/>
            <a:ext cx="4444920" cy="461196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3"/>
          <a:srcRect l="22325" t="55510" r="25849" b="6309"/>
          <a:stretch/>
        </p:blipFill>
        <p:spPr>
          <a:xfrm>
            <a:off x="4659480" y="654120"/>
            <a:ext cx="4417920" cy="460368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0" y="5402160"/>
            <a:ext cx="4559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1400-F0600, ending 800 m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flectivity at F14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584600" y="5397480"/>
            <a:ext cx="4559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2100-F1300, ending 800 m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flectivity at F2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" descr=""/>
          <p:cNvPicPr/>
          <p:nvPr/>
        </p:nvPicPr>
        <p:blipFill>
          <a:blip r:embed="rId2"/>
          <a:srcRect l="13210" t="17119" r="13586" b="44063"/>
          <a:stretch/>
        </p:blipFill>
        <p:spPr>
          <a:xfrm>
            <a:off x="0" y="0"/>
            <a:ext cx="4662360" cy="34974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3"/>
          <a:srcRect l="13210" t="55523" r="13944" b="6710"/>
          <a:stretch/>
        </p:blipFill>
        <p:spPr>
          <a:xfrm>
            <a:off x="4397400" y="3376440"/>
            <a:ext cx="4746600" cy="348156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/>
          <p:nvPr/>
        </p:nvSpPr>
        <p:spPr>
          <a:xfrm>
            <a:off x="4772160" y="47520"/>
            <a:ext cx="434340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q/dt as a function of trajectory ending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q/dt &gt; 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et condensation along trajectory pa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q/dt &lt;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et evaporation along trajectory pa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0" y="3505320"/>
            <a:ext cx="434340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(rh)/dt as a function of trajectory ending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(rh)/dt &gt; 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et gain in rh along trajectory pa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(rh)/dt &lt;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et loss in rh along trajectory pa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039760" y="6456240"/>
            <a:ext cx="1392480" cy="0"/>
          </a:xfrm>
          <a:prstGeom prst="line">
            <a:avLst/>
          </a:prstGeom>
          <a:ln w="38160">
            <a:solidFill>
              <a:srgbClr val="66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flipH="1">
            <a:off x="5430600" y="3165480"/>
            <a:ext cx="1307880" cy="0"/>
          </a:xfrm>
          <a:prstGeom prst="line">
            <a:avLst/>
          </a:prstGeom>
          <a:ln w="38160">
            <a:solidFill>
              <a:srgbClr val="66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Relevant Previous Stud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0" y="798480"/>
            <a:ext cx="9144000" cy="605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V analysis is based upon two previous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ckmann (2002) inverted warm-sector PV and determined it was responsible for strengthening the LLJ and northward moisture trans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rennan and Lackmann (2005) analyzed the January 2000 (no-surprise) storm, and discovered that diabatically generated PV from antecedent elevated convection enhanced moisture transport to the snow to the nor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ecdotally, Lackmann notes that moisture transport may be re-directed in systems that feature strong cyclogenesis / rapid moving cold fro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2"/>
          <a:srcRect l="10981" t="55957" r="18058" b="6191"/>
          <a:stretch/>
        </p:blipFill>
        <p:spPr>
          <a:xfrm>
            <a:off x="4289400" y="3197160"/>
            <a:ext cx="4897440" cy="369576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3"/>
          <a:srcRect l="10796" t="17934" r="18415" b="43945"/>
          <a:stretch/>
        </p:blipFill>
        <p:spPr>
          <a:xfrm>
            <a:off x="0" y="0"/>
            <a:ext cx="4873680" cy="371304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4800600" y="347760"/>
            <a:ext cx="434340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ter vapor as a function of trajectory ending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ginning and final values of q along the trajectory are plot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alysis on following 2 sli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47600" y="4267080"/>
            <a:ext cx="434340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H as a function of trajectory ending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ginning and final values of RH along the trajectory are plot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949400" y="5922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Fir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971720" y="17874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La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626080" y="483876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Fir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921200" y="38196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La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5410080" y="220680"/>
            <a:ext cx="1447920" cy="0"/>
          </a:xfrm>
          <a:prstGeom prst="line">
            <a:avLst/>
          </a:prstGeom>
          <a:ln w="38160">
            <a:solidFill>
              <a:srgbClr val="66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676520" y="3962520"/>
            <a:ext cx="1371600" cy="0"/>
          </a:xfrm>
          <a:prstGeom prst="line">
            <a:avLst/>
          </a:prstGeom>
          <a:ln w="38160">
            <a:solidFill>
              <a:srgbClr val="66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781280" y="609480"/>
            <a:ext cx="0" cy="1524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805120" y="620640"/>
            <a:ext cx="0" cy="1524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871800" y="1336680"/>
            <a:ext cx="0" cy="1523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28560" y="95868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p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763720" y="240516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p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763640" y="216360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p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929040" y="24433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p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Analysis of Trajectory #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0" y="533520"/>
            <a:ext cx="914400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oth upstream and downstream environments increase in q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tal saturation along the trajec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pstream air dries, downstream air remains satur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pstream air saturates once again, downstream air remains satur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 is variability among the 24 trajectories, but all show the same basic signal – after the initial saturation of the downstream air, this air is insensitive to changes in q of the upstream a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Analysis of Trajectory #9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0" y="447840"/>
            <a:ext cx="9144000" cy="65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analysis shows that the convection did not “steal” the moisture from the downstream air between the snowfall and initial conv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is largely due to the difference in temperature between the upstream and downstream a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ter vapor does decrease along the trajectory, but the cooler air downstream is easier to saturate, therefore any loss of q due to condensation along the trajectory is not significant enough to “desaturate” the downstream a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e could be a reduction of “excess” q downstream, meaning that less condensate forms in this saturated region, but this does not appear to occur in this case – as precipitation eventually develops in this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vection of condensate occurs into the already saturated a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Average of All 24 Traj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2"/>
          <a:srcRect l="11362" t="17934" r="18229" b="43945"/>
          <a:stretch/>
        </p:blipFill>
        <p:spPr>
          <a:xfrm>
            <a:off x="0" y="549360"/>
            <a:ext cx="4660920" cy="357012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"/>
          <p:cNvPicPr/>
          <p:nvPr/>
        </p:nvPicPr>
        <p:blipFill>
          <a:blip r:embed="rId3"/>
          <a:srcRect l="10981" t="55644" r="18229" b="6174"/>
          <a:stretch/>
        </p:blipFill>
        <p:spPr>
          <a:xfrm>
            <a:off x="4664160" y="3440160"/>
            <a:ext cx="4479840" cy="34178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>
            <a:off x="4800600" y="585720"/>
            <a:ext cx="4343400" cy="28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ter vapor as a function of trajectory ending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ginning and final values of q along the trajectory are plot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0" y="4154400"/>
            <a:ext cx="4651200" cy="270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H as a function of trajectory ending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ginning and final values of RH along the trajectory are plot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181240" y="6386400"/>
            <a:ext cx="1420920" cy="0"/>
          </a:xfrm>
          <a:prstGeom prst="line">
            <a:avLst/>
          </a:prstGeom>
          <a:ln w="38160">
            <a:solidFill>
              <a:srgbClr val="66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flipH="1">
            <a:off x="5388120" y="2997360"/>
            <a:ext cx="1279440" cy="0"/>
          </a:xfrm>
          <a:prstGeom prst="line">
            <a:avLst/>
          </a:prstGeom>
          <a:ln w="38160">
            <a:solidFill>
              <a:srgbClr val="66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092240" y="13096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Fir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056280" y="509256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Fir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2230560" y="216684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La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5213520" y="39258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La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Forward Trajectories – Domain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2"/>
          <a:srcRect l="29401" t="19597" r="19344" b="44198"/>
          <a:stretch/>
        </p:blipFill>
        <p:spPr>
          <a:xfrm>
            <a:off x="142920" y="628560"/>
            <a:ext cx="4338720" cy="4335480"/>
          </a:xfrm>
          <a:prstGeom prst="rect">
            <a:avLst/>
          </a:prstGeom>
          <a:ln w="0">
            <a:noFill/>
          </a:ln>
        </p:spPr>
      </p:pic>
      <p:pic>
        <p:nvPicPr>
          <p:cNvPr id="290" name="" descr=""/>
          <p:cNvPicPr/>
          <p:nvPr/>
        </p:nvPicPr>
        <p:blipFill>
          <a:blip r:embed="rId3"/>
          <a:srcRect l="29778" t="55658" r="19344" b="8151"/>
          <a:stretch/>
        </p:blipFill>
        <p:spPr>
          <a:xfrm>
            <a:off x="4689360" y="639720"/>
            <a:ext cx="4280040" cy="430704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/>
          <p:nvPr/>
        </p:nvSpPr>
        <p:spPr>
          <a:xfrm>
            <a:off x="0" y="5402160"/>
            <a:ext cx="4559400" cy="9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7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F1400-F2200, beginning 925 mb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437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Reflectivity at F2200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541760" y="5383080"/>
            <a:ext cx="4602240" cy="9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7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F2100-F2900, beginning 925 mb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437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Reflectivity at F2900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" descr=""/>
          <p:cNvPicPr/>
          <p:nvPr/>
        </p:nvPicPr>
        <p:blipFill>
          <a:blip r:embed="rId2"/>
          <a:srcRect l="11720" t="17934" r="17682" b="43810"/>
          <a:stretch/>
        </p:blipFill>
        <p:spPr>
          <a:xfrm>
            <a:off x="0" y="0"/>
            <a:ext cx="4759200" cy="364824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3"/>
          <a:srcRect l="11529" t="55823" r="18039" b="6174"/>
          <a:stretch/>
        </p:blipFill>
        <p:spPr>
          <a:xfrm>
            <a:off x="4467240" y="3287880"/>
            <a:ext cx="4676760" cy="357012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4800600" y="585720"/>
            <a:ext cx="4343400" cy="28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ter vapor as a function of trajectory ending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ginning and final values of q along the trajectory are plot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0" y="4154400"/>
            <a:ext cx="4651200" cy="270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H as a function of trajectory ending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ginning and final values of RH along the trajectory are plot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H="1">
            <a:off x="5388120" y="2997360"/>
            <a:ext cx="1279440" cy="0"/>
          </a:xfrm>
          <a:prstGeom prst="line">
            <a:avLst/>
          </a:prstGeom>
          <a:ln w="38160">
            <a:solidFill>
              <a:srgbClr val="66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181240" y="6386400"/>
            <a:ext cx="1420920" cy="0"/>
          </a:xfrm>
          <a:prstGeom prst="line">
            <a:avLst/>
          </a:prstGeom>
          <a:ln w="38160">
            <a:solidFill>
              <a:srgbClr val="66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938160" y="80316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Fir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260360" y="146376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La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5776920" y="43894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Fir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5100480" y="333360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La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Forward Trajectories – Domain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2"/>
          <a:srcRect l="24739" t="17934" r="18420" b="43541"/>
          <a:stretch/>
        </p:blipFill>
        <p:spPr>
          <a:xfrm>
            <a:off x="71280" y="703440"/>
            <a:ext cx="4297680" cy="411948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"/>
          <p:cNvPicPr/>
          <p:nvPr/>
        </p:nvPicPr>
        <p:blipFill>
          <a:blip r:embed="rId3"/>
          <a:srcRect l="23644" t="56610" r="18229" b="6174"/>
          <a:stretch/>
        </p:blipFill>
        <p:spPr>
          <a:xfrm>
            <a:off x="4567320" y="738360"/>
            <a:ext cx="4533840" cy="4106520"/>
          </a:xfrm>
          <a:prstGeom prst="rect">
            <a:avLst/>
          </a:prstGeom>
          <a:ln w="0">
            <a:noFill/>
          </a:ln>
        </p:spPr>
      </p:pic>
      <p:sp>
        <p:nvSpPr>
          <p:cNvPr id="306" name=""/>
          <p:cNvSpPr/>
          <p:nvPr/>
        </p:nvSpPr>
        <p:spPr>
          <a:xfrm>
            <a:off x="0" y="5402160"/>
            <a:ext cx="4559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2200-F3600, ending 800 m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flectivity at F28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908600" y="5356080"/>
            <a:ext cx="4559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 (shaded); 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  <a:ea typeface="Arial"/>
              </a:rPr>
              <a:t>θ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(solid); total precipitation mixing ratio (dashed); at F28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Forward Trajectories – Domain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2"/>
          <a:srcRect l="24001" t="17934" r="19910" b="43544"/>
          <a:stretch/>
        </p:blipFill>
        <p:spPr>
          <a:xfrm>
            <a:off x="171360" y="684360"/>
            <a:ext cx="4240440" cy="411948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3"/>
          <a:srcRect l="22701" t="56964" r="19720" b="6191"/>
          <a:stretch/>
        </p:blipFill>
        <p:spPr>
          <a:xfrm>
            <a:off x="4537080" y="684360"/>
            <a:ext cx="4535640" cy="410508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0" y="5402160"/>
            <a:ext cx="4559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2200-F3600, ending 800 m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flectivity at F36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4908600" y="5356080"/>
            <a:ext cx="4559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 (shaded); 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  <a:ea typeface="Arial"/>
              </a:rPr>
              <a:t>θ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(solid); total precipitation mixing ratio (dashed); at F36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Backward Trajectories – Domain 1, F3000 – F12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2"/>
          <a:srcRect l="4095" t="9470" r="2605" b="24466"/>
          <a:stretch/>
        </p:blipFill>
        <p:spPr>
          <a:xfrm>
            <a:off x="1336680" y="525600"/>
            <a:ext cx="6292800" cy="630396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0" y="76500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12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7775640" y="77616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18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0" y="397044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24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7775640" y="399888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3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Backward Trajectories – Domain 1, F3900 – F2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2"/>
          <a:srcRect l="5210" t="8686" r="1300" b="26708"/>
          <a:stretch/>
        </p:blipFill>
        <p:spPr>
          <a:xfrm>
            <a:off x="1284120" y="515880"/>
            <a:ext cx="6427800" cy="628344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/>
          <p:nvPr/>
        </p:nvSpPr>
        <p:spPr>
          <a:xfrm>
            <a:off x="0" y="76500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2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7775640" y="80496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27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0" y="387360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33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7775640" y="394344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39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5560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onceptual Model of Banded Snowfall – </a:t>
            </a:r>
            <a:br>
              <a:rPr sz="3200"/>
            </a:br>
            <a:r>
              <a:rPr b="0" i="1" lang="en-US" sz="3200" spc="-1" strike="noStrike">
                <a:solidFill>
                  <a:srgbClr val="ffff00"/>
                </a:solidFill>
                <a:latin typeface="Arial"/>
              </a:rPr>
              <a:t>Plan 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192240" y="1592280"/>
            <a:ext cx="4952880" cy="48528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562360" y="1479600"/>
            <a:ext cx="3276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-5 Dec 1999 case, Moore et al. (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cesses that act in strong cases also act in wea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CB appears to play an insignificant role in central 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Backward Trajectories – Domain 1, F3000 – F48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2"/>
          <a:srcRect l="3719" t="8551" r="2981" b="26708"/>
          <a:stretch/>
        </p:blipFill>
        <p:spPr>
          <a:xfrm>
            <a:off x="1279440" y="477720"/>
            <a:ext cx="6443640" cy="632304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/>
          <p:nvPr/>
        </p:nvSpPr>
        <p:spPr>
          <a:xfrm>
            <a:off x="0" y="76500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2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7775640" y="81900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2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0" y="395748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2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7775640" y="398448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2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Forward Traj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2"/>
          <a:srcRect l="12663" t="26573" r="12834" b="15126"/>
          <a:stretch/>
        </p:blipFill>
        <p:spPr>
          <a:xfrm>
            <a:off x="3440160" y="566640"/>
            <a:ext cx="5632560" cy="6234120"/>
          </a:xfrm>
          <a:prstGeom prst="rect">
            <a:avLst/>
          </a:prstGeom>
          <a:ln w="0">
            <a:noFill/>
          </a:ln>
        </p:spPr>
      </p:pic>
      <p:pic>
        <p:nvPicPr>
          <p:cNvPr id="333" name="" descr=""/>
          <p:cNvPicPr/>
          <p:nvPr/>
        </p:nvPicPr>
        <p:blipFill>
          <a:blip r:embed="rId3"/>
          <a:srcRect l="50383" t="8551" r="2981" b="59041"/>
          <a:stretch/>
        </p:blipFill>
        <p:spPr>
          <a:xfrm>
            <a:off x="71280" y="558720"/>
            <a:ext cx="3221280" cy="3165480"/>
          </a:xfrm>
          <a:prstGeom prst="rect">
            <a:avLst/>
          </a:prstGeom>
          <a:ln w="0">
            <a:noFill/>
          </a:ln>
        </p:spPr>
      </p:pic>
      <p:sp>
        <p:nvSpPr>
          <p:cNvPr id="334" name=""/>
          <p:cNvSpPr/>
          <p:nvPr/>
        </p:nvSpPr>
        <p:spPr>
          <a:xfrm>
            <a:off x="0" y="3822840"/>
            <a:ext cx="342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flectivity &amp; surface at F36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1068480" y="1969920"/>
            <a:ext cx="914400" cy="744840"/>
          </a:xfrm>
          <a:prstGeom prst="ellipse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0" y="4791240"/>
            <a:ext cx="3421080" cy="18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7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  <a:ea typeface="Arial"/>
              </a:rPr>
              <a:t>Disruption of dry slot due to deepening of surface low and associated increase in westward extent of WCB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Forward Traj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" descr=""/>
          <p:cNvPicPr/>
          <p:nvPr/>
        </p:nvPicPr>
        <p:blipFill>
          <a:blip r:embed="rId2"/>
          <a:srcRect l="7246" t="10060" r="18425" b="10226"/>
          <a:stretch/>
        </p:blipFill>
        <p:spPr>
          <a:xfrm>
            <a:off x="109440" y="492120"/>
            <a:ext cx="6315120" cy="47880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6397560" y="522360"/>
            <a:ext cx="2746440" cy="633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Moisture transport across dry slot is low-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Thus, it does not disrupt the reduction of EPV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Rather, it could potentially enhance or maintain EPV reductio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0" y="5362560"/>
            <a:ext cx="6389640" cy="15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) RH &gt; 70% shaded; SEPV da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GEN dotted; 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  <a:ea typeface="Arial"/>
              </a:rPr>
              <a:t>θ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sol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) Vertical velo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ase One Conclu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/>
          </p:nvPr>
        </p:nvSpPr>
        <p:spPr>
          <a:xfrm>
            <a:off x="0" y="685440"/>
            <a:ext cx="91440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soscale dynamics similar to findings in other studies, but, subjectively, the CCB was more influential than that usually seen in the central 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tially due to enhanced CCB flow due to diabatically generated P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jectory and moisture analysis shows saturation was maintained to the north as convection advanced north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evidence of convection “stealing” mois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isture associated with precipitation in the dry slot is confined to low-levels, and doesn’t disrupt EPV reduction (and possibly enhances or maintains i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" descr=""/>
          <p:cNvPicPr/>
          <p:nvPr/>
        </p:nvPicPr>
        <p:blipFill>
          <a:blip r:embed="rId2"/>
          <a:stretch/>
        </p:blipFill>
        <p:spPr>
          <a:xfrm>
            <a:off x="57240" y="758880"/>
            <a:ext cx="5008320" cy="5008680"/>
          </a:xfrm>
          <a:prstGeom prst="rect">
            <a:avLst/>
          </a:prstGeom>
          <a:ln w="0">
            <a:noFill/>
          </a:ln>
        </p:spPr>
      </p:pic>
      <p:pic>
        <p:nvPicPr>
          <p:cNvPr id="345" name="" descr=""/>
          <p:cNvPicPr/>
          <p:nvPr/>
        </p:nvPicPr>
        <p:blipFill>
          <a:blip r:embed="rId3"/>
          <a:stretch/>
        </p:blipFill>
        <p:spPr>
          <a:xfrm>
            <a:off x="5127480" y="1014480"/>
            <a:ext cx="3976920" cy="4476600"/>
          </a:xfrm>
          <a:prstGeom prst="rect">
            <a:avLst/>
          </a:prstGeom>
          <a:ln w="0">
            <a:noFill/>
          </a:ln>
        </p:spPr>
      </p:pic>
      <p:sp>
        <p:nvSpPr>
          <p:cNvPr id="346" name=""/>
          <p:cNvSpPr/>
          <p:nvPr/>
        </p:nvSpPr>
        <p:spPr>
          <a:xfrm>
            <a:off x="0" y="5813280"/>
            <a:ext cx="9144000" cy="10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Domain 3 (4 km) simulated reflectivity (F0600 – F4800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vs. NOWRAD (2 km resolution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457200" y="0"/>
            <a:ext cx="822960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Radar Compari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21500" fill="hold"/>
                                        <p:tgtEl>
                                          <p:spTgt spid="3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" dur="21500" fill="hold"/>
                                        <p:tgtEl>
                                          <p:spTgt spid="3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" restart="whenNotActive" nodeType="interactiveSeq" fill="hold">
                <p:stCondLst>
                  <p:cond evt="onClick">
                    <p:tgtEl>
                      <p:spTgt spid="344"/>
                    </p:tgtEl>
                  </p:cond>
                </p:stCondLst>
                <p:childTnLst>
                  <p:par>
                    <p:cTn id="28" fill="hold">
                      <p:stCondLst>
                        <p:cond evt="onClick">
                          <p:tgtEl>
                            <p:spTgt spid="344"/>
                          </p:tgtEl>
                        </p:cond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1" dur="1" fill="hold"/>
                                        <p:tgtEl>
                                          <p:spTgt spid="3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" restart="whenNotActive" nodeType="interactiveSeq" fill="hold">
                <p:stCondLst>
                  <p:cond evt="onClick">
                    <p:tgtEl>
                      <p:spTgt spid="345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345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6" dur="1" fill="hold"/>
                                        <p:tgtEl>
                                          <p:spTgt spid="3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ase Two Bas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/>
          </p:nvPr>
        </p:nvSpPr>
        <p:spPr>
          <a:xfrm>
            <a:off x="0" y="685440"/>
            <a:ext cx="91440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other broad swath of snowfall in N. Plains through Great Lak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fc low weakens through sim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1 in of snowfall in Omaha, 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nowfall is associated with an inverted trough that features a thermal gradi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BZ values &gt; 50 in OK, but no severe weather repor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8 hr simulation run 0000 UTC 01 Feb 2004 – 0000 UTC 03 Feb 200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ynoptic Ana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" name="" descr=""/>
          <p:cNvPicPr/>
          <p:nvPr/>
        </p:nvPicPr>
        <p:blipFill>
          <a:blip r:embed="rId2"/>
          <a:srcRect l="9085" t="8378" r="20133" b="8569"/>
          <a:stretch/>
        </p:blipFill>
        <p:spPr>
          <a:xfrm>
            <a:off x="719280" y="523800"/>
            <a:ext cx="7569000" cy="627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Piecewise PV Inversion – F3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1295280" y="608184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turbation P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4878360" y="6053040"/>
            <a:ext cx="377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lected Perturbation P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5" name="" descr=""/>
          <p:cNvPicPr/>
          <p:nvPr/>
        </p:nvPicPr>
        <p:blipFill>
          <a:blip r:embed="rId2"/>
          <a:srcRect l="5522" t="10626" r="16715" b="9869"/>
          <a:stretch/>
        </p:blipFill>
        <p:spPr>
          <a:xfrm>
            <a:off x="828720" y="466560"/>
            <a:ext cx="7724880" cy="558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Piecewise PV Inversion – F3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7" name="" descr=""/>
          <p:cNvPicPr/>
          <p:nvPr/>
        </p:nvPicPr>
        <p:blipFill>
          <a:blip r:embed="rId2"/>
          <a:srcRect l="5657" t="11717" r="55664" b="11174"/>
          <a:stretch/>
        </p:blipFill>
        <p:spPr>
          <a:xfrm>
            <a:off x="730080" y="534960"/>
            <a:ext cx="3913200" cy="5514840"/>
          </a:xfrm>
          <a:prstGeom prst="rect">
            <a:avLst/>
          </a:prstGeom>
          <a:ln w="0">
            <a:noFill/>
          </a:ln>
        </p:spPr>
      </p:pic>
      <p:sp>
        <p:nvSpPr>
          <p:cNvPr id="358" name=""/>
          <p:cNvSpPr/>
          <p:nvPr/>
        </p:nvSpPr>
        <p:spPr>
          <a:xfrm>
            <a:off x="1000080" y="6035760"/>
            <a:ext cx="3319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850 mb Induced Heights and Wind (k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4667400" y="6095880"/>
            <a:ext cx="4476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850 mb Simulated Heights and Wind (kt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3"/>
          <a:srcRect l="22890" t="8759" r="33938" b="8545"/>
          <a:stretch/>
        </p:blipFill>
        <p:spPr>
          <a:xfrm>
            <a:off x="4668840" y="511200"/>
            <a:ext cx="4089240" cy="5537160"/>
          </a:xfrm>
          <a:prstGeom prst="rect">
            <a:avLst/>
          </a:prstGeom>
          <a:ln w="0">
            <a:noFill/>
          </a:ln>
        </p:spPr>
      </p:pic>
      <p:sp>
        <p:nvSpPr>
          <p:cNvPr id="361" name=""/>
          <p:cNvSpPr/>
          <p:nvPr/>
        </p:nvSpPr>
        <p:spPr>
          <a:xfrm>
            <a:off x="6006960" y="1393920"/>
            <a:ext cx="984240" cy="885600"/>
          </a:xfrm>
          <a:prstGeom prst="ellipse">
            <a:avLst/>
          </a:prstGeom>
          <a:noFill/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" descr=""/>
          <p:cNvPicPr/>
          <p:nvPr/>
        </p:nvPicPr>
        <p:blipFill>
          <a:blip r:embed="rId2"/>
          <a:srcRect l="5539" t="10226" r="16967" b="10436"/>
          <a:stretch/>
        </p:blipFill>
        <p:spPr>
          <a:xfrm>
            <a:off x="800280" y="549360"/>
            <a:ext cx="7626240" cy="5519520"/>
          </a:xfrm>
          <a:prstGeom prst="rect">
            <a:avLst/>
          </a:prstGeom>
          <a:ln w="0">
            <a:noFill/>
          </a:ln>
        </p:spPr>
      </p:pic>
      <p:sp>
        <p:nvSpPr>
          <p:cNvPr id="363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Piecewise PV Inversion – F42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1295280" y="608184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turbation P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707000" y="6067440"/>
            <a:ext cx="377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lected Perturbation P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onceptual Model of Banded Snowfall – </a:t>
            </a:r>
            <a:br>
              <a:rPr sz="3200"/>
            </a:br>
            <a:r>
              <a:rPr b="0" i="1" lang="en-US" sz="3200" spc="-1" strike="noStrike">
                <a:solidFill>
                  <a:srgbClr val="ffff00"/>
                </a:solidFill>
                <a:latin typeface="Arial"/>
              </a:rPr>
              <a:t>Cross-s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52280" y="1569960"/>
            <a:ext cx="6096240" cy="44164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6324480" y="1562040"/>
            <a:ext cx="28195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be0e3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PV-FGEN coupl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be0e3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centrated updraft (Emanuel 198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be0e3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adual transition of in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be0e3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about moistur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be0e3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Piecewise PV Inversion – F42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2"/>
          <a:srcRect l="5391" t="11927" r="55526" b="11174"/>
          <a:stretch/>
        </p:blipFill>
        <p:spPr>
          <a:xfrm>
            <a:off x="93600" y="593640"/>
            <a:ext cx="3940200" cy="5480280"/>
          </a:xfrm>
          <a:prstGeom prst="rect">
            <a:avLst/>
          </a:prstGeom>
          <a:ln w="0">
            <a:noFill/>
          </a:ln>
        </p:spPr>
      </p:pic>
      <p:pic>
        <p:nvPicPr>
          <p:cNvPr id="368" name="" descr=""/>
          <p:cNvPicPr/>
          <p:nvPr/>
        </p:nvPicPr>
        <p:blipFill>
          <a:blip r:embed="rId3"/>
          <a:srcRect l="19621" t="11792" r="0" b="7063"/>
          <a:stretch/>
        </p:blipFill>
        <p:spPr>
          <a:xfrm>
            <a:off x="4300560" y="851040"/>
            <a:ext cx="4746600" cy="4798800"/>
          </a:xfrm>
          <a:prstGeom prst="rect">
            <a:avLst/>
          </a:prstGeom>
          <a:ln w="0">
            <a:noFill/>
          </a:ln>
        </p:spPr>
      </p:pic>
      <p:sp>
        <p:nvSpPr>
          <p:cNvPr id="369" name=""/>
          <p:cNvSpPr/>
          <p:nvPr/>
        </p:nvSpPr>
        <p:spPr>
          <a:xfrm>
            <a:off x="585720" y="6035760"/>
            <a:ext cx="3319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850 mb Induced Heights and Wind (k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8640" y="5919840"/>
            <a:ext cx="414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4200 Simulated Reflec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Piecewise PV Inversion – F42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2" name="" descr=""/>
          <p:cNvPicPr/>
          <p:nvPr/>
        </p:nvPicPr>
        <p:blipFill>
          <a:blip r:embed="rId2"/>
          <a:srcRect l="5657" t="10984" r="17772" b="11174"/>
          <a:stretch/>
        </p:blipFill>
        <p:spPr>
          <a:xfrm>
            <a:off x="701640" y="590400"/>
            <a:ext cx="7724880" cy="5551560"/>
          </a:xfrm>
          <a:prstGeom prst="rect">
            <a:avLst/>
          </a:prstGeom>
          <a:ln w="0">
            <a:noFill/>
          </a:ln>
        </p:spPr>
      </p:pic>
      <p:sp>
        <p:nvSpPr>
          <p:cNvPr id="373" name=""/>
          <p:cNvSpPr/>
          <p:nvPr/>
        </p:nvSpPr>
        <p:spPr>
          <a:xfrm>
            <a:off x="771480" y="6229440"/>
            <a:ext cx="414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4200 Simulated Su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4780080" y="6215040"/>
            <a:ext cx="414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4200 Observed Su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Forward Trajectories from Area of Conv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" descr=""/>
          <p:cNvPicPr/>
          <p:nvPr/>
        </p:nvPicPr>
        <p:blipFill>
          <a:blip r:embed="rId2"/>
          <a:srcRect l="7246" t="19738" r="59223" b="16190"/>
          <a:stretch/>
        </p:blipFill>
        <p:spPr>
          <a:xfrm>
            <a:off x="434880" y="663480"/>
            <a:ext cx="3586320" cy="4843440"/>
          </a:xfrm>
          <a:prstGeom prst="rect">
            <a:avLst/>
          </a:prstGeom>
          <a:ln w="0">
            <a:noFill/>
          </a:ln>
        </p:spPr>
      </p:pic>
      <p:sp>
        <p:nvSpPr>
          <p:cNvPr id="377" name=""/>
          <p:cNvSpPr/>
          <p:nvPr/>
        </p:nvSpPr>
        <p:spPr>
          <a:xfrm>
            <a:off x="23760" y="5627520"/>
            <a:ext cx="4559400" cy="9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7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F3600-F4800, beginning 650 mb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437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Reflectivity at F3600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4614840" y="5665680"/>
            <a:ext cx="4559400" cy="9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7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F3600-F4800, beginning 650 mb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437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Reflectivity at F4800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3"/>
          <a:srcRect l="40663" t="20100" r="17772" b="16547"/>
          <a:stretch/>
        </p:blipFill>
        <p:spPr>
          <a:xfrm>
            <a:off x="4459320" y="689040"/>
            <a:ext cx="4444920" cy="47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Moisture and Stability Composi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" descr=""/>
          <p:cNvPicPr/>
          <p:nvPr/>
        </p:nvPicPr>
        <p:blipFill>
          <a:blip r:embed="rId2"/>
          <a:stretch/>
        </p:blipFill>
        <p:spPr>
          <a:xfrm>
            <a:off x="4765680" y="566640"/>
            <a:ext cx="4338720" cy="5376960"/>
          </a:xfrm>
          <a:prstGeom prst="rect">
            <a:avLst/>
          </a:prstGeom>
          <a:ln w="0">
            <a:noFill/>
          </a:ln>
        </p:spPr>
      </p:pic>
      <p:pic>
        <p:nvPicPr>
          <p:cNvPr id="382" name="" descr=""/>
          <p:cNvPicPr/>
          <p:nvPr/>
        </p:nvPicPr>
        <p:blipFill>
          <a:blip r:embed="rId3"/>
          <a:srcRect l="18691" t="7830" r="30123" b="8002"/>
          <a:stretch/>
        </p:blipFill>
        <p:spPr>
          <a:xfrm>
            <a:off x="55440" y="577800"/>
            <a:ext cx="4581720" cy="5324400"/>
          </a:xfrm>
          <a:prstGeom prst="rect">
            <a:avLst/>
          </a:prstGeom>
          <a:ln w="0">
            <a:noFill/>
          </a:ln>
        </p:spPr>
      </p:pic>
      <p:pic>
        <p:nvPicPr>
          <p:cNvPr id="383" name="" descr=""/>
          <p:cNvPicPr/>
          <p:nvPr/>
        </p:nvPicPr>
        <p:blipFill>
          <a:blip r:embed="rId4"/>
          <a:srcRect l="20070" t="11800" r="18603" b="7068"/>
          <a:stretch/>
        </p:blipFill>
        <p:spPr>
          <a:xfrm>
            <a:off x="2401920" y="2948040"/>
            <a:ext cx="2230560" cy="2949480"/>
          </a:xfrm>
          <a:prstGeom prst="rect">
            <a:avLst/>
          </a:prstGeom>
          <a:ln w="0">
            <a:noFill/>
          </a:ln>
        </p:spPr>
      </p:pic>
      <p:pic>
        <p:nvPicPr>
          <p:cNvPr id="384" name="" descr=""/>
          <p:cNvPicPr/>
          <p:nvPr/>
        </p:nvPicPr>
        <p:blipFill>
          <a:blip r:embed="rId5"/>
          <a:srcRect l="20100" t="11800" r="18633" b="7400"/>
          <a:stretch/>
        </p:blipFill>
        <p:spPr>
          <a:xfrm>
            <a:off x="4765680" y="2989440"/>
            <a:ext cx="2238480" cy="2950920"/>
          </a:xfrm>
          <a:prstGeom prst="rect">
            <a:avLst/>
          </a:prstGeom>
          <a:ln w="0">
            <a:noFill/>
          </a:ln>
        </p:spPr>
      </p:pic>
      <p:sp>
        <p:nvSpPr>
          <p:cNvPr id="385" name=""/>
          <p:cNvSpPr/>
          <p:nvPr/>
        </p:nvSpPr>
        <p:spPr>
          <a:xfrm>
            <a:off x="237960" y="6151680"/>
            <a:ext cx="45594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7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F2200 SEPV, RH, Reflectivit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4813200" y="6161040"/>
            <a:ext cx="45594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7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F2200 SEPV, RH, Reflectivit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ase Two Conclu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/>
          </p:nvPr>
        </p:nvSpPr>
        <p:spPr>
          <a:xfrm>
            <a:off x="0" y="685440"/>
            <a:ext cx="91440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V inversion at F3000 shows warm-sector PV induces pressure falls along the inverted trou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V inversion at F4200 shows warm-sector PV induces pressure falls in the vicinity of the primary surface 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lps to explain errors in the sim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vection occurs later and does not propagate north – thus CCB is not influenc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is possible that the flow in the vicinity of the convection increased the stability within the area of snowfall through moisture advection in the upper portion of the dry sl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/>
          </p:nvPr>
        </p:nvSpPr>
        <p:spPr>
          <a:xfrm>
            <a:off x="0" y="685440"/>
            <a:ext cx="91440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fluence of convection differs between the two cases – suggesting the potential for a high amount of case-to-case vari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study provides a survey of the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possibiliti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with respect to interactions between two areas of precipi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also presents a methodology for analyzing these possibi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lance of evidence suggests that convection served to enhance (or at least not disturb) snowf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cept of “stealing” moisture is not well-po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Another ‘Meteorological Myth’ Bus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/>
          </p:nvPr>
        </p:nvSpPr>
        <p:spPr>
          <a:xfrm>
            <a:off x="0" y="685440"/>
            <a:ext cx="91440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0:1 Average Snow to Liquid Rati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3:1 is a better average, and it is not so si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vection steals moistu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uld be the opposite, and it is not so si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ules of thumb” must be carefully applied in meteor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the physical mechanisms behind the rule are not understood, the rule is 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717480" y="520560"/>
            <a:ext cx="5796000" cy="87156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 flipV="1">
            <a:off x="689040" y="619200"/>
            <a:ext cx="5865840" cy="6746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20560" y="2517840"/>
            <a:ext cx="4910400" cy="84456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V="1">
            <a:off x="520560" y="2531880"/>
            <a:ext cx="4910400" cy="7873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Im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/>
          </p:nvPr>
        </p:nvSpPr>
        <p:spPr>
          <a:xfrm>
            <a:off x="0" y="685440"/>
            <a:ext cx="91440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V thinking could add significant insight to operational foreca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rticularly with respect to diabatically-produced anomal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jectory analysis could also prove invaluable for forecaster understanding of ETC’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ults of this study show that the evolving flow of air occurs on longer time-scales than most might assu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addition, creation of 3-D visualizations of cyclogenesis would help speed the research proces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Future Resear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/>
          </p:nvPr>
        </p:nvSpPr>
        <p:spPr>
          <a:xfrm>
            <a:off x="0" y="685440"/>
            <a:ext cx="91440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dic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ork by Zhang (2002) indicates that upscale propagation of error occurs as a result of convective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clear difference in the model’s ability to simulate the two cases was obser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rrecting model 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vergence of case two was observed to be associated with convection and its influence on the 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recasters should examine whether the observed low-level PV structure is similar to the model forec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aking ensemble forecasting to the next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chniques have been devised to allow forecasters to generate perturbations in association with specific features, but what features should be perturbed?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/>
          </p:nvPr>
        </p:nvSpPr>
        <p:spPr>
          <a:xfrm>
            <a:off x="0" y="685440"/>
            <a:ext cx="91440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mittee member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uck Graves, Chris Davis, Jim Moore, Bill Dannevi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MU, SLU, HPC, COM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ary Lackmann (NC-Stat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y wife Kristin Hernd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mily, In-Laws, Frie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 grad students and facul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ay Martinelli, Sam Ng, and especially Jaime Poo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aching Assist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elly Kubinski, Adam Pasch, &amp; Jaime Poo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ff – Eric Ha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Numerical Model 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798480"/>
            <a:ext cx="9144000" cy="605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M5, version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8 hour ru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 domains, two-way n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6 km, 12 km, 4 km; 37 sigma lev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6 hours spin up time, inner domains initialized 6 hours after outer doma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ta output every 15 min on Domain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udging not perform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eates sources and sinks in model fields, renders budget studies inaccu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Thanks for Coming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4" name="" descr=""/>
          <p:cNvPicPr/>
          <p:nvPr/>
        </p:nvPicPr>
        <p:blipFill>
          <a:blip r:embed="rId2"/>
          <a:stretch/>
        </p:blipFill>
        <p:spPr>
          <a:xfrm>
            <a:off x="28440" y="571680"/>
            <a:ext cx="9072720" cy="622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Trajectory Model 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160" y="941400"/>
            <a:ext cx="51814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IP V4 (read-interpolate-plo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5181480" y="901800"/>
            <a:ext cx="3810240" cy="20970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228600" y="2465280"/>
                <a:ext cx="4876920" cy="5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t xml:space="preserve">Δ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Δ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228600" y="3227400"/>
                <a:ext cx="7543800" cy="55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t xml:space="preserve">Δ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Δt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Δ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2" name=""/>
          <p:cNvSpPr/>
          <p:nvPr/>
        </p:nvSpPr>
        <p:spPr>
          <a:xfrm>
            <a:off x="304920" y="4013280"/>
            <a:ext cx="8839080" cy="23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bbe0e3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mple but felicitous advection 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bbe0e3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gher order methods not used as they will not give greater precision as long as linear interpolation is used between grid and integration points (Draxler 200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4T16:41:51Z</dcterms:created>
  <dc:creator>SLU</dc:creator>
  <dc:description/>
  <dc:language>en-US</dc:language>
  <cp:lastModifiedBy>SLU</cp:lastModifiedBy>
  <dcterms:modified xsi:type="dcterms:W3CDTF">2006-07-26T20:35:41Z</dcterms:modified>
  <cp:revision>32</cp:revision>
  <dc:subject/>
  <dc:title>Four Parts of Study</dc:title>
</cp:coreProperties>
</file>