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C5F-5F90-47DD-968B-EAA56C6B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1F0-5C2B-4E65-8523-C579C0D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494-8CDA-4E3F-B63B-A6649FAB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2C2-7113-4988-B130-5B9F4D64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4360-7342-4607-B797-C9DD04B2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530-6A29-400C-86B0-09BDF5B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B3EE-F17F-40D1-A164-4224F83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05A-C276-4339-AB08-0A3101E9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66C-DC6D-43BF-B960-414BA80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6A7-7DDA-4DC1-AD97-B1FA4EA9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308D-4DE0-4356-A8DF-75484DF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DC9-80EB-48B7-8D3F-E4F3400F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FC8-AB33-43AE-910C-A4ED6D9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CDEC-EF8C-4648-AA7D-97065C3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C8EA-9EB9-4729-8EF3-A1D51D50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717E-3792-42D7-A807-C9107A20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E192-C571-4E43-9406-FBC68F95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1E1-7B15-4356-9D68-2D180A0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BB5-73E9-4B81-BEB6-219A502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E9B-4D6C-469C-A540-44AB497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389-0D70-4252-82F0-17043F25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6FB-9944-46D0-8980-9CDEFA7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6DB-6584-4639-9754-74E3E50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BDD-135B-4E1D-9229-A189639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543-E302-4A33-8E9E-B85014BEB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9A1-BAF2-4C25-85FB-93B53CE95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.slu.edu/CIPS" TargetMode="External"/><Relationship Id="rId3" Type="http://schemas.openxmlformats.org/officeDocument/2006/relationships/hyperlink" Target="mailto:moore@eas.slu.edu" TargetMode="External"/><Relationship Id="rId4" Type="http://schemas.openxmlformats.org/officeDocument/2006/relationships/hyperlink" Target="mailto:graves@eas.slu.edu" TargetMode="External"/><Relationship Id="rId5" Type="http://schemas.openxmlformats.org/officeDocument/2006/relationships/hyperlink" Target="mailto:baxterma@eas.slu.edu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.slu.edu/CIPS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n Overview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search Activities at C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9920" y="24382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3160" y="209880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7944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562720"/>
            <a:ext cx="45720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Creighton University Semina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9 January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36232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tin A. Bax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operative Institute for Precipitation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aint Louis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pt. of Earth and Atmospheric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rm Season Elevated Thunderst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-91440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5775120" cy="3857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creases to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25-850 MCON max North of fro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LJ “points to” MCS centr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oid centered in area of max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0199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ow-Level Plan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rm Season Elevated Thunderst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-91440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2023920"/>
            <a:ext cx="5867280" cy="391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48160" y="1371240"/>
            <a:ext cx="2819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ight entrance region of UL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inflection point of 500 mb he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RH &gt;7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0 mb jet “points to” the centr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60199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id-Level Plan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Composite Diagram for an Individual Ca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6324840" cy="4467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05360" y="1828440"/>
            <a:ext cx="2361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diagrams allow easy comparison with the conceptual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 efficient summary of the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Research on Warm Season Elevated Thunderst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parameters will determine how far North of the boundary storms f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 issues – are Corfidi vectors a good approxim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processes create and maintain elevated outflow boundari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the operational models be modified to better forecast elevated thunderstor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CS Training &amp; Propagation Iss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695840" cy="4800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29200" y="1447920"/>
            <a:ext cx="4114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fidi vectors may not give accurate results when training of MCS’s occ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MCS rapidly modifies both the large scale and mesoscale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ill impact the initiation and propagation of subsequent MC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w vs. High Centroid St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24972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19720" y="1752480"/>
            <a:ext cx="4100400" cy="350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5410080"/>
            <a:ext cx="495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334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Centroid Storms exhibit more mesoscale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.e., the presence of dry a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867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High Centroid Storm             (Higher dBZ al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w vs. High Centroid St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5728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19720" y="1752480"/>
            <a:ext cx="4267080" cy="3648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867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w Centroid Storm             (Higher dBZ in low-lev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334120"/>
            <a:ext cx="579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Centroid Storms exhibit less mesoscale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y are highly precipitation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gust 2003 Kansas Turnpike Flo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352680"/>
            <a:ext cx="75960" cy="763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8320" y="33526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828800"/>
            <a:ext cx="198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ot of rain falls over a short time s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cell is low centroid, others are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de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vere Weather Transitions to Heavy R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65300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57800" y="1371600"/>
            <a:ext cx="3886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of training echoes develops in the cold air behind a rapidly moving bow 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y rain producing cells were elev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isture was still in place above the cold p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avy Rain “Surprise”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280" y="1811160"/>
            <a:ext cx="6629400" cy="4970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3960" y="1828440"/>
            <a:ext cx="198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1676520"/>
            <a:ext cx="2438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ta model misses 1”+ rains in St. Louis are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Likely due to initiation and propagation issu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lso looking at “null” cas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ary Research Go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undertake research that focuses upon a more complete understanding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y convective precipitation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y snow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in the Central Region of the National Weathe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WS Central Region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infall Climat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10998" t="8668" r="6000" b="10998"/>
          <a:stretch/>
        </p:blipFill>
        <p:spPr>
          <a:xfrm>
            <a:off x="152280" y="1905120"/>
            <a:ext cx="5791320" cy="4203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172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erage Daily Rainfall in June (when rai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1447920"/>
            <a:ext cx="2514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1371600"/>
            <a:ext cx="312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to document the regional distribution of prcp amounts and freq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determine what is a “significant” amount of rain for a given locatio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physical processes create the spatial distribution se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now Forecasting Iss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processes contributing to the creation of heavy banded snow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ow to Liquid Ratio Climatology and Operational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erical simulations of winter snow events using MM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volution of a Mesoscale Snowb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476760" cy="4578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009920" y="1980720"/>
            <a:ext cx="2133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SR-88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maha, 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19-22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cesses Creating Heavy Banded Snowfall – Large Sca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876920" cy="4773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ength and positioning of the large scale conveyor belts will determine the mesoscale features that produce banded snow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cesses Creating Heavy Banded Snowfall - Mesosca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05160" y="1980720"/>
            <a:ext cx="3733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eedback exists between mid-level frontogenesis and reduction of equivalent potential vorticity (EP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nitiates narrow bands of snow that can remain in place for many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7242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cesses Creating Heavy Banded Snowfall – Cross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5905440" cy="4278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EPV is located above the slanting mid-level frontogen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y snowfall can occur where they overl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M5 Trajectories –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rm Conveyor Bel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948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cels in the low-levels take a cyclonic tr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arcels experience a period of abrupt upli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M5 Trajectories –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rm Conveyor Bel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11948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cels higher up take a straight or anti-cyclonic p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arcels experience uplift, some do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M5 Trajectories –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ld Conveyor Bel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37960" y="1905120"/>
            <a:ext cx="425772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57800" y="12949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s North of the system rather than E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s cyclonically around area of low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plit present as in conceptual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cels both rise and s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M5 Trajectories –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ry Conveyor Bel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444920" cy="4876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cels originate far from th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cels form the dry slot and help to reduce EP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cels spread out in the vertical as they approach th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search Method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improve our understanding of the evolution of significant precipitation events, throug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matological-statistical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tic case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scale numerical mod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quantify the key parameters related to heavy precipitation production and place them into the context of an evolving 3-D, process-oriented conceptual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ni” (Meso-</a:t>
            </a:r>
            <a:r>
              <a:rPr b="0" lang="el-GR" sz="4400" spc="-1" strike="noStrike">
                <a:solidFill>
                  <a:srgbClr val="ccffff"/>
                </a:solidFill>
                <a:latin typeface="Tahoma"/>
                <a:ea typeface="Tahoma"/>
              </a:rPr>
              <a:t>β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) Snow Ban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2280" y="194328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9400" y="182844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4” of snow in the St. Louis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nds less than a county w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 shear reduces EPV rather than differential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Banded Snowfall Resear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 conceptual model that describes the evolution of the physical processes that initiate heavy banded snow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n objective composite of long-track heavy banded snowfall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processes that initiate very small-scale b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are these processes different from those that create larger scale band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Banded Snowfall Resear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 the physical processes for cases that exhibit strong cyclogenesis vs. those that exhibit weak or no cyclogen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how warm sector convection impacts heavy banded snowfall both in reality and in a numerical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how numerical models can best be configured for use in human forecasting of heavy banded snow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matology of Snow to Liquid Rat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5562720" cy="3276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66920" y="160020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1-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cs displayed by NWS C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SLR of 13:1 is more accurate than previously thought value of 10: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Using Climatology to Construct a Physically-Based Method for Diagnosing SL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6320" y="2286000"/>
            <a:ext cx="5943600" cy="404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5520" y="16765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R can be diagnosed based up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ysis of crystal structure 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ring the sounding with a climatologically average sou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estimate the extent of deviation from the climatologically average SL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Snow to Liquid Ratio Resear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rid of SLR for converting QPF to snowfall amounts will be developed this summer at HP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erational technique that utilizes climatology is already being used at many forecast off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ings, MT; Glasgow, MT; Caribou, 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inter Weather “Bust” Ev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898880" y="2735280"/>
            <a:ext cx="180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724280" cy="4479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3124080"/>
            <a:ext cx="11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AX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733920"/>
            <a:ext cx="7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LSX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4724280"/>
            <a:ext cx="106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G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20968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L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029200"/>
            <a:ext cx="10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38320" y="182880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hysical processes seemed to be in place to produce a widespread heavy snowfall ev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banding lik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inter Weather “Bust” Ev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5181480" cy="4218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ux of dry air was too strong and collocated with weaker upward 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d this dry air intrusion to be stronger than foreca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looking for “surprise”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IPS Public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re, J. T., C. E. Graves, S. Ng, J. L. Smith, 2005: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 Process-Oriented Methodology Toward Understanding the Organization of an Extensive Mesoscale Snowband: A Diagnostic Case Study of 4-5 December 199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ea. Forecas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, Accepted for public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xter, M.A., C.E. Graves, J.T. Moore, 2005: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 Climatology of Snow to Liquid Ratio for the Contiguous United Sta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ea. Forecas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ccept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xter, M.A., C.E. Graves, J.T. Moore, 2005: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 Physically-Based Method for Diagnosing Snow to Liquid Rati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at. Wea. Dige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ccepted pending minor revis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ves, C.E., J.T. Moore, M.J. Singer, S. Ng, 2003: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and on the Run: Chasing the Physical Processes Associated with Heavy Snowfal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Bull. Amer. Meteor. So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990-99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re, J.T., F.H. Glass, C.E. Graves, S.M. Rochette, and M.J. Singer, 2003: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e Environment of Warm-Season Elevated Thunderstorms Associated with Heavy Rainfall over the Central United Sta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ea. Forecas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861-87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http://www.eas.slu.edu/C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-P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. James T. Moore –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moore@eas.sl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. Charles E. Graves –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graves@eas.sl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y Baxter –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baxterma@eas.sl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 for CIPS comes from a NOAA-CSTAR g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search Method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Ultimate go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elp forecasters recognize threatening winter or summer storms with greater lead time and with greater confidence, and more accurately describe the timing and magnitude of precipitation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conceptual models help raise situational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ound conceptual models have been developed for severe weather sit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goal is to parallel the efforts that resulted in these models, with a focus on heavy precipitation rather than severe we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llabo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s with operational forecasters allows u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e our research findings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valuable operational feedback as to the applicability of our work to current forecast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llabora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ions have taken place with the following NWS off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. Louis, MO; Louisville, KY; Sioux Falls, SD; Davenport, IA; LaCrosse, WI; White Lake, 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also with the following grou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meteorological Prediction Center (HPC), Storm Prediction Center (SPC), COMET, National Severe Storms Labor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reach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(“Technology Transfer”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are posted on our web si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http://www.eas.slu.edu/CIPS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at national confere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tional Weather Associ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merican Meteorological Socie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at regional meetings and 4-5 NWS WFOs eac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over the web/telephone (NWS VisitView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ations in major journa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lletin of the AMS, Weather and Forecasting, National Weather Dig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in Forecasting Iss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m and cold season elevated conv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ication of the mesoscale environment by convection leading to prolonged periods of heavy rain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le of mesoscale convective vortices (MCVs) in the production of heavy rain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nfall climat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 of propagation of mesoscale convective systems (MCSs) and the factors contributing to cell evolution during episodes of heavy r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volution of a Flash Flood Ev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574800" cy="44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4572000" cy="387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81280" y="5334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1120" y="525780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-7 May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on, 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22:40:58Z</dcterms:created>
  <dc:creator>eas-9-152</dc:creator>
  <dc:description/>
  <dc:language>en-US</dc:language>
  <cp:lastModifiedBy>Joan M. Ramage</cp:lastModifiedBy>
  <cp:lastPrinted>2005-01-14T22:03:22Z</cp:lastPrinted>
  <dcterms:modified xsi:type="dcterms:W3CDTF">2005-01-19T15:52:26Z</dcterms:modified>
  <cp:revision>13</cp:revision>
  <dc:subject/>
  <dc:title>PowerPoint Presentation</dc:title>
</cp:coreProperties>
</file>