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17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F1A50-CA72-4DCA-8E1B-88F1645C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973C1-8D57-4C96-BF3E-18F7787E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028DF-0858-429C-8093-D8873D7D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3E0CA-075F-4153-B25B-2783393C8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31FE-B02F-45A6-A988-C101A82C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1DC7-CF44-43C8-B189-6EC4CD17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EE06-5A47-4FD8-98BC-2E0605B4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3DA2-049F-4435-AA7F-A444BB4B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27B1-FF8F-4944-8DCC-504766D0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DE8B-F618-4A7B-8988-209603C9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357B-66AE-4F26-9709-F60C890E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B5C98-7049-4B9E-B93E-1AAD9205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C976-D628-457D-86D0-BC939CC2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26CA-A53B-4C68-ACA7-7F56CDB9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E860-4608-495E-AD01-44220707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CBF4-5335-43D9-89DB-E4F43573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4DB0-1316-43F6-A800-FC993A79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B6377-5778-4DE6-B704-548CF78D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B39F5-5CE4-4A01-9690-3B9F6B5A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C6C4A-FD9B-42C8-8450-45D3CE3F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A9592-69EE-4816-85E0-169FED59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0EC4B-3F67-4061-B016-11F0395F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DFC64-602D-4C65-950E-85006CB6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DF6A9-CF8B-4B28-BB8D-27E319F8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262F-27D4-4EDA-B13C-A037136AB5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0EB1-0120-420E-AA10-4D2AF61678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eas.slu.edu/CIPS/Presentations.html" TargetMode="External"/><Relationship Id="rId2" Type="http://schemas.openxmlformats.org/officeDocument/2006/relationships/hyperlink" Target="mailto:paddockm@eas.slu.edu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3047760" cy="3124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3962520" y="2514600"/>
            <a:ext cx="4952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hael J. Paddock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rles E. Graves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mes T. Mo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aint Louis Univer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Times New Roman"/>
              </a:rPr>
              <a:t>A Conceptual Model Depicting Processes Important for the Generation of Meso-Beta Scale Snow Ba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5734080"/>
            <a:ext cx="84582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ational Weather Association Annual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0 October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onceptual Model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48320" y="1219320"/>
            <a:ext cx="4343400" cy="4190760"/>
          </a:xfrm>
          <a:prstGeom prst="rect">
            <a:avLst/>
          </a:prstGeom>
          <a:ln w="9360">
            <a:solidFill>
              <a:srgbClr val="000514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52280" y="1219320"/>
            <a:ext cx="4419720" cy="4190760"/>
          </a:xfrm>
          <a:prstGeom prst="rect">
            <a:avLst/>
          </a:prstGeom>
          <a:ln w="9360">
            <a:solidFill>
              <a:srgbClr val="000514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457200" y="58672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Meso-Beta Scale Snow Bands Accompanied by Weak Cyclogen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onceptual Model Characteris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now band is located approximately 500 km north-northeast of the 850 hPa low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band is located within confluent 700 hPa flow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 is approximately 600 km downstream from a positively tilted 500 hPa troug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band is located where the frontogenesis, EPV reduction, and upper-level divergence interact. Often found where the gradients of these parameters overlap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1752480"/>
            <a:ext cx="85406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se Study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5-16 February 200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1680" y="914400"/>
            <a:ext cx="85406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ociated with southwesterly mid-tropospheric fl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1008 hPa low pressure system was located in Arkansas initially then moved into Mississipp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nded snowfall moved across the southeastern Iowa, northeastern Missouri, and central Illinois reg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theastern Missouri and central Illinois received two to six inches of snow throughout the late night (1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and early morning (1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h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ak intensity of the event is considered 0600 UTC  on the 1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304920"/>
            <a:ext cx="854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Times New Roman"/>
              </a:rPr>
              <a:t>15-16 February 2003 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467480" cy="5257800"/>
          </a:xfrm>
          <a:prstGeom prst="rect">
            <a:avLst/>
          </a:prstGeom>
          <a:ln w="9360">
            <a:solidFill>
              <a:srgbClr val="050507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301680" y="228600"/>
            <a:ext cx="8540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Times New Roman"/>
              </a:rPr>
              <a:t>16 February 2003 0600 UTC Surface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4038840" cy="5105520"/>
          </a:xfrm>
          <a:prstGeom prst="rect">
            <a:avLst/>
          </a:prstGeom>
          <a:ln w="9360">
            <a:solidFill>
              <a:srgbClr val="000514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Times New Roman"/>
              </a:rPr>
              <a:t>24 Hour Snowfall Isohyets Ending 1200 UTC 16 Febru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781680" cy="5105520"/>
          </a:xfrm>
          <a:prstGeom prst="rect">
            <a:avLst/>
          </a:prstGeom>
          <a:ln w="9360">
            <a:solidFill>
              <a:srgbClr val="000514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Times New Roman"/>
              </a:rPr>
              <a:t>16 February 0600 UTC RUC-II Initialization 1000-500 hPa Mean R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Times New Roman"/>
              </a:rPr>
              <a:t>16 February 0600 UTC RUC-II Initialization Wind Barbs and Isotach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194000" cy="3697200"/>
          </a:xfrm>
          <a:prstGeom prst="rect">
            <a:avLst/>
          </a:prstGeom>
          <a:ln w="9360">
            <a:solidFill>
              <a:srgbClr val="000514"/>
            </a:solidFill>
            <a:miter/>
          </a:ln>
        </p:spPr>
      </p:pic>
      <p:sp>
        <p:nvSpPr>
          <p:cNvPr id="145" name=""/>
          <p:cNvSpPr/>
          <p:nvPr/>
        </p:nvSpPr>
        <p:spPr>
          <a:xfrm rot="20358000">
            <a:off x="1754280" y="2755800"/>
            <a:ext cx="144756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00200" y="5943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850 h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724280" y="1905120"/>
            <a:ext cx="4194360" cy="3697200"/>
          </a:xfrm>
          <a:prstGeom prst="rect">
            <a:avLst/>
          </a:prstGeom>
          <a:ln w="9360">
            <a:solidFill>
              <a:srgbClr val="000514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6095880" y="5943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00 h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20358000">
            <a:off x="6173640" y="2755440"/>
            <a:ext cx="144792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Times New Roman"/>
              </a:rPr>
              <a:t>16 February 0600 UTC RUC-II Initializ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4343400" cy="3235320"/>
          </a:xfrm>
          <a:prstGeom prst="rect">
            <a:avLst/>
          </a:prstGeom>
          <a:ln w="9360">
            <a:solidFill>
              <a:srgbClr val="000514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4343400" cy="3256200"/>
          </a:xfrm>
          <a:prstGeom prst="rect">
            <a:avLst/>
          </a:prstGeom>
          <a:ln w="9360">
            <a:solidFill>
              <a:srgbClr val="000514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838080" y="541008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00 hPa Ageostrophic Wind Vectors and Observed Isotach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54864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400-200 hPa Average Diverg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9344000">
            <a:off x="1925280" y="2820600"/>
            <a:ext cx="1136520" cy="563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01680" y="228600"/>
            <a:ext cx="854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Times New Roman"/>
              </a:rPr>
              <a:t>1515 UTC 15</a:t>
            </a:r>
            <a:r>
              <a:rPr b="1" lang="en-US" sz="3200" spc="-1" strike="noStrike" baseline="30000">
                <a:solidFill>
                  <a:srgbClr val="e5e5ff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e5e5ff"/>
                </a:solidFill>
                <a:latin typeface="Times New Roman"/>
              </a:rPr>
              <a:t> – 0915 UTC 16</a:t>
            </a:r>
            <a:r>
              <a:rPr b="1" lang="en-US" sz="3200" spc="-1" strike="noStrike" baseline="30000">
                <a:solidFill>
                  <a:srgbClr val="e5e5ff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e5e5ff"/>
                </a:solidFill>
                <a:latin typeface="Times New Roman"/>
              </a:rPr>
              <a:t> February SAB-Enhanced Goes-8 Satellite IR 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69608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00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228600"/>
            <a:ext cx="822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447920"/>
            <a:ext cx="82296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)  Forecast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se are small-scale bands, often 5-50 km wide and 100-200 km in leng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y often form far away from synoptic-scale boundar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ften form in low-level northeasterly flow, associated with cold air adve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m in the vicinity of arctic high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ociated with high snow to liquid ratios, 20 to 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ey parameters (frontogenesis, instability, etc) are weak, nothing to write home ab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ociated with light snowfall but still causes traffic problems (socio-economica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04920" y="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Times New Roman"/>
              </a:rPr>
              <a:t>1515 UTC 15</a:t>
            </a:r>
            <a:r>
              <a:rPr b="1" lang="en-US" sz="3200" spc="-1" strike="noStrike" baseline="30000">
                <a:solidFill>
                  <a:srgbClr val="e5e5ff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e5e5ff"/>
                </a:solidFill>
                <a:latin typeface="Times New Roman"/>
              </a:rPr>
              <a:t> – 0915 UTC 16</a:t>
            </a:r>
            <a:r>
              <a:rPr b="1" lang="en-US" sz="3200" spc="-1" strike="noStrike" baseline="30000">
                <a:solidFill>
                  <a:srgbClr val="e5e5ff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e5e5ff"/>
                </a:solidFill>
                <a:latin typeface="Times New Roman"/>
              </a:rPr>
              <a:t> February TPC-Enhanced Goes-8 Satellite WV 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2120" y="1317600"/>
            <a:ext cx="761976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6000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1680" y="228600"/>
            <a:ext cx="854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Times New Roman"/>
              </a:rPr>
              <a:t>1500 UTC 15</a:t>
            </a:r>
            <a:r>
              <a:rPr b="1" lang="en-US" sz="3200" spc="-1" strike="noStrike" baseline="30000">
                <a:solidFill>
                  <a:srgbClr val="e5e5ff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e5e5ff"/>
                </a:solidFill>
                <a:latin typeface="Times New Roman"/>
              </a:rPr>
              <a:t> – 0915 UTC 16</a:t>
            </a:r>
            <a:r>
              <a:rPr b="1" lang="en-US" sz="3200" spc="-1" strike="noStrike" baseline="30000">
                <a:solidFill>
                  <a:srgbClr val="e5e5ff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e5e5ff"/>
                </a:solidFill>
                <a:latin typeface="Times New Roman"/>
              </a:rPr>
              <a:t> February Mid-Mississippi Valley Regional Radar 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6960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5300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705720" cy="5181480"/>
          </a:xfrm>
          <a:prstGeom prst="rect">
            <a:avLst/>
          </a:prstGeom>
          <a:ln w="9360">
            <a:solidFill>
              <a:srgbClr val="000514"/>
            </a:solidFill>
            <a:miter/>
          </a:ln>
        </p:spPr>
      </p:pic>
      <p:sp>
        <p:nvSpPr>
          <p:cNvPr id="163" name=""/>
          <p:cNvSpPr/>
          <p:nvPr/>
        </p:nvSpPr>
        <p:spPr>
          <a:xfrm rot="19905000">
            <a:off x="3403080" y="2644920"/>
            <a:ext cx="2590920" cy="1152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Times New Roman"/>
              </a:rPr>
              <a:t>16 February 0600 UTC RUC-II Initialization of 550 hPa Equivalent Potential Vorti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Times New Roman"/>
              </a:rPr>
              <a:t>0600 UTC 16 February M</a:t>
            </a:r>
            <a:r>
              <a:rPr b="1" lang="en-US" sz="3200" spc="-1" strike="noStrike" baseline="-25000">
                <a:solidFill>
                  <a:srgbClr val="e5e5ff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e5e5ff"/>
                </a:solidFill>
                <a:latin typeface="Times New Roman"/>
              </a:rPr>
              <a:t> vs. </a:t>
            </a:r>
            <a:r>
              <a:rPr b="1" lang="el-GR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θ</a:t>
            </a:r>
            <a:r>
              <a:rPr b="1" lang="en-US" sz="3200" spc="-1" strike="noStrike" baseline="-25000">
                <a:solidFill>
                  <a:srgbClr val="e5e5ff"/>
                </a:solidFill>
                <a:latin typeface="Times New Roman"/>
                <a:ea typeface="Times New Roman"/>
              </a:rPr>
              <a:t>e</a:t>
            </a:r>
            <a:r>
              <a:rPr b="1" lang="en-US" sz="3200" spc="-1" strike="noStrike">
                <a:solidFill>
                  <a:srgbClr val="e5e5ff"/>
                </a:solidFill>
                <a:latin typeface="Times New Roman"/>
              </a:rPr>
              <a:t> Cross-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019920" cy="4513320"/>
          </a:xfrm>
          <a:prstGeom prst="rect">
            <a:avLst/>
          </a:prstGeom>
          <a:ln w="9360">
            <a:solidFill>
              <a:srgbClr val="000514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52280" y="2514600"/>
            <a:ext cx="2590920" cy="2362320"/>
          </a:xfrm>
          <a:prstGeom prst="rect">
            <a:avLst/>
          </a:prstGeom>
          <a:ln w="9360">
            <a:solidFill>
              <a:srgbClr val="000514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129528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0507"/>
                </a:solidFill>
                <a:latin typeface="Times New Roman"/>
              </a:rPr>
              <a:t>37.2 ; 89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2819520"/>
            <a:ext cx="457200" cy="990360"/>
          </a:xfrm>
          <a:prstGeom prst="line">
            <a:avLst/>
          </a:prstGeom>
          <a:ln w="57240">
            <a:solidFill>
              <a:srgbClr val="0505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0507"/>
                </a:solidFill>
                <a:latin typeface="Times New Roman"/>
              </a:rPr>
              <a:t>43.5 ; 93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52578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ormal to 1000-500 hPa Thick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3276720"/>
            <a:ext cx="381240" cy="30456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5638680"/>
            <a:ext cx="381240" cy="30492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705360" cy="5184720"/>
          </a:xfrm>
          <a:prstGeom prst="rect">
            <a:avLst/>
          </a:prstGeom>
          <a:ln w="9360">
            <a:solidFill>
              <a:srgbClr val="050507"/>
            </a:solidFill>
            <a:miter/>
          </a:ln>
        </p:spPr>
      </p:pic>
      <p:sp>
        <p:nvSpPr>
          <p:cNvPr id="175" name="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Times New Roman"/>
              </a:rPr>
              <a:t>16 February 0600 UTC RUC-II Initialization of 800-600 hPa Average Frontogen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1680" y="228600"/>
            <a:ext cx="8540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Times New Roman"/>
              </a:rPr>
              <a:t>0600 UTC 16 February RUC-II Initialization of 600 hPa Vector Frontogenesis Compon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4267440" cy="3581280"/>
          </a:xfrm>
          <a:prstGeom prst="rect">
            <a:avLst/>
          </a:prstGeom>
          <a:ln w="9360">
            <a:solidFill>
              <a:srgbClr val="000514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648320" y="2108160"/>
            <a:ext cx="4343400" cy="3619440"/>
          </a:xfrm>
          <a:prstGeom prst="rect">
            <a:avLst/>
          </a:prstGeom>
          <a:ln w="9360">
            <a:solidFill>
              <a:srgbClr val="050507"/>
            </a:solidFill>
            <a:miter/>
          </a:ln>
        </p:spPr>
      </p:pic>
      <p:sp>
        <p:nvSpPr>
          <p:cNvPr id="179" name=""/>
          <p:cNvSpPr/>
          <p:nvPr/>
        </p:nvSpPr>
        <p:spPr>
          <a:xfrm>
            <a:off x="6477120" y="5943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otal 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1438600">
            <a:off x="1447920" y="3048120"/>
            <a:ext cx="2209680" cy="1218960"/>
          </a:xfrm>
          <a:custGeom>
            <a:avLst/>
            <a:gdLst/>
            <a:ahLst/>
            <a:rect l="l" t="t" r="r" b="b"/>
            <a:pathLst>
              <a:path w="1440" h="768">
                <a:moveTo>
                  <a:pt x="0" y="768"/>
                </a:moveTo>
                <a:cubicBezTo>
                  <a:pt x="40" y="684"/>
                  <a:pt x="80" y="600"/>
                  <a:pt x="144" y="528"/>
                </a:cubicBezTo>
                <a:cubicBezTo>
                  <a:pt x="208" y="456"/>
                  <a:pt x="280" y="392"/>
                  <a:pt x="384" y="336"/>
                </a:cubicBezTo>
                <a:cubicBezTo>
                  <a:pt x="488" y="280"/>
                  <a:pt x="640" y="232"/>
                  <a:pt x="768" y="192"/>
                </a:cubicBezTo>
                <a:cubicBezTo>
                  <a:pt x="896" y="152"/>
                  <a:pt x="1040" y="128"/>
                  <a:pt x="1152" y="96"/>
                </a:cubicBezTo>
                <a:cubicBezTo>
                  <a:pt x="1264" y="64"/>
                  <a:pt x="1352" y="32"/>
                  <a:pt x="144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21438600">
            <a:off x="5867280" y="3124080"/>
            <a:ext cx="2210040" cy="1219320"/>
          </a:xfrm>
          <a:custGeom>
            <a:avLst/>
            <a:gdLst/>
            <a:ahLst/>
            <a:rect l="l" t="t" r="r" b="b"/>
            <a:pathLst>
              <a:path w="1440" h="768">
                <a:moveTo>
                  <a:pt x="0" y="768"/>
                </a:moveTo>
                <a:cubicBezTo>
                  <a:pt x="40" y="684"/>
                  <a:pt x="80" y="600"/>
                  <a:pt x="144" y="528"/>
                </a:cubicBezTo>
                <a:cubicBezTo>
                  <a:pt x="208" y="456"/>
                  <a:pt x="280" y="392"/>
                  <a:pt x="384" y="336"/>
                </a:cubicBezTo>
                <a:cubicBezTo>
                  <a:pt x="488" y="280"/>
                  <a:pt x="640" y="232"/>
                  <a:pt x="768" y="192"/>
                </a:cubicBezTo>
                <a:cubicBezTo>
                  <a:pt x="896" y="152"/>
                  <a:pt x="1040" y="128"/>
                  <a:pt x="1152" y="96"/>
                </a:cubicBezTo>
                <a:cubicBezTo>
                  <a:pt x="1264" y="64"/>
                  <a:pt x="1352" y="32"/>
                  <a:pt x="144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58672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01680" y="228600"/>
            <a:ext cx="8540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Times New Roman"/>
              </a:rPr>
              <a:t>16 February 0600 UTC RUC-II Initialization Cross-s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4346640" cy="3733920"/>
          </a:xfrm>
          <a:prstGeom prst="rect">
            <a:avLst/>
          </a:prstGeom>
          <a:ln w="9360">
            <a:solidFill>
              <a:srgbClr val="000514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800600" y="2514600"/>
            <a:ext cx="4343400" cy="3754440"/>
          </a:xfrm>
          <a:prstGeom prst="rect">
            <a:avLst/>
          </a:prstGeom>
          <a:ln w="9360">
            <a:solidFill>
              <a:srgbClr val="000514"/>
            </a:solidFill>
            <a:miter/>
          </a:ln>
        </p:spPr>
      </p:pic>
      <p:sp>
        <p:nvSpPr>
          <p:cNvPr id="186" name=""/>
          <p:cNvSpPr/>
          <p:nvPr/>
        </p:nvSpPr>
        <p:spPr>
          <a:xfrm>
            <a:off x="5562720" y="4419720"/>
            <a:ext cx="419040" cy="990360"/>
          </a:xfrm>
          <a:custGeom>
            <a:avLst/>
            <a:gdLst/>
            <a:ahLst/>
            <a:rect l="l" t="t" r="r" b="b"/>
            <a:pathLst>
              <a:path w="264" h="624">
                <a:moveTo>
                  <a:pt x="264" y="0"/>
                </a:moveTo>
                <a:cubicBezTo>
                  <a:pt x="212" y="16"/>
                  <a:pt x="160" y="32"/>
                  <a:pt x="120" y="96"/>
                </a:cubicBezTo>
                <a:cubicBezTo>
                  <a:pt x="80" y="160"/>
                  <a:pt x="0" y="296"/>
                  <a:pt x="24" y="384"/>
                </a:cubicBezTo>
                <a:cubicBezTo>
                  <a:pt x="48" y="472"/>
                  <a:pt x="156" y="548"/>
                  <a:pt x="264" y="624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91320" y="5257800"/>
            <a:ext cx="38088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10280" y="4648320"/>
            <a:ext cx="762120" cy="838080"/>
          </a:xfrm>
          <a:custGeom>
            <a:avLst/>
            <a:gdLst/>
            <a:ahLst/>
            <a:rect l="l" t="t" r="r" b="b"/>
            <a:pathLst>
              <a:path w="480" h="528">
                <a:moveTo>
                  <a:pt x="480" y="528"/>
                </a:moveTo>
                <a:cubicBezTo>
                  <a:pt x="456" y="484"/>
                  <a:pt x="432" y="440"/>
                  <a:pt x="384" y="384"/>
                </a:cubicBezTo>
                <a:cubicBezTo>
                  <a:pt x="336" y="328"/>
                  <a:pt x="256" y="256"/>
                  <a:pt x="192" y="192"/>
                </a:cubicBezTo>
                <a:cubicBezTo>
                  <a:pt x="128" y="128"/>
                  <a:pt x="64" y="64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6781320" y="4419720"/>
            <a:ext cx="30492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63244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rontogenesis and EP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62164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geostrophic Wind and Upward Vertical Mo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2895480" y="1143000"/>
            <a:ext cx="3200400" cy="2538360"/>
          </a:xfrm>
          <a:prstGeom prst="rect">
            <a:avLst/>
          </a:prstGeom>
          <a:ln w="9360">
            <a:solidFill>
              <a:srgbClr val="000514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4648320" y="1905120"/>
            <a:ext cx="304560" cy="30456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95480" y="5638680"/>
            <a:ext cx="304920" cy="30492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467480" y="5638680"/>
            <a:ext cx="304920" cy="30492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2952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ormal to the snow b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Times New Roman"/>
              </a:rPr>
              <a:t>0600 UTC 16 February RUC-II Model Sounding and Hodogra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867280" y="1371600"/>
            <a:ext cx="2897280" cy="2173320"/>
          </a:xfrm>
          <a:prstGeom prst="rect">
            <a:avLst/>
          </a:prstGeom>
          <a:ln w="9360">
            <a:solidFill>
              <a:srgbClr val="000514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4883400" cy="4419360"/>
          </a:xfrm>
          <a:prstGeom prst="rect">
            <a:avLst/>
          </a:prstGeom>
          <a:ln w="9360">
            <a:solidFill>
              <a:srgbClr val="000514"/>
            </a:solidFill>
            <a:miter/>
          </a:ln>
        </p:spPr>
      </p:pic>
      <p:sp>
        <p:nvSpPr>
          <p:cNvPr id="200" name=""/>
          <p:cNvSpPr/>
          <p:nvPr/>
        </p:nvSpPr>
        <p:spPr>
          <a:xfrm>
            <a:off x="2057400" y="6248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eoria, 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29200" y="3276720"/>
            <a:ext cx="381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articular sounding favors mesoscale snowbands (Banacos 2003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ol point or weak wind region in the same area of maximum frontogen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01680" y="1219320"/>
            <a:ext cx="85406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egion of 1000-500 hPa mean RH &gt;80% covered the area during the time of heaviest snowf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nsity of the mid-level frontogenesis was weak   (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0.6 K 100 k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3 h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ajor contributing vector frontogenesis component for the banded structure of the snowfall was 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tability was mainly WSS over the area of banded snowf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nowfall was associated with a low-level northeasterly flow, which maintained a cold sometimes very shallow, stable lower tropospheric lay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52280"/>
            <a:ext cx="854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04920" y="1752480"/>
            <a:ext cx="85406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per-level divergence was associated with an area that was essentially an entrance region of an ULJ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ten the only surface feature near the snowfall is an inverted troug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ten a southerly LLJ was not directly associated with the area of snowf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rowal did not appear, diagnostically, to be a contributor to the snowf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152280"/>
            <a:ext cx="8540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Introduction Continued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)  Socio-economical Impa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79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822960" indent="-4114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74% of the National Highway System is in the nation’s snow bel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22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822960" indent="-4114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69% of the U.S. population live in regions that normally receive more than five inches of snowfall each yea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22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822960" indent="-4114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8% of all highway crashes and 19% of all fatalities are directly or indirectly related to adverse weather condition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22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822960" indent="-4114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eather-related crashes have an estimated annual economic impact of nearly 42 bill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22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822960" indent="-4114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ity, county, and state highway maintenance agencies spend 2.1 billion per year to treat snow and ice on roadway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22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22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Weather Information for Surface Transportation (2002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01680" y="228600"/>
            <a:ext cx="8540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Times New Roman"/>
              </a:rPr>
              <a:t>Conclu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nceptual model presented has illustrated unique environmental patterns while linking the critical processes in a three-dimensional construct for meso-beta snow bands accompanied by weak cyclogenesi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s conceptual model, along with the forecasters vast experience, can be used intelligently in an operational sett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s research is supported by NOAA CSTAR under award number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03-NWS468001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would like to thank Ron Przybylinski for his help in providing a list of potential case studies, his support, and helpfulness throughout this investig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"/>
          <p:cNvSpPr/>
          <p:nvPr/>
        </p:nvSpPr>
        <p:spPr>
          <a:xfrm>
            <a:off x="301680" y="228600"/>
            <a:ext cx="8540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Times New Roman"/>
              </a:rPr>
              <a:t>Acknowledg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Have A Great Afternoon!!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s presentation will be available on the web in an easily downloadable zip format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eas.slu.edu/CIPS/Presentations.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act information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paddockm@eas.slu.ed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Questions / Comments 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6294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What happens during snowfall of any amount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019560" cy="4539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705720" y="5943600"/>
            <a:ext cx="24382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Gridlock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Times New Roman"/>
              </a:rPr>
              <a:t>Method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1680" y="1219320"/>
            <a:ext cx="85406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and Analysis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pid Update Cycle (RUC)-II (80 km resolutio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chived surface and upperair data in-ho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MPAK and SLUbrew – used to display dynamical and thermodynamical parameters from RUC-II, upperair, and surface da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OP snowfall and WSR-88D data, obtained from NCDC and UCAR, were used to determine location, orientation, intensity, and movement of the snow b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ES-8 IR and WV data from SSEC were used to identify regions of moisture, dry air, and radiative temperatures. Viewed on NAWIPS softwa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0"/>
            <a:ext cx="854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Times New Roman"/>
              </a:rPr>
              <a:t>Methodology Continu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762120"/>
            <a:ext cx="854064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, 15-16, 23, and 26 February 2003 banded snow events were chosen on the following bas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a surface circulation was present, the lowest pressure during the peak intensity was 1006 hPa or grea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 850 hPa, the system was clos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ten an open wave at 700 hP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ppler radar depicted banded snow and determined the peak intensity of the ev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nowfall amounts less than 10 inches in a 24-h period from light snowf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ly one case will be shown, 15-16 February 200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e time periods were examined extensively (the peak intensity of the event, 6-, and 12-h prior to the peak intensity) to illustrate the evolution of key 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ing these four cases along with collaboration with the St. Louis, MO, National Weather Service Forecast Office, a conceptual model was developed using key para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Key Parameters: Frontogenesi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676520"/>
            <a:ext cx="419400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d as the change of the potential temperature gradient following a parcel along the fl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esponse is a direct thermal circulation (DTC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hances snowfall by increasing upward vertical mo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nowfall is found on the warm side of the frontogenesis axis (upward branch of the DTC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47246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Key Parameters: Vector Frontogene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>
            <a:lum contrast="12000"/>
          </a:blip>
          <a:srcRect l="0" t="5642" r="0" b="0"/>
          <a:stretch/>
        </p:blipFill>
        <p:spPr>
          <a:xfrm>
            <a:off x="4114800" y="1295280"/>
            <a:ext cx="4879800" cy="3783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343400" y="533412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eyser et al. (1988, MWR) and Augustine and Caracena (1994, WA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609480"/>
            <a:ext cx="388620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s the magnitude component, oriented normal to the potential temperature gradient.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s associated with frontal scale circulations (Keyser et al. 1988, 199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 the directional component, oriented parallel to the potential temperature gradient.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 associated with circulations on the scale of synoptic disturbances (Keyser et al. 1988, 1992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banded nature of the mesoscale bands is more closely related to the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mponent than the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mponent (Banacos 2003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7881" r="0" b="0"/>
          <a:stretch/>
        </p:blipFill>
        <p:spPr>
          <a:xfrm>
            <a:off x="4648320" y="3733920"/>
            <a:ext cx="4343400" cy="2989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Key Parameters: Symmetric Inst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066680"/>
            <a:ext cx="44956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oth weak symmetric stability (WSS) and conditional symmetric instability (CSI) can enhance narrow, banded snowf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SI is diagnosed in regions where absolute geostrophic momentum (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surfaces are flatter than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urfa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S is diagnosed in regions wher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rfaces are parallel to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urfa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ivalent potential vorticity (EPV) is a way of measuring CSI (EPV&lt;0) and WSS (.25&gt;EPV&gt;0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duction of EPV occurs when the dry tongue jet overlays the CCB causing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urfaces to increase in slo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648320" y="762120"/>
            <a:ext cx="4329000" cy="2939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696080" y="6324480"/>
            <a:ext cx="1311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0507"/>
                </a:solidFill>
                <a:latin typeface="Tahoma"/>
              </a:rPr>
              <a:t>Nicosia and Grumm (1999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848720" y="3505320"/>
            <a:ext cx="1143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0507"/>
                </a:solidFill>
                <a:latin typeface="Tahoma"/>
              </a:rPr>
              <a:t>Nolan-Moo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3:34Z</dcterms:created>
  <dc:creator> Mike</dc:creator>
  <dc:description/>
  <dc:language>en-US</dc:language>
  <cp:lastModifiedBy> Mike</cp:lastModifiedBy>
  <dcterms:modified xsi:type="dcterms:W3CDTF">2005-10-19T21:52:27Z</dcterms:modified>
  <cp:revision>21</cp:revision>
  <dc:subject/>
  <dc:title>Slide 1</dc:title>
</cp:coreProperties>
</file>