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12.png" ContentType="image/png"/>
  <Override PartName="/ppt/media/image32.png" ContentType="image/png"/>
  <Override PartName="/ppt/media/image4.png" ContentType="image/png"/>
  <Override PartName="/ppt/media/image27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C7E5-4CBF-4BF1-93C0-1CBDCDC4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ABFE-5BD1-4508-8AEB-0070B1B9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DDBB-A32C-4400-8DEF-4C5D384C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7F7-E939-4CA7-BC45-0D4061C2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0F30-D2EF-4E3D-B16B-674FD9E2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3ADC-7D04-46D7-9E9B-9702063F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587-A17A-48EA-9883-DB65D555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161E-36D9-405B-B66F-E07E4302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AA4-9173-4F98-912A-C3A50748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A8E-C3C5-44D0-B124-01089BEB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3157-B551-472A-BE11-8BF05AC4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D1E4-CD28-4058-8BF8-07263874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9532-D81D-4A4F-A9D4-CB1045C3E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stream Analysis Conducive to Production of Heavy Banded Snowfall: A Numerical Simulation of the 26-27 November 2001 Snowst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1640" y="2437920"/>
            <a:ext cx="44197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 Ng**, James T. Moore*, and Charles E. Grave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tropolitan State College of Denver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partment of Earth and Atmospheric Scienc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int Louis University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operative Institute for Precipit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2361600"/>
            <a:ext cx="2438640" cy="1958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43000" y="62485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9528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5181480"/>
            <a:ext cx="4343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ational Weather Association's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30th Annual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5 - 20 October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920" y="4724280"/>
            <a:ext cx="1904760" cy="1295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86000" y="4876920"/>
            <a:ext cx="2438280" cy="1066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1285920"/>
            <a:ext cx="7134120" cy="5419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152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mains used for MM5 Model for 26-27 November 2001 Winter Storm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1160" y="75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s About This Ev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orm produced a long, narrow swath of &gt; 10 in. of snowfall stretching from western NE to northern WI in a 48-h perio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dded areas of ≥ 20 in. were observed over north-central NE and central M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half-width of the snowband was measured to be approximately 80 k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st central pressure was observed at 0600 UTC 26 November 2001 (997.9 hPa) along with a surface occluded 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26646" t="18314" r="26756" b="17651"/>
          <a:stretch/>
        </p:blipFill>
        <p:spPr>
          <a:xfrm>
            <a:off x="1295280" y="685800"/>
            <a:ext cx="642960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52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face Analysis for 1200 UTC 26 November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52680" y="3189240"/>
            <a:ext cx="1909800" cy="2579760"/>
          </a:xfrm>
          <a:custGeom>
            <a:avLst/>
            <a:gdLst/>
            <a:ahLst/>
            <a:rect l="l" t="t" r="r" b="b"/>
            <a:pathLst>
              <a:path w="1203" h="1625">
                <a:moveTo>
                  <a:pt x="1082" y="0"/>
                </a:moveTo>
                <a:cubicBezTo>
                  <a:pt x="1093" y="23"/>
                  <a:pt x="1133" y="40"/>
                  <a:pt x="1151" y="141"/>
                </a:cubicBezTo>
                <a:cubicBezTo>
                  <a:pt x="1169" y="242"/>
                  <a:pt x="1203" y="462"/>
                  <a:pt x="1193" y="607"/>
                </a:cubicBezTo>
                <a:cubicBezTo>
                  <a:pt x="1183" y="752"/>
                  <a:pt x="1126" y="905"/>
                  <a:pt x="1091" y="1013"/>
                </a:cubicBezTo>
                <a:cubicBezTo>
                  <a:pt x="1056" y="1121"/>
                  <a:pt x="1059" y="1162"/>
                  <a:pt x="983" y="1256"/>
                </a:cubicBezTo>
                <a:cubicBezTo>
                  <a:pt x="907" y="1350"/>
                  <a:pt x="763" y="1525"/>
                  <a:pt x="632" y="1575"/>
                </a:cubicBezTo>
                <a:cubicBezTo>
                  <a:pt x="501" y="1625"/>
                  <a:pt x="296" y="1566"/>
                  <a:pt x="191" y="1556"/>
                </a:cubicBezTo>
                <a:cubicBezTo>
                  <a:pt x="86" y="1546"/>
                  <a:pt x="40" y="1524"/>
                  <a:pt x="0" y="151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84640" y="3138480"/>
            <a:ext cx="1301760" cy="484200"/>
          </a:xfrm>
          <a:custGeom>
            <a:avLst/>
            <a:gdLst/>
            <a:ahLst/>
            <a:rect l="l" t="t" r="r" b="b"/>
            <a:pathLst>
              <a:path w="820" h="305">
                <a:moveTo>
                  <a:pt x="0" y="15"/>
                </a:moveTo>
                <a:cubicBezTo>
                  <a:pt x="33" y="12"/>
                  <a:pt x="135" y="0"/>
                  <a:pt x="197" y="5"/>
                </a:cubicBezTo>
                <a:cubicBezTo>
                  <a:pt x="259" y="10"/>
                  <a:pt x="317" y="25"/>
                  <a:pt x="370" y="44"/>
                </a:cubicBezTo>
                <a:cubicBezTo>
                  <a:pt x="423" y="63"/>
                  <a:pt x="472" y="89"/>
                  <a:pt x="520" y="119"/>
                </a:cubicBezTo>
                <a:cubicBezTo>
                  <a:pt x="568" y="149"/>
                  <a:pt x="614" y="189"/>
                  <a:pt x="664" y="221"/>
                </a:cubicBezTo>
                <a:cubicBezTo>
                  <a:pt x="714" y="252"/>
                  <a:pt x="787" y="288"/>
                  <a:pt x="820" y="3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3143160"/>
            <a:ext cx="304920" cy="133560"/>
          </a:xfrm>
          <a:custGeom>
            <a:avLst/>
            <a:gdLst/>
            <a:ahLst/>
            <a:rect l="l" t="t" r="r" b="b"/>
            <a:pathLst>
              <a:path w="192" h="84">
                <a:moveTo>
                  <a:pt x="0" y="84"/>
                </a:moveTo>
                <a:cubicBezTo>
                  <a:pt x="10" y="72"/>
                  <a:pt x="34" y="24"/>
                  <a:pt x="59" y="12"/>
                </a:cubicBezTo>
                <a:cubicBezTo>
                  <a:pt x="84" y="0"/>
                  <a:pt x="125" y="8"/>
                  <a:pt x="147" y="12"/>
                </a:cubicBezTo>
                <a:cubicBezTo>
                  <a:pt x="169" y="16"/>
                  <a:pt x="183" y="31"/>
                  <a:pt x="192" y="36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36960" y="1905120"/>
            <a:ext cx="863640" cy="647640"/>
          </a:xfrm>
          <a:custGeom>
            <a:avLst/>
            <a:gdLst/>
            <a:ahLst/>
            <a:rect l="l" t="t" r="r" b="b"/>
            <a:pathLst>
              <a:path w="544" h="408">
                <a:moveTo>
                  <a:pt x="448" y="48"/>
                </a:moveTo>
                <a:cubicBezTo>
                  <a:pt x="472" y="80"/>
                  <a:pt x="544" y="136"/>
                  <a:pt x="496" y="192"/>
                </a:cubicBezTo>
                <a:cubicBezTo>
                  <a:pt x="448" y="248"/>
                  <a:pt x="240" y="360"/>
                  <a:pt x="160" y="384"/>
                </a:cubicBezTo>
                <a:cubicBezTo>
                  <a:pt x="80" y="408"/>
                  <a:pt x="32" y="368"/>
                  <a:pt x="16" y="336"/>
                </a:cubicBezTo>
                <a:cubicBezTo>
                  <a:pt x="0" y="304"/>
                  <a:pt x="40" y="240"/>
                  <a:pt x="64" y="192"/>
                </a:cubicBezTo>
                <a:cubicBezTo>
                  <a:pt x="88" y="144"/>
                  <a:pt x="112" y="80"/>
                  <a:pt x="160" y="48"/>
                </a:cubicBezTo>
                <a:cubicBezTo>
                  <a:pt x="208" y="16"/>
                  <a:pt x="304" y="0"/>
                  <a:pt x="352" y="0"/>
                </a:cubicBezTo>
                <a:cubicBezTo>
                  <a:pt x="400" y="0"/>
                  <a:pt x="424" y="16"/>
                  <a:pt x="448" y="48"/>
                </a:cubicBezTo>
                <a:close/>
              </a:path>
            </a:pathLst>
          </a:custGeom>
          <a:blipFill rotWithShape="0">
            <a:blip r:embed="rId2">
              <a:alphaModFix amt="28000"/>
            </a:blip>
            <a:srcRect/>
            <a:tile tx="0" ty="0" sx="100000" sy="100000" algn="ctr"/>
          </a:blipFill>
          <a:ln cap="rnd" w="50760">
            <a:solidFill>
              <a:srgbClr val="3366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8-h snowfall analysis ending on 12 UTC 27 November 2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65240" y="709560"/>
            <a:ext cx="7013520" cy="599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 flipV="1">
            <a:off x="1676520" y="2476440"/>
            <a:ext cx="5333760" cy="28195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971800"/>
            <a:ext cx="685800" cy="129528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1704960"/>
            <a:ext cx="98748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1876320"/>
            <a:ext cx="987480" cy="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1600200"/>
            <a:ext cx="11430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Major Ax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Minor Ax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859520" cy="519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979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M5 surface analysis; 21-h forecast valid at 1500 UTC 26 November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3340080"/>
            <a:ext cx="304560" cy="88920"/>
          </a:xfrm>
          <a:custGeom>
            <a:avLst/>
            <a:gdLst/>
            <a:ahLst/>
            <a:rect l="l" t="t" r="r" b="b"/>
            <a:pathLst>
              <a:path w="192" h="56">
                <a:moveTo>
                  <a:pt x="0" y="56"/>
                </a:moveTo>
                <a:cubicBezTo>
                  <a:pt x="12" y="36"/>
                  <a:pt x="24" y="16"/>
                  <a:pt x="48" y="8"/>
                </a:cubicBezTo>
                <a:cubicBezTo>
                  <a:pt x="72" y="0"/>
                  <a:pt x="120" y="0"/>
                  <a:pt x="144" y="8"/>
                </a:cubicBezTo>
                <a:cubicBezTo>
                  <a:pt x="168" y="16"/>
                  <a:pt x="180" y="36"/>
                  <a:pt x="192" y="56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3429000"/>
            <a:ext cx="2361960" cy="1943280"/>
          </a:xfrm>
          <a:custGeom>
            <a:avLst/>
            <a:gdLst/>
            <a:ahLst/>
            <a:rect l="l" t="t" r="r" b="b"/>
            <a:pathLst>
              <a:path w="1488" h="1224">
                <a:moveTo>
                  <a:pt x="1488" y="0"/>
                </a:moveTo>
                <a:cubicBezTo>
                  <a:pt x="1484" y="88"/>
                  <a:pt x="1480" y="176"/>
                  <a:pt x="1440" y="336"/>
                </a:cubicBezTo>
                <a:cubicBezTo>
                  <a:pt x="1400" y="496"/>
                  <a:pt x="1376" y="816"/>
                  <a:pt x="1248" y="960"/>
                </a:cubicBezTo>
                <a:cubicBezTo>
                  <a:pt x="1120" y="1104"/>
                  <a:pt x="880" y="1176"/>
                  <a:pt x="672" y="1200"/>
                </a:cubicBezTo>
                <a:cubicBezTo>
                  <a:pt x="464" y="1224"/>
                  <a:pt x="232" y="1164"/>
                  <a:pt x="0" y="11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3429000"/>
            <a:ext cx="1371600" cy="177840"/>
          </a:xfrm>
          <a:custGeom>
            <a:avLst/>
            <a:gdLst/>
            <a:ahLst/>
            <a:rect l="l" t="t" r="r" b="b"/>
            <a:pathLst>
              <a:path w="864" h="112">
                <a:moveTo>
                  <a:pt x="0" y="0"/>
                </a:moveTo>
                <a:cubicBezTo>
                  <a:pt x="80" y="40"/>
                  <a:pt x="160" y="80"/>
                  <a:pt x="240" y="96"/>
                </a:cubicBezTo>
                <a:cubicBezTo>
                  <a:pt x="320" y="112"/>
                  <a:pt x="376" y="104"/>
                  <a:pt x="480" y="96"/>
                </a:cubicBezTo>
                <a:cubicBezTo>
                  <a:pt x="584" y="88"/>
                  <a:pt x="724" y="68"/>
                  <a:pt x="864" y="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7139" r="0" b="0"/>
          <a:stretch/>
        </p:blipFill>
        <p:spPr>
          <a:xfrm>
            <a:off x="990720" y="1036800"/>
            <a:ext cx="7315200" cy="5821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95280" y="15228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-h Precipitation Forecast ending                            1200 UTC 27 November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200400" y="2514600"/>
            <a:ext cx="3733920" cy="23623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3581280"/>
            <a:ext cx="457200" cy="68580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1400040"/>
            <a:ext cx="98748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1571760"/>
            <a:ext cx="987480" cy="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295280"/>
            <a:ext cx="11430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Major Ax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Minor Ax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6914" r="0" b="0"/>
          <a:stretch/>
        </p:blipFill>
        <p:spPr>
          <a:xfrm>
            <a:off x="838080" y="838080"/>
            <a:ext cx="7620120" cy="5943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90720" y="0"/>
            <a:ext cx="7315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0 hP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-R Streamlines valid                                 1500 UTC 26 November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2948040"/>
            <a:ext cx="1460520" cy="2766960"/>
          </a:xfrm>
          <a:custGeom>
            <a:avLst/>
            <a:gdLst/>
            <a:ahLst/>
            <a:rect l="l" t="t" r="r" b="b"/>
            <a:pathLst>
              <a:path w="920" h="1743">
                <a:moveTo>
                  <a:pt x="0" y="207"/>
                </a:moveTo>
                <a:cubicBezTo>
                  <a:pt x="27" y="184"/>
                  <a:pt x="110" y="100"/>
                  <a:pt x="163" y="71"/>
                </a:cubicBezTo>
                <a:cubicBezTo>
                  <a:pt x="216" y="42"/>
                  <a:pt x="261" y="40"/>
                  <a:pt x="321" y="30"/>
                </a:cubicBezTo>
                <a:cubicBezTo>
                  <a:pt x="381" y="20"/>
                  <a:pt x="456" y="0"/>
                  <a:pt x="522" y="13"/>
                </a:cubicBezTo>
                <a:cubicBezTo>
                  <a:pt x="588" y="26"/>
                  <a:pt x="674" y="59"/>
                  <a:pt x="720" y="111"/>
                </a:cubicBezTo>
                <a:cubicBezTo>
                  <a:pt x="766" y="163"/>
                  <a:pt x="777" y="252"/>
                  <a:pt x="797" y="322"/>
                </a:cubicBezTo>
                <a:cubicBezTo>
                  <a:pt x="817" y="392"/>
                  <a:pt x="828" y="445"/>
                  <a:pt x="839" y="530"/>
                </a:cubicBezTo>
                <a:cubicBezTo>
                  <a:pt x="850" y="615"/>
                  <a:pt x="852" y="709"/>
                  <a:pt x="864" y="831"/>
                </a:cubicBezTo>
                <a:cubicBezTo>
                  <a:pt x="876" y="953"/>
                  <a:pt x="904" y="1135"/>
                  <a:pt x="912" y="1263"/>
                </a:cubicBezTo>
                <a:cubicBezTo>
                  <a:pt x="920" y="1391"/>
                  <a:pt x="912" y="1519"/>
                  <a:pt x="912" y="1599"/>
                </a:cubicBezTo>
                <a:cubicBezTo>
                  <a:pt x="912" y="1679"/>
                  <a:pt x="912" y="1711"/>
                  <a:pt x="912" y="1743"/>
                </a:cubicBezTo>
              </a:path>
            </a:pathLst>
          </a:custGeom>
          <a:noFill/>
          <a:ln w="50760">
            <a:solidFill>
              <a:srgbClr val="00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6248520"/>
            <a:ext cx="2590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 = 13.0 m/s at 230.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5086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90720" y="1681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-500 hPa layer-averaged pseudo-water vapor imagery valid 1500 UTC 26 November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87720" y="3219480"/>
            <a:ext cx="2590560" cy="790560"/>
          </a:xfrm>
          <a:custGeom>
            <a:avLst/>
            <a:gdLst/>
            <a:ahLst/>
            <a:rect l="l" t="t" r="r" b="b"/>
            <a:pathLst>
              <a:path w="1632" h="498">
                <a:moveTo>
                  <a:pt x="0" y="48"/>
                </a:moveTo>
                <a:cubicBezTo>
                  <a:pt x="60" y="100"/>
                  <a:pt x="123" y="146"/>
                  <a:pt x="192" y="192"/>
                </a:cubicBezTo>
                <a:cubicBezTo>
                  <a:pt x="261" y="238"/>
                  <a:pt x="326" y="279"/>
                  <a:pt x="416" y="326"/>
                </a:cubicBezTo>
                <a:cubicBezTo>
                  <a:pt x="506" y="373"/>
                  <a:pt x="618" y="446"/>
                  <a:pt x="730" y="472"/>
                </a:cubicBezTo>
                <a:cubicBezTo>
                  <a:pt x="842" y="498"/>
                  <a:pt x="974" y="497"/>
                  <a:pt x="1087" y="480"/>
                </a:cubicBezTo>
                <a:cubicBezTo>
                  <a:pt x="1200" y="463"/>
                  <a:pt x="1329" y="410"/>
                  <a:pt x="1408" y="370"/>
                </a:cubicBezTo>
                <a:cubicBezTo>
                  <a:pt x="1487" y="330"/>
                  <a:pt x="1530" y="279"/>
                  <a:pt x="1563" y="239"/>
                </a:cubicBezTo>
                <a:cubicBezTo>
                  <a:pt x="1596" y="199"/>
                  <a:pt x="1594" y="169"/>
                  <a:pt x="1605" y="129"/>
                </a:cubicBezTo>
                <a:cubicBezTo>
                  <a:pt x="1616" y="89"/>
                  <a:pt x="1627" y="27"/>
                  <a:pt x="1632" y="0"/>
                </a:cubicBezTo>
              </a:path>
            </a:pathLst>
          </a:custGeom>
          <a:noFill/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71440" y="3081600"/>
            <a:ext cx="13680" cy="151920"/>
          </a:xfrm>
          <a:prstGeom prst="line">
            <a:avLst/>
          </a:prstGeom>
          <a:ln w="63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5608800" cy="5943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0-500 hPa layer-averaged EPV and RH valid 1500 UTC 26 November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8280" y="2117880"/>
            <a:ext cx="2416320" cy="44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Green shading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H &gt; 7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d line: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PV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0.25 PV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lue dashed line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PV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0.25 PV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PV = 0 PV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eavy Red Dashed Lin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700 hP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xis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3614760"/>
            <a:ext cx="1460520" cy="2766960"/>
          </a:xfrm>
          <a:custGeom>
            <a:avLst/>
            <a:gdLst/>
            <a:ahLst/>
            <a:rect l="l" t="t" r="r" b="b"/>
            <a:pathLst>
              <a:path w="920" h="1743">
                <a:moveTo>
                  <a:pt x="0" y="207"/>
                </a:moveTo>
                <a:cubicBezTo>
                  <a:pt x="27" y="184"/>
                  <a:pt x="110" y="100"/>
                  <a:pt x="163" y="71"/>
                </a:cubicBezTo>
                <a:cubicBezTo>
                  <a:pt x="216" y="42"/>
                  <a:pt x="261" y="40"/>
                  <a:pt x="321" y="30"/>
                </a:cubicBezTo>
                <a:cubicBezTo>
                  <a:pt x="381" y="20"/>
                  <a:pt x="456" y="0"/>
                  <a:pt x="522" y="13"/>
                </a:cubicBezTo>
                <a:cubicBezTo>
                  <a:pt x="588" y="26"/>
                  <a:pt x="674" y="59"/>
                  <a:pt x="720" y="111"/>
                </a:cubicBezTo>
                <a:cubicBezTo>
                  <a:pt x="766" y="163"/>
                  <a:pt x="777" y="252"/>
                  <a:pt x="797" y="322"/>
                </a:cubicBezTo>
                <a:cubicBezTo>
                  <a:pt x="817" y="392"/>
                  <a:pt x="828" y="445"/>
                  <a:pt x="839" y="530"/>
                </a:cubicBezTo>
                <a:cubicBezTo>
                  <a:pt x="850" y="615"/>
                  <a:pt x="852" y="709"/>
                  <a:pt x="864" y="831"/>
                </a:cubicBezTo>
                <a:cubicBezTo>
                  <a:pt x="876" y="953"/>
                  <a:pt x="904" y="1135"/>
                  <a:pt x="912" y="1263"/>
                </a:cubicBezTo>
                <a:cubicBezTo>
                  <a:pt x="920" y="1391"/>
                  <a:pt x="912" y="1519"/>
                  <a:pt x="912" y="1599"/>
                </a:cubicBezTo>
                <a:cubicBezTo>
                  <a:pt x="912" y="1679"/>
                  <a:pt x="912" y="1711"/>
                  <a:pt x="912" y="1743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897520" cy="6172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95280" y="763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0-600 hPa layer-averaged frontogenesis valid 1500 UTC 26 November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3200400"/>
            <a:ext cx="1981080" cy="685800"/>
          </a:xfrm>
          <a:custGeom>
            <a:avLst/>
            <a:gdLst/>
            <a:ahLst/>
            <a:rect l="l" t="t" r="r" b="b"/>
            <a:pathLst>
              <a:path w="1248" h="432">
                <a:moveTo>
                  <a:pt x="0" y="432"/>
                </a:moveTo>
                <a:cubicBezTo>
                  <a:pt x="17" y="428"/>
                  <a:pt x="64" y="421"/>
                  <a:pt x="104" y="405"/>
                </a:cubicBezTo>
                <a:cubicBezTo>
                  <a:pt x="144" y="389"/>
                  <a:pt x="183" y="376"/>
                  <a:pt x="240" y="336"/>
                </a:cubicBezTo>
                <a:cubicBezTo>
                  <a:pt x="297" y="296"/>
                  <a:pt x="388" y="211"/>
                  <a:pt x="447" y="163"/>
                </a:cubicBezTo>
                <a:cubicBezTo>
                  <a:pt x="506" y="115"/>
                  <a:pt x="557" y="70"/>
                  <a:pt x="597" y="46"/>
                </a:cubicBezTo>
                <a:cubicBezTo>
                  <a:pt x="637" y="22"/>
                  <a:pt x="635" y="28"/>
                  <a:pt x="689" y="21"/>
                </a:cubicBezTo>
                <a:cubicBezTo>
                  <a:pt x="743" y="14"/>
                  <a:pt x="857" y="7"/>
                  <a:pt x="922" y="4"/>
                </a:cubicBezTo>
                <a:cubicBezTo>
                  <a:pt x="987" y="1"/>
                  <a:pt x="1027" y="5"/>
                  <a:pt x="1081" y="4"/>
                </a:cubicBezTo>
                <a:cubicBezTo>
                  <a:pt x="1135" y="3"/>
                  <a:pt x="1213" y="1"/>
                  <a:pt x="1248" y="0"/>
                </a:cubicBezTo>
              </a:path>
            </a:pathLst>
          </a:custGeom>
          <a:noFill/>
          <a:ln w="507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James T.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Charles E. Gr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Greg E. 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 Przybylin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ty Bax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Richard Wag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AA/C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int Louis University Meteorology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ropolitan State College of Den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3480" y="33480"/>
            <a:ext cx="30906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08760" y="3395520"/>
            <a:ext cx="309096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52320" y="-360"/>
            <a:ext cx="5791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SPLIT-MM5 mode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4-h backward trajectories ending at 1800 UTC 26 November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7080" y="450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250 m AG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3809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4500 m AG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040200" y="1730520"/>
            <a:ext cx="30906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317484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2000 m AG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572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SPLIT-MM5 model forward 24-h trajectories beginning at 18 UTC 25 November 2001 illustrating air parcels within th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arm conveyor bel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0560" cy="502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73440" y="1882800"/>
            <a:ext cx="4570560" cy="498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0" y="51548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  <a:ea typeface="ＭＳ Ｐゴシック"/>
              </a:rPr>
              <a:t>Parcels start at 931 hPa                (500 m AGL, above) and 851 hPa (1250 m AGL, r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24480" y="1676520"/>
            <a:ext cx="2743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SPLIT-MM5 model forward 42-h trajectories beginning at 18 UTC 25 November 2001 illustrating air parcels within th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arm conveyor bel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cels starting 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00 m AGL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931 hP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8156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572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SPLIT-MM5 model forward 24-h trajectories beginning at 18 UTC 25 November 2001 illustrating air parcels within the </a:t>
            </a:r>
            <a:r>
              <a:rPr b="1" lang="en-US" sz="2000" spc="-1" strike="noStrike">
                <a:solidFill>
                  <a:srgbClr val="39d3fa"/>
                </a:solidFill>
                <a:latin typeface="Times New Roman"/>
              </a:rPr>
              <a:t>cold conveyor bel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1548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d3fa"/>
                </a:solidFill>
                <a:latin typeface="Century Gothic"/>
                <a:ea typeface="ＭＳ Ｐゴシック"/>
              </a:rPr>
              <a:t>Parcels start at 922 hPa                (250 m AGL, above) and 812 hPa (1250 m AGL, r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0560" cy="502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84600" y="1787400"/>
            <a:ext cx="4570560" cy="507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24480" y="1676520"/>
            <a:ext cx="2743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SPLIT-MM5 model forward 42-h trajectories beginning at 18 UTC 25 November 2001 illustrating air parcels within the </a:t>
            </a:r>
            <a:r>
              <a:rPr b="1" lang="en-US" sz="2000" spc="-1" strike="noStrike">
                <a:solidFill>
                  <a:srgbClr val="39d3fa"/>
                </a:solidFill>
                <a:latin typeface="Times New Roman"/>
              </a:rPr>
              <a:t>cold conveyor bel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cels starting 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50 m AGL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922 hP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72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572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SPLIT-MM5 model forward 24-h trajectories beginning at 18 UTC 25 November 2001 illustrating air parcels within the </a:t>
            </a:r>
            <a:r>
              <a:rPr b="1" lang="en-US" sz="2000" spc="-1" strike="noStrike">
                <a:solidFill>
                  <a:srgbClr val="996633"/>
                </a:solidFill>
                <a:latin typeface="Times New Roman"/>
              </a:rPr>
              <a:t>dry conveyor bel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3074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entury Gothic"/>
                <a:ea typeface="ＭＳ Ｐゴシック"/>
              </a:rPr>
              <a:t>Parcels start at 3500 m AGL (above) and 2500 m AGL (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0560" cy="507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3440" y="1787400"/>
            <a:ext cx="4570560" cy="507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24480" y="1676520"/>
            <a:ext cx="2743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SPLIT-MM5 model forward 42-h trajectories beginning at 18 UTC 25 November 2001 illustrating air parcels within the </a:t>
            </a:r>
            <a:r>
              <a:rPr b="1" lang="en-US" sz="2000" spc="-1" strike="noStrike">
                <a:solidFill>
                  <a:srgbClr val="996633"/>
                </a:solidFill>
                <a:latin typeface="Times New Roman"/>
              </a:rPr>
              <a:t>dry conveyor bel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cels starting 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500 m AGL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22 - 548 hP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9136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>
            <a:lum contrast="6000"/>
          </a:blip>
          <a:srcRect l="11931" t="16311" r="12811" b="19151"/>
          <a:stretch/>
        </p:blipFill>
        <p:spPr>
          <a:xfrm>
            <a:off x="152280" y="152280"/>
            <a:ext cx="5767560" cy="6400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19920" y="1066680"/>
            <a:ext cx="28191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SPLIT MM5 model forward     24 h trajectories beginning at 18 UTC 25 November 2001 illustrating air parcels within the major conveyor be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9837800">
            <a:off x="4336920" y="2325240"/>
            <a:ext cx="322560" cy="938160"/>
          </a:xfrm>
          <a:prstGeom prst="ellipse">
            <a:avLst/>
          </a:prstGeom>
          <a:noFill/>
          <a:ln w="381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20069400">
            <a:off x="3673440" y="2211120"/>
            <a:ext cx="988920" cy="376200"/>
          </a:xfrm>
          <a:prstGeom prst="ellipse">
            <a:avLst/>
          </a:prstGeom>
          <a:noFill/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 rot="20070000">
            <a:off x="6019560" y="4723200"/>
            <a:ext cx="984240" cy="309600"/>
          </a:xfrm>
          <a:prstGeom prst="ellipse">
            <a:avLst/>
          </a:prstGeom>
          <a:noFill/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4495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ntogenesis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20151600">
            <a:off x="6552720" y="5333760"/>
            <a:ext cx="360360" cy="669960"/>
          </a:xfrm>
          <a:prstGeom prst="ellipse">
            <a:avLst/>
          </a:prstGeom>
          <a:noFill/>
          <a:ln w="381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5410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V &lt;0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968400"/>
            <a:ext cx="88394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branch of the WCB tur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clonic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scends; forms trowal airstream which brings warm, moist air to the NW of the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per branch of the WCB tends to tu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cyclonical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scends, joining the wester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per branch of the DCB turns cyclonically ascending into the ETC circulation – it becomes superimposed over the trowal airstream resulting in an EPV reduction zone NW of trowal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B remains at lower-tropospheric levels as it slowly ascends into the ETC circulation; it do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rise and turn anticyclon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B helps to maintain a cold temperature profile for snow, interacts with lower branch of WCB to create frontogenetical zone NW of ETC, and possibly enhances the isentropic lift of the WCB air parc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71400" y="619200"/>
            <a:ext cx="7801200" cy="5619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023920" y="6324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g (2005) Doctoral Disse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2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sed View of Conveyor Belts Illustrating 3-D De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152280"/>
            <a:ext cx="8610480" cy="66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ortant Processes for Producing Heavy S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 with warm season weather we need to consider three critical factors for the production of heavy precipit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Mois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nst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nter storms typically are accompanied by strong dynamics which produce synoptic-scale lift. So, the forecaster must diagnose/forecast if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ft will become focused through frontogenetical forc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isture will be deep enough to produce ice crystals in a region where the temperature is between -1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-1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C (dendrite formation zone) to increase snow to liquid equivalent rat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ability will be generated to contract and enhance the upward vertical motions (possibly linear bands) on the meso-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20-200 km) sc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lusions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0666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83059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viest precipitation falls on the equatorward side of the maximum frontogenesis axis, to the NW of the trowal axis, and on the northern periphery of the minimum E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to forecast these heavy banded snowfall events, it is suggested that forecas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gnize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atter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ssociated with these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ute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agnitude and orient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f the key ingredients required for the snowfall (e.g., frontogenesis, EPV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derstand the processes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at are creating the banded snowf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24280" y="3021120"/>
            <a:ext cx="5319720" cy="38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19720" cy="385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7543800" y="63705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33544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3492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oposed dynamical conceptual models for heavy banded snowfall in the central United States     3 h prior to the maximum precipitation int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96252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image shows the common synoptic features and bottom figure depicts the mesoscale processes and conveyor be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47184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g (2005) Doctoral Disser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64771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g (2005) Doctoral Disser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1676520"/>
            <a:ext cx="8763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esentation can be viewed at http://clem.mscd.edu/~sng1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further questions please email me or Dr. James Moor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g1@mscd.ed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ore@eas.slu.e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cal Processes Critical to the Production of Heavy Banded Snow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of the TROWAL air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-level frontogenetical cir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tion of stability (decreasing EP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ly deep-layer moisture northwest of the  extratropical cyclone (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f these processes/features are related to the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d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veyor belts – which can be best visualized throug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-relative f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alysis on isentropic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urfaces or atmospheric trajec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52280"/>
            <a:ext cx="8686800" cy="64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a Conveyor Bel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yor be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 ensemble of air parcels having nearly the sam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tes from a common initial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els over synoptic-scale time periods (&gt; 18 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everal hundreds of km wide and several km de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-relative wind and trajectory analysis reveals the existence of sharply-defined boundaries, which differentiate air streams of vastly differing moisture contents containing relatively narrow rang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culiar to the air stream’s orig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ers have identifi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arm conveyor be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ld conveyor be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dry conveyor be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jor Conveyor Be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1640" y="838080"/>
            <a:ext cx="44197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lson (1980) noted that within an ETC there are three major conveyor be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rm conveyor belt (W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d conveyor belt (C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y air stream or conveyor belt (D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hultz (2001) proved that the CCB remained in the lower portion of the troposphere and turns cyclonically around the l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tin (1999a) showed that the WCB will either turn anticyclonically or remain cyclonic around a low depending on the mid-level wind field with respect to the ETC lifecyc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lled the cyclonically turning portion of the WCB as the “trowal airstream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bserved a spatial correlation between the trowal airstream and the trowal structure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5638680"/>
            <a:ext cx="4329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ceptual model of airflow through an extratropical cyclone depicting the different conveyor belts from Carlson (1980) and the new revamped conveyor belt model overlaying on top (Schultz 200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840" y="1185840"/>
            <a:ext cx="4452840" cy="437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nergistic Interaction Between Conveyor Be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cosia and Grumm (1999) showed that the overlapping of the CCB and DCB creates a region of EPV re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fferential moisture advection, as a result of the superpositioning of the conveyor belts, creates a region where EPV is reduc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a EPV tendency equation where EPV reduction is maximized when the gradient vectors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exactly 90º apart,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igned to the right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vy banded snowfall occurs in the area where EPV reduction region and mid-level frontogenesis are collocate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6248520" cy="3635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00800" y="3657600"/>
            <a:ext cx="2362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onceptual model described by Nicosia and Grumm (1999) depicting the frontogenesis region and zone of equivalent potential vorticity reduction within the context of the major components of a developing extratropical cycl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nergistic Interaction Between Conveyor Belts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ger (2002) and Moore et al. (2002, 2004) indicated that the EPV reduction zone is formed as a result of the DCB superpositioned over the WC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d that the EPV reduction zone and mid-level frontogenesis overlap in the vertic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vy banded snowfall formed in between the zones of mesoscale instabili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3480" y="2797200"/>
            <a:ext cx="4538520" cy="349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267080" y="2797200"/>
            <a:ext cx="4826160" cy="349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76320" y="6264360"/>
            <a:ext cx="899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ewly suggested conceptual model of the various heavy snow processes associated with central United States snowstorms in the horizontal (Moore et al. 2002) and vertical cross-section views (Moore et al. 2005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71880" y="3619440"/>
            <a:ext cx="7617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76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thodology for the 26-27 November 2001 Winter Sto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440" y="609480"/>
            <a:ext cx="8991720" cy="60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M5 Sim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d 3 domains of 90 km, 30 km and 10 km grid spacing with 2-way 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8 h simulation at 90 km, 42 h simulations at 30 km and 10 km (6 h after sta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ed with Eta 212 grid and updated every 12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outputted every h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1 vertical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meterizations: Kain-Fritsch 2 with shallow convection option, Goddard microphysics, MRF PBL, multi-layer soil diffusion, CCM2 radiation 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 km grid used for analysis, 10 km grid used for precipitation esti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tion time: 1200 UTC 25 November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YSPLIT Trajectories (from AR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 24 h backward trajectories from area of heaviest precipitation at levels from 50 m to 5000 m to find source regions of three major conveyor be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, ran 24 h forward trajectories from 1800 UTC 25 November 2001 from three source reg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03:18:54Z</dcterms:created>
  <dc:creator>Sam Ng</dc:creator>
  <dc:description/>
  <dc:language>en-US</dc:language>
  <cp:lastModifiedBy>Sam Ng</cp:lastModifiedBy>
  <cp:lastPrinted>2005-10-16T20:57:59Z</cp:lastPrinted>
  <dcterms:modified xsi:type="dcterms:W3CDTF">2005-10-17T05:23:04Z</dcterms:modified>
  <cp:revision>52</cp:revision>
  <dc:subject/>
  <dc:title>The Role of Conveyor Belts in Organizing Processes Associated with Heavy Banded Snowfall</dc:title>
</cp:coreProperties>
</file>