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B1A-2A3F-491A-AC58-DFBA3A4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896-2A00-4622-A11D-8DA56C69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F78-D883-49C1-B6A5-F1D414DD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E56-A902-48BD-AF2F-783F67F8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D0AE-056F-4488-9BD9-E84DB154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6A8-FE8F-4F57-9267-220635D8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084-9100-42BC-B388-E55DCB0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BBCC-6784-4364-9296-40B8131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8210-186A-4698-B085-6211397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F8AC-0DDC-4681-8052-7A8EA1BE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4A3-BABE-4DC7-A381-BDB58B2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7A4-7A3E-499E-8D2F-6691E52C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262A-7036-4CD8-895C-A6918E46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6963-4967-462E-A242-CD2E78A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6E62-D67D-4EAB-B091-09AD0B5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4D25-509F-4D54-88E6-78382CBB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620-4609-4AC3-8D83-69BD576D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987-D49C-4865-88B3-2C22D0C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53C-392D-40AF-B2FF-61D86D0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815-96B5-4956-8193-B481E9C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2B7-6BA8-4E59-9865-EB95833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69B-9292-46ED-99DA-CBEF9B2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F99-2D94-41B8-B51E-DCE4E9D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C8D-9959-43EA-B8FC-0F8B1B4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4D5-DD13-4A2D-B5E8-A44583D9F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3DA-81B3-4BF8-AEA4-373138FBD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A Case Study of a Surprise Elevated Convection Event Over Eastern Missouri: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24-25 July 2004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04960" y="2590920"/>
            <a:ext cx="57150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rtin A. Baxter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ichelle L. Keast-Nachtrab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nd James T. Moo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operative Institute f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ecipitation Syste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Saint Louis Universi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Dept. of Earth and Atmospheric Scien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National Weather Association, 18 October 200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257800" cy="516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74520"/>
            <a:ext cx="914400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Times New Roman"/>
              </a:rPr>
              <a:t>Cloud to Ground Lightning Strikes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Times New Roman"/>
              </a:rPr>
              <a:t>10-20 UTC, 24 July 200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600200"/>
            <a:ext cx="35816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es presence of elevated 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 UTC – 4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 UTC – 1 str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UTC – 2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611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Base Reflectivity – 16:12 to 17:22 U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05720" cy="5826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RHI along 23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16:12 to 17:22 U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40" y="533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000 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8960" y="6400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200" y="4495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00 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143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 dBZ of 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800600"/>
            <a:ext cx="6705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6400800" cy="443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522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of Warm Elevated Storm System Low Level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371600"/>
            <a:ext cx="25909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creases to    No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5-850 mb MCON max North of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LJ “points to” MCS centr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oid centered in area of max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324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oore et al., WAF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6553080" cy="4309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of Warm Elevated Storm System Cross S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193760"/>
            <a:ext cx="25909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inus of the LLJ located on warm side of elevated frontoge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S centroid also present at this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gence associated with jet max not always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172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oore et al., WAF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5243400" cy="5334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76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at 15 UTC 24 July 2004   using RUC Analys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219320"/>
            <a:ext cx="3276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Moore et 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front is aligned  in an east-west 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ON and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ction maxima along 850 mb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LJ points to center of centr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rea of frontoge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right entrance region of upper level 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76320"/>
            <a:ext cx="2890800" cy="327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320" y="2895480"/>
            <a:ext cx="302580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095880" y="2971800"/>
            <a:ext cx="302256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24080" y="3505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gnostic Corfidi V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685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iagnostic Corfidi Vec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457200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wnshear approximation provided best est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ly accu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4956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4956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77120" y="1676520"/>
            <a:ext cx="1295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76320"/>
            <a:ext cx="2971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rfidi V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nostic taken over 3 hrs (15-18 U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inflow for propagation was from 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5257800" cy="402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267080" y="685800"/>
            <a:ext cx="4800600" cy="3508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-31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ources of In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589640"/>
            <a:ext cx="3657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– 300 mb average wind vectors used to determine cell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from the southw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76212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wind vectors used to determine cell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from both S and NE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90960" y="655308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362320"/>
            <a:ext cx="19814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57400" y="4191120"/>
            <a:ext cx="380880" cy="3808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019920" y="2437920"/>
            <a:ext cx="457200" cy="30492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057400"/>
            <a:ext cx="75960" cy="30492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7120" y="1676520"/>
            <a:ext cx="457200" cy="228600"/>
          </a:xfrm>
          <a:prstGeom prst="line">
            <a:avLst/>
          </a:prstGeom>
          <a:ln cap="sq"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86120" y="1143000"/>
            <a:ext cx="5052960" cy="5286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480" y="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e at 15 UTC 24 July 2004         using 00 UTC 24 July 2004 Eta Forec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25440"/>
            <a:ext cx="327672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the same contours used as in observed compo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r area of convection than ob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ntinuous frontoge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rea of negativ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front is too far south and is aligned on a northwest-southeast 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124080" y="1461960"/>
            <a:ext cx="6019920" cy="4481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66680"/>
            <a:ext cx="914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RUC Analysis Cross Section from Little Rock to Des Moines, across the frontal boundary at 15 UTC on 24 July 200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523880"/>
            <a:ext cx="289584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deep area of warm air riding over the frontal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folded showing ins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separate areas of frontogene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e max fgen above 850 mb i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rectly associated with the surface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5486400"/>
            <a:ext cx="0" cy="3808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724280" y="5715000"/>
            <a:ext cx="137160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6172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pproximate area of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581280"/>
            <a:ext cx="4343400" cy="1219320"/>
          </a:xfrm>
          <a:custGeom>
            <a:avLst/>
            <a:gdLst/>
            <a:ahLst/>
            <a:rect l="l" t="t" r="r" b="b"/>
            <a:pathLst>
              <a:path w="2736" h="768">
                <a:moveTo>
                  <a:pt x="0" y="768"/>
                </a:moveTo>
                <a:cubicBezTo>
                  <a:pt x="300" y="732"/>
                  <a:pt x="600" y="696"/>
                  <a:pt x="816" y="672"/>
                </a:cubicBezTo>
                <a:cubicBezTo>
                  <a:pt x="1032" y="648"/>
                  <a:pt x="1144" y="672"/>
                  <a:pt x="1296" y="624"/>
                </a:cubicBezTo>
                <a:cubicBezTo>
                  <a:pt x="1448" y="576"/>
                  <a:pt x="1488" y="488"/>
                  <a:pt x="1728" y="384"/>
                </a:cubicBezTo>
                <a:cubicBezTo>
                  <a:pt x="1968" y="280"/>
                  <a:pt x="2352" y="140"/>
                  <a:pt x="2736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24480" y="3580920"/>
            <a:ext cx="1828800" cy="1219320"/>
          </a:xfrm>
          <a:prstGeom prst="line">
            <a:avLst/>
          </a:prstGeom>
          <a:ln cap="sq"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rm Season QPF Issu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m season QPF threat scores less than those in cold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 with the parameterization of conve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ion and propagation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per representation of the effects of convection can adversely alter the evolution of the model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lev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vection represents a particular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 focus of research; the initiation of this type of convection may be more predictable as its initiation is potentially controlled by the larger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“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urpri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cases will elucidate model deficienc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ving the way for human improvement over the model and for improving the formulation of the model it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Eta forecast Cross Section from Little Rock to Des Moines, across the frontal boundary at 15 UTC on 24 July 2004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05040"/>
            <a:ext cx="26668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shallow area of warm air riding over the frontal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a smaller area of fo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ntogenesis is weaker and more discontinu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90920" y="1322280"/>
            <a:ext cx="6400800" cy="477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343400" y="5943600"/>
            <a:ext cx="137160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400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pproximate area of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962520"/>
            <a:ext cx="3886200" cy="1295280"/>
          </a:xfrm>
          <a:custGeom>
            <a:avLst/>
            <a:gdLst/>
            <a:ahLst/>
            <a:rect l="l" t="t" r="r" b="b"/>
            <a:pathLst>
              <a:path w="2448" h="816">
                <a:moveTo>
                  <a:pt x="0" y="816"/>
                </a:moveTo>
                <a:cubicBezTo>
                  <a:pt x="596" y="744"/>
                  <a:pt x="1192" y="672"/>
                  <a:pt x="1536" y="624"/>
                </a:cubicBezTo>
                <a:cubicBezTo>
                  <a:pt x="1880" y="576"/>
                  <a:pt x="1912" y="632"/>
                  <a:pt x="2064" y="528"/>
                </a:cubicBezTo>
                <a:cubicBezTo>
                  <a:pt x="2216" y="424"/>
                  <a:pt x="2332" y="212"/>
                  <a:pt x="2448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48608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28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 hourly precipitation amounts (in.) at 3 hourly intervals from the 0 UTC run of the Eta Model (03-36 hr forecas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47920"/>
            <a:ext cx="2895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pitation never occurs in Iow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not show any precipitation for St. Lou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not show precipitation north of the northwest-southeast oriented 850 mb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pitation is significantly dela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43200" y="154296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9480" y="3808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76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mparison of Most Unstable vs. Surface CAPE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28195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180 mb most unstable CAPE minus surface based CA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values indicate that air parcels aloft from the lowest 180 mb layer are more unstable then the air parcels at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dicates where convection should be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lev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in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343400" y="31813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105520" y="9907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 indicated max precipitation in the same location as the elevated 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67080"/>
            <a:ext cx="4267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centage of total precipitation that was produced by the convective paramete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ctive area too lar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low percentages associated with precip max should have had the highest portion of convective prec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-76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Did the model accurately depict the convection?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181480" y="26668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5105520"/>
            <a:ext cx="1828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114800" y="29908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-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hr Eta Forecast minus the 18 UTC RUC Analys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838080"/>
            <a:ext cx="4191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0-500 mb R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a Model is too moist in Iow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 dry in Misso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133880"/>
            <a:ext cx="426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R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yness is concentrated in the lower levels over Missouri and Illin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isture in Iowa is more evenly distrib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057400" y="4419720"/>
            <a:ext cx="17524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105520" y="2514600"/>
            <a:ext cx="1295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114800" y="291456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-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hr Eta Forecast minus the 18 UTC RUC Analys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914400"/>
            <a:ext cx="426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– 300 mb winds sp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s no larger then +/-2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22600"/>
            <a:ext cx="4038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– 300 mb wind v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C shown in 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much of a difference, Eta forecast was fairly accurate for upper level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600" y="25909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2670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0" y="333360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hr Eta Forecast minus the 18 UTC RUC Analys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914400"/>
            <a:ext cx="3733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mb wind sp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a is up to 5 m/s too fast in the vicinity of the Eta 850 mb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4267080"/>
            <a:ext cx="434340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850 mb wind vector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UC shown in r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In N. MO, RUC has Northeasterly winds and Eta has Southeasterly wind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is is what is creating the difference in frontogenesi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81480" y="28954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44956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-76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Comparison of 18hr Eta Forecast with the 18 UTC RUC Analysi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457200"/>
            <a:ext cx="38098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UC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aligned in an east-west ax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te inverted trough in 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 deformation zones (N &amp; 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67080"/>
            <a:ext cx="4343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ta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aligned in a northwest-southeast ax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inverted trough in 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formation zones in wrong loc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409720" y="2819520"/>
            <a:ext cx="1143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449568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914400"/>
            <a:ext cx="53352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2438280"/>
            <a:ext cx="53352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5257800"/>
            <a:ext cx="53316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136600"/>
            <a:ext cx="927360" cy="524160"/>
          </a:xfrm>
          <a:custGeom>
            <a:avLst/>
            <a:gdLst/>
            <a:ahLst/>
            <a:rect l="l" t="t" r="r" b="b"/>
            <a:pathLst>
              <a:path w="584" h="330">
                <a:moveTo>
                  <a:pt x="0" y="14"/>
                </a:moveTo>
                <a:cubicBezTo>
                  <a:pt x="72" y="9"/>
                  <a:pt x="144" y="0"/>
                  <a:pt x="216" y="10"/>
                </a:cubicBezTo>
                <a:cubicBezTo>
                  <a:pt x="245" y="20"/>
                  <a:pt x="274" y="26"/>
                  <a:pt x="304" y="34"/>
                </a:cubicBezTo>
                <a:cubicBezTo>
                  <a:pt x="332" y="53"/>
                  <a:pt x="360" y="71"/>
                  <a:pt x="388" y="90"/>
                </a:cubicBezTo>
                <a:cubicBezTo>
                  <a:pt x="396" y="95"/>
                  <a:pt x="404" y="101"/>
                  <a:pt x="412" y="106"/>
                </a:cubicBezTo>
                <a:cubicBezTo>
                  <a:pt x="416" y="109"/>
                  <a:pt x="424" y="114"/>
                  <a:pt x="424" y="114"/>
                </a:cubicBezTo>
                <a:cubicBezTo>
                  <a:pt x="443" y="142"/>
                  <a:pt x="432" y="133"/>
                  <a:pt x="452" y="146"/>
                </a:cubicBezTo>
                <a:cubicBezTo>
                  <a:pt x="465" y="166"/>
                  <a:pt x="456" y="155"/>
                  <a:pt x="484" y="174"/>
                </a:cubicBezTo>
                <a:cubicBezTo>
                  <a:pt x="488" y="177"/>
                  <a:pt x="496" y="182"/>
                  <a:pt x="496" y="182"/>
                </a:cubicBezTo>
                <a:cubicBezTo>
                  <a:pt x="506" y="197"/>
                  <a:pt x="514" y="216"/>
                  <a:pt x="528" y="226"/>
                </a:cubicBezTo>
                <a:cubicBezTo>
                  <a:pt x="541" y="264"/>
                  <a:pt x="566" y="294"/>
                  <a:pt x="584" y="330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29440" y="4495680"/>
            <a:ext cx="720720" cy="938160"/>
          </a:xfrm>
          <a:custGeom>
            <a:avLst/>
            <a:gdLst/>
            <a:ahLst/>
            <a:rect l="l" t="t" r="r" b="b"/>
            <a:pathLst>
              <a:path w="454" h="591">
                <a:moveTo>
                  <a:pt x="0" y="0"/>
                </a:moveTo>
                <a:cubicBezTo>
                  <a:pt x="57" y="43"/>
                  <a:pt x="124" y="68"/>
                  <a:pt x="184" y="108"/>
                </a:cubicBezTo>
                <a:cubicBezTo>
                  <a:pt x="206" y="123"/>
                  <a:pt x="260" y="176"/>
                  <a:pt x="272" y="200"/>
                </a:cubicBezTo>
                <a:cubicBezTo>
                  <a:pt x="285" y="226"/>
                  <a:pt x="299" y="251"/>
                  <a:pt x="320" y="272"/>
                </a:cubicBezTo>
                <a:cubicBezTo>
                  <a:pt x="329" y="298"/>
                  <a:pt x="345" y="320"/>
                  <a:pt x="356" y="344"/>
                </a:cubicBezTo>
                <a:cubicBezTo>
                  <a:pt x="373" y="383"/>
                  <a:pt x="391" y="424"/>
                  <a:pt x="404" y="464"/>
                </a:cubicBezTo>
                <a:cubicBezTo>
                  <a:pt x="415" y="497"/>
                  <a:pt x="426" y="529"/>
                  <a:pt x="440" y="560"/>
                </a:cubicBezTo>
                <a:cubicBezTo>
                  <a:pt x="454" y="591"/>
                  <a:pt x="441" y="577"/>
                  <a:pt x="452" y="588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477120" y="3412800"/>
            <a:ext cx="532800" cy="3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66" y="20555"/>
                </a:moveTo>
                <a:arcTo wR="10800" hR="10800" stAng="6924555" swAng="17983272"/>
                <a:lnTo>
                  <a:pt x="10800" y="10800"/>
                </a:lnTo>
                <a:close/>
              </a:path>
              <a:path fill="none" w="21600" h="21600">
                <a:moveTo>
                  <a:pt x="6166" y="20555"/>
                </a:moveTo>
                <a:arcTo wR="10800" hR="10800" stAng="6924555" swAng="17983272"/>
              </a:path>
            </a:pathLst>
          </a:cu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arison of 18hr GFS Forecast with the 18 UTC RUC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343400"/>
            <a:ext cx="38862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FS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depicted much more accuratel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verted trough and deformation zones more accu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547560"/>
            <a:ext cx="38098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UC 850 mb stream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fluence zone aligned in an east-west ax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te inverted trough in 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 deformation zones (N &amp; 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09720" y="2895480"/>
            <a:ext cx="1143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0400" y="45720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2960" y="2209680"/>
            <a:ext cx="952200" cy="438120"/>
          </a:xfrm>
          <a:custGeom>
            <a:avLst/>
            <a:gdLst/>
            <a:ahLst/>
            <a:rect l="l" t="t" r="r" b="b"/>
            <a:pathLst>
              <a:path w="600" h="276">
                <a:moveTo>
                  <a:pt x="0" y="16"/>
                </a:moveTo>
                <a:cubicBezTo>
                  <a:pt x="32" y="13"/>
                  <a:pt x="58" y="8"/>
                  <a:pt x="88" y="0"/>
                </a:cubicBezTo>
                <a:cubicBezTo>
                  <a:pt x="185" y="4"/>
                  <a:pt x="276" y="9"/>
                  <a:pt x="364" y="48"/>
                </a:cubicBezTo>
                <a:cubicBezTo>
                  <a:pt x="377" y="54"/>
                  <a:pt x="400" y="56"/>
                  <a:pt x="412" y="64"/>
                </a:cubicBezTo>
                <a:cubicBezTo>
                  <a:pt x="430" y="76"/>
                  <a:pt x="457" y="89"/>
                  <a:pt x="472" y="104"/>
                </a:cubicBezTo>
                <a:cubicBezTo>
                  <a:pt x="490" y="122"/>
                  <a:pt x="510" y="141"/>
                  <a:pt x="532" y="156"/>
                </a:cubicBezTo>
                <a:cubicBezTo>
                  <a:pt x="550" y="184"/>
                  <a:pt x="569" y="211"/>
                  <a:pt x="584" y="240"/>
                </a:cubicBezTo>
                <a:cubicBezTo>
                  <a:pt x="588" y="248"/>
                  <a:pt x="592" y="256"/>
                  <a:pt x="596" y="264"/>
                </a:cubicBezTo>
                <a:cubicBezTo>
                  <a:pt x="598" y="268"/>
                  <a:pt x="600" y="276"/>
                  <a:pt x="600" y="276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660920"/>
            <a:ext cx="914400" cy="723960"/>
          </a:xfrm>
          <a:custGeom>
            <a:avLst/>
            <a:gdLst/>
            <a:ahLst/>
            <a:rect l="l" t="t" r="r" b="b"/>
            <a:pathLst>
              <a:path w="576" h="456">
                <a:moveTo>
                  <a:pt x="576" y="456"/>
                </a:moveTo>
                <a:cubicBezTo>
                  <a:pt x="572" y="432"/>
                  <a:pt x="562" y="418"/>
                  <a:pt x="556" y="396"/>
                </a:cubicBezTo>
                <a:cubicBezTo>
                  <a:pt x="548" y="366"/>
                  <a:pt x="546" y="322"/>
                  <a:pt x="528" y="296"/>
                </a:cubicBezTo>
                <a:cubicBezTo>
                  <a:pt x="521" y="285"/>
                  <a:pt x="501" y="262"/>
                  <a:pt x="496" y="248"/>
                </a:cubicBezTo>
                <a:cubicBezTo>
                  <a:pt x="480" y="200"/>
                  <a:pt x="443" y="145"/>
                  <a:pt x="400" y="116"/>
                </a:cubicBezTo>
                <a:cubicBezTo>
                  <a:pt x="385" y="93"/>
                  <a:pt x="364" y="80"/>
                  <a:pt x="340" y="68"/>
                </a:cubicBezTo>
                <a:cubicBezTo>
                  <a:pt x="313" y="55"/>
                  <a:pt x="287" y="36"/>
                  <a:pt x="260" y="24"/>
                </a:cubicBezTo>
                <a:cubicBezTo>
                  <a:pt x="209" y="1"/>
                  <a:pt x="146" y="3"/>
                  <a:pt x="92" y="0"/>
                </a:cubicBezTo>
                <a:cubicBezTo>
                  <a:pt x="61" y="3"/>
                  <a:pt x="31" y="12"/>
                  <a:pt x="0" y="12"/>
                </a:cubicBezTo>
              </a:path>
            </a:pathLst>
          </a:custGeom>
          <a:noFill/>
          <a:ln cap="sq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990720"/>
            <a:ext cx="533520" cy="5331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2438280"/>
            <a:ext cx="53316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5181480"/>
            <a:ext cx="533520" cy="533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552360" y="3412800"/>
            <a:ext cx="533160" cy="3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66" y="20555"/>
                </a:moveTo>
                <a:arcTo wR="10800" hR="10800" stAng="6924555" swAng="17983272"/>
                <a:lnTo>
                  <a:pt x="10800" y="10800"/>
                </a:lnTo>
                <a:close/>
              </a:path>
              <a:path fill="none" w="21600" h="21600">
                <a:moveTo>
                  <a:pt x="6166" y="20555"/>
                </a:moveTo>
                <a:arcTo wR="10800" hR="10800" stAng="6924555" swAng="17983272"/>
              </a:path>
            </a:pathLst>
          </a:cu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57400" y="120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with model QPF was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not on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e to dryness in the low-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model had correctly forecast storm motion (&amp; propagation), low-levels would have moiste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accuracies in the forecast storm motion appear to be due to the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incorrect orientation of the 850 mb frontal bou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Eta forecast, the winds south of the 850 mb front were parallel to the boundary - not beneficial for the downstream propagation of the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 of the forecast errors appear to be due to the incorrect placement of two low-level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eformation z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4495680" cy="42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565360"/>
            <a:ext cx="4267080" cy="406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3808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ar Composite QPE of for a 24 hour period ending                12 UTC 25 JUL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8751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a Model’s 24 h QPF for same time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6095880"/>
            <a:ext cx="1905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105160" y="2209680"/>
            <a:ext cx="19047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57400" y="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difficult to suggest how the forecaster might have determined the Eta forecast was in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recasted strength and placement of large scale features was mostly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teractions between the large scale featu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deformation zones) were not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of the convective parameterization schemes in the case is also un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MJ in Eta did not accurately simulate the effects of the real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MJ </a:t>
            </a: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overrespond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convection, and did not accurately parameterize the elevated con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S in GFS suffered from grid-scale feedback, but delivered a better forecast location – even if amounts were way too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S </a:t>
            </a: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underrespond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con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 scheme may have been of secondary import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57400" y="120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can be viewed on the web 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http://www.eas.slu.edu/C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IPS comes from a NOAA-CSTAR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 Conta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xterma@eas.slu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3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6094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4 Hour Precipitation ending 12 UTC on 25  July 2004 from COOP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3657600"/>
            <a:ext cx="1168560" cy="990720"/>
          </a:xfrm>
          <a:custGeom>
            <a:avLst/>
            <a:gdLst/>
            <a:ahLst/>
            <a:rect l="l" t="t" r="r" b="b"/>
            <a:pathLst>
              <a:path w="736" h="624">
                <a:moveTo>
                  <a:pt x="352" y="0"/>
                </a:moveTo>
                <a:cubicBezTo>
                  <a:pt x="176" y="68"/>
                  <a:pt x="0" y="136"/>
                  <a:pt x="64" y="240"/>
                </a:cubicBezTo>
                <a:cubicBezTo>
                  <a:pt x="128" y="344"/>
                  <a:pt x="624" y="560"/>
                  <a:pt x="736" y="624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846000"/>
            <a:ext cx="8534160" cy="563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76320" y="152280"/>
            <a:ext cx="944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ourly Precip at St. Louis Science Center, 12am – 12 am, 7-24-2004 (NCD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5656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 h Surface Observations from Lambert Airport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-23 UTC on 24 Jul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Zone Forec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8380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:54 PM, 7-23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URDAY… Mostly Cloudy. High in the mid 70s. Northeast wind 10-15 m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:05 PM, 7-23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URDAY… Mostly Cloudy with a 30% chance of showers. High in the mid 70s. East wind 10-15 m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0:15 PM, 7-23-04 &amp; 400 AM, 7-25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:25 AM, 7-24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FTERNOON… A chance of rain early in the afternoon then rain likely late in the afternoon. High in the mid 70s. Northeast wind 10-15 mph. Chance of rain 6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. Louis Area Forecasts Discu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609480"/>
            <a:ext cx="8610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:00 AM, 7-24-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mixed feelings about model solutions this morning as GFS did seem to initialize 500 mb height field better than 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FS continues to suffer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convective feedb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would bring areal extent of QPF too far NE this aftern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838320" cy="365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8862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R Satellite, Surface Fronts, 3 h Storm Mo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6 UTC 24 July – 06 UTC 25 Jul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4:17:18Z</dcterms:created>
  <dc:creator>eas-9-152</dc:creator>
  <dc:description/>
  <dc:language>en-US</dc:language>
  <cp:lastModifiedBy>SLU</cp:lastModifiedBy>
  <dcterms:modified xsi:type="dcterms:W3CDTF">2005-10-14T15:29:28Z</dcterms:modified>
  <cp:revision>17</cp:revision>
  <dc:subject/>
  <dc:title>A Case Study of a Surprise Elevated Convection Event Over Eastern Missouri: 24-25 July 2004 </dc:title>
</cp:coreProperties>
</file>