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4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26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0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32.png" ContentType="image/png"/>
  <Override PartName="/ppt/media/image2.png" ContentType="image/png"/>
  <Override PartName="/ppt/media/image25.jpeg" ContentType="image/jpeg"/>
  <Override PartName="/ppt/media/image28.png" ContentType="image/png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19.png" ContentType="image/pn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01C27B1-91AE-48BD-BA03-9F1E0491F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ing… add advection grap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thing else?  Seems a little sp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cross sections of theta_e and M_g and of RH.  Do theta_e cross section in xfig and export it as a gif im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is should be cleaned up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cross section of theta-e and Mg and of RH.  Do in xfig and export it as a gi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insert equa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insert the Excel Table I mad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I add more on the surface composites?  Maybe draw a little figure or somet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2AB2-2C32-4282-B290-B85290BB0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E0D8-3FC1-4F9A-BECC-F51E7BB3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E3B3-121E-4B4D-9787-6D3B4B595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59C4-2975-455D-BD98-B8800911E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549F-CE0E-4B21-A320-DADB1C18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C57E-435D-40BE-B98A-B0625551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7269-0BFB-4925-889B-BA22808E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BD92-71E7-41CA-B7B7-507FFE09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D86B-2A48-46F2-B837-37D8EAD2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48DA-83FD-467A-B4D5-694F5DAF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E74F-7C4E-4101-A6DE-8CB7B8DF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32F3-7408-4964-93FC-B98AFB9A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2"/>
            </a:gs>
            <a:gs pos="50000">
              <a:srgbClr val="0000ff"/>
            </a:gs>
            <a:gs pos="100000">
              <a:srgbClr val="0000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DFF4-A0E1-41C8-84B0-715546C0E3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2"/>
            </a:gs>
            <a:gs pos="50000">
              <a:srgbClr val="0000ff"/>
            </a:gs>
            <a:gs pos="100000">
              <a:srgbClr val="0000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A Comprehensive Evaluation of Cool-Season Elevated Convection in the Central United States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Heather J. Sumner, B.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Saint Louis Univers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April 5, 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2"/>
            </a:gs>
            <a:gs pos="50000">
              <a:srgbClr val="0000ff"/>
            </a:gs>
            <a:gs pos="100000">
              <a:srgbClr val="0000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850 mb Composites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828800"/>
            <a:ext cx="38098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vents initiated to northeast of a closed 850 mb height minim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Within exit region of southerly LL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3048120"/>
            <a:ext cx="3886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Within a ridge of high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Narrow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ai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850thetae_adv" descr=""/>
          <p:cNvPicPr/>
          <p:nvPr/>
        </p:nvPicPr>
        <p:blipFill>
          <a:blip r:embed="rId1"/>
          <a:stretch/>
        </p:blipFill>
        <p:spPr>
          <a:xfrm>
            <a:off x="4572000" y="1752480"/>
            <a:ext cx="4114800" cy="3813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57200" y="3505320"/>
            <a:ext cx="3809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North of a maximum i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Narrow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adv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5638680"/>
            <a:ext cx="4038480" cy="9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g. 3: 850 mb </a:t>
            </a:r>
            <a:r>
              <a:rPr b="0" lang="en-US" sz="17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700" spc="-1" strike="noStrike" baseline="-25000">
                <a:solidFill>
                  <a:srgbClr val="ffffff"/>
                </a:solidFill>
                <a:latin typeface="Arial Narrow"/>
              </a:rPr>
              <a:t>e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 advection in 10</a:t>
            </a:r>
            <a:r>
              <a:rPr b="0" lang="en-US" sz="1700" spc="-1" strike="noStrike" baseline="30000">
                <a:solidFill>
                  <a:srgbClr val="ffffff"/>
                </a:solidFill>
                <a:latin typeface="Arial Narrow"/>
              </a:rPr>
              <a:t>-1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 K h</a:t>
            </a:r>
            <a:r>
              <a:rPr b="0" lang="en-US" sz="1700" spc="-1" strike="noStrike" baseline="30000">
                <a:solidFill>
                  <a:srgbClr val="ffffff"/>
                </a:solidFill>
                <a:latin typeface="Arial Narrow"/>
              </a:rPr>
              <a:t>-1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.  Solid contours denote positive advection; dashed contours denote negative advection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2"/>
            </a:gs>
            <a:gs pos="50000">
              <a:srgbClr val="0000ff"/>
            </a:gs>
            <a:gs pos="100000">
              <a:srgbClr val="0000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700 mb Composites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676520"/>
            <a:ext cx="40384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vents initiated within a prominent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Narrow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rid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700theta_e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4114800" cy="3832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495680" y="5562720"/>
            <a:ext cx="42674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g. 4: 700 mb equivalent potential temperature in Kelvin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2"/>
            </a:gs>
            <a:gs pos="50000">
              <a:srgbClr val="0000ff"/>
            </a:gs>
            <a:gs pos="100000">
              <a:srgbClr val="0000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700 mb Composites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676520"/>
            <a:ext cx="40384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vents initiated within a prominent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Narrow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rid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2362320"/>
            <a:ext cx="4038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In region of maximu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Narrow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adv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700thetae_adv" descr=""/>
          <p:cNvPicPr/>
          <p:nvPr/>
        </p:nvPicPr>
        <p:blipFill>
          <a:blip r:embed="rId1"/>
          <a:stretch/>
        </p:blipFill>
        <p:spPr>
          <a:xfrm>
            <a:off x="4724280" y="1752480"/>
            <a:ext cx="3962520" cy="3679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724280" y="5486400"/>
            <a:ext cx="4038840" cy="9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g. 5: 700 mb </a:t>
            </a:r>
            <a:r>
              <a:rPr b="0" lang="en-US" sz="17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700" spc="-1" strike="noStrike" baseline="-25000">
                <a:solidFill>
                  <a:srgbClr val="ffffff"/>
                </a:solidFill>
                <a:latin typeface="Arial Narrow"/>
              </a:rPr>
              <a:t>e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 advection in 10</a:t>
            </a:r>
            <a:r>
              <a:rPr b="0" lang="en-US" sz="1700" spc="-1" strike="noStrike" baseline="30000">
                <a:solidFill>
                  <a:srgbClr val="ffffff"/>
                </a:solidFill>
                <a:latin typeface="Arial Narrow"/>
              </a:rPr>
              <a:t>-1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 K h</a:t>
            </a:r>
            <a:r>
              <a:rPr b="0" lang="en-US" sz="1700" spc="-1" strike="noStrike" baseline="30000">
                <a:solidFill>
                  <a:srgbClr val="ffffff"/>
                </a:solidFill>
                <a:latin typeface="Arial Narrow"/>
              </a:rPr>
              <a:t>-1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.  Solid lines denote positive advection; dashed lines denote negative advection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2"/>
            </a:gs>
            <a:gs pos="50000">
              <a:srgbClr val="0000ff"/>
            </a:gs>
            <a:gs pos="100000">
              <a:srgbClr val="0000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500 mb Composites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752480"/>
            <a:ext cx="40384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vents developed downstream of a 500 mb troug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Northeast of a maximum in absolute vorticity, in area of C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500ht_vort" descr=""/>
          <p:cNvPicPr/>
          <p:nvPr/>
        </p:nvPicPr>
        <p:blipFill>
          <a:blip r:embed="rId1"/>
          <a:stretch/>
        </p:blipFill>
        <p:spPr>
          <a:xfrm>
            <a:off x="4724280" y="1676520"/>
            <a:ext cx="4038840" cy="37782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724280" y="5486400"/>
            <a:ext cx="40388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g. 6: 500 mb heights in gpm (solid lines) and absolute vorticity in 10</a:t>
            </a:r>
            <a:r>
              <a:rPr b="0" lang="en-US" sz="1700" spc="-1" strike="noStrike" baseline="30000">
                <a:solidFill>
                  <a:srgbClr val="ffffff"/>
                </a:solidFill>
                <a:latin typeface="Arial Narrow"/>
              </a:rPr>
              <a:t>-5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 s</a:t>
            </a:r>
            <a:r>
              <a:rPr b="0" lang="en-US" sz="1700" spc="-1" strike="noStrike" baseline="30000">
                <a:solidFill>
                  <a:srgbClr val="ffffff"/>
                </a:solidFill>
                <a:latin typeface="Arial Narrow"/>
              </a:rPr>
              <a:t>-1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 (dashed lines)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2"/>
            </a:gs>
            <a:gs pos="50000">
              <a:srgbClr val="0000ff"/>
            </a:gs>
            <a:gs pos="100000">
              <a:srgbClr val="0000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500 mb Composites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752480"/>
            <a:ext cx="40384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vents developed downstream of a 500 mb troug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Northeast of a maximum in absolute vorticity, in area of C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3276720"/>
            <a:ext cx="38862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Near region of negativ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Narrow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advection and destabil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500thetae_adv" descr=""/>
          <p:cNvPicPr/>
          <p:nvPr/>
        </p:nvPicPr>
        <p:blipFill>
          <a:blip r:embed="rId1"/>
          <a:stretch/>
        </p:blipFill>
        <p:spPr>
          <a:xfrm>
            <a:off x="4648320" y="1676520"/>
            <a:ext cx="4038480" cy="3730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648320" y="5410080"/>
            <a:ext cx="4038480" cy="9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g. 7: 500 mb </a:t>
            </a:r>
            <a:r>
              <a:rPr b="0" lang="en-US" sz="17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700" spc="-1" strike="noStrike" baseline="-25000">
                <a:solidFill>
                  <a:srgbClr val="ffffff"/>
                </a:solidFill>
                <a:latin typeface="Arial Narrow"/>
              </a:rPr>
              <a:t>e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 advection in 10</a:t>
            </a:r>
            <a:r>
              <a:rPr b="0" lang="en-US" sz="1700" spc="-1" strike="noStrike" baseline="30000">
                <a:solidFill>
                  <a:srgbClr val="ffffff"/>
                </a:solidFill>
                <a:latin typeface="Arial Narrow"/>
              </a:rPr>
              <a:t>-1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 K h</a:t>
            </a:r>
            <a:r>
              <a:rPr b="0" lang="en-US" sz="1700" spc="-1" strike="noStrike" baseline="30000">
                <a:solidFill>
                  <a:srgbClr val="ffffff"/>
                </a:solidFill>
                <a:latin typeface="Arial Narrow"/>
              </a:rPr>
              <a:t>-1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.  Solid lines denote positive advetion; dashed lines denote negative advection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2"/>
            </a:gs>
            <a:gs pos="50000">
              <a:srgbClr val="0000ff"/>
            </a:gs>
            <a:gs pos="100000">
              <a:srgbClr val="0000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250 mb Composites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76520"/>
            <a:ext cx="4038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vents initiated within exit region of cyclonic ULJ and entrance region of anticyclonic UL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250wind_vec" descr=""/>
          <p:cNvPicPr/>
          <p:nvPr/>
        </p:nvPicPr>
        <p:blipFill>
          <a:blip r:embed="rId1"/>
          <a:stretch/>
        </p:blipFill>
        <p:spPr>
          <a:xfrm>
            <a:off x="4648320" y="1676520"/>
            <a:ext cx="4038480" cy="37512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572000" y="5486400"/>
            <a:ext cx="41911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g. 8: 250 mb wind vectors (arrows) and isotachs in m s</a:t>
            </a:r>
            <a:r>
              <a:rPr b="0" lang="en-US" sz="1700" spc="-1" strike="noStrike" baseline="30000">
                <a:solidFill>
                  <a:srgbClr val="ffffff"/>
                </a:solidFill>
                <a:latin typeface="Arial Narrow"/>
              </a:rPr>
              <a:t>-1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 (dashed lines)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2"/>
            </a:gs>
            <a:gs pos="50000">
              <a:srgbClr val="0000ff"/>
            </a:gs>
            <a:gs pos="100000">
              <a:srgbClr val="0000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250 mb Composites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676520"/>
            <a:ext cx="4038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vents initiated within exit region of cyclonic ULJ and entrance region of anticyclonic UL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274320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Within a broad region of upper-level diverg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250div" descr=""/>
          <p:cNvPicPr/>
          <p:nvPr/>
        </p:nvPicPr>
        <p:blipFill>
          <a:blip r:embed="rId1"/>
          <a:stretch/>
        </p:blipFill>
        <p:spPr>
          <a:xfrm>
            <a:off x="4648320" y="1676520"/>
            <a:ext cx="4038480" cy="3760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648320" y="5486400"/>
            <a:ext cx="40384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g. 9: 250 mb divergence in 10</a:t>
            </a:r>
            <a:r>
              <a:rPr b="0" lang="en-US" sz="1700" spc="-1" strike="noStrike" baseline="30000">
                <a:solidFill>
                  <a:srgbClr val="ffffff"/>
                </a:solidFill>
                <a:latin typeface="Arial Narrow"/>
              </a:rPr>
              <a:t>-5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 s</a:t>
            </a:r>
            <a:r>
              <a:rPr b="0" lang="en-US" sz="1700" spc="-1" strike="noStrike" baseline="30000">
                <a:solidFill>
                  <a:srgbClr val="ffffff"/>
                </a:solidFill>
                <a:latin typeface="Arial Narrow"/>
              </a:rPr>
              <a:t>-1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.  Solid lines denote regions of divergence; dashed lines denote regions of convergence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2"/>
            </a:gs>
            <a:gs pos="50000">
              <a:srgbClr val="0000ff"/>
            </a:gs>
            <a:gs pos="100000">
              <a:srgbClr val="0000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Composite Hodograph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752480"/>
            <a:ext cx="37339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ubstantial low-level vee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7160" indent="-22716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Little or no mid- to upper-level directional chan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ignificant speed shear at all lev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comp_hodo" descr=""/>
          <p:cNvPicPr/>
          <p:nvPr/>
        </p:nvPicPr>
        <p:blipFill>
          <a:blip r:embed="rId1"/>
          <a:stretch/>
        </p:blipFill>
        <p:spPr>
          <a:xfrm>
            <a:off x="4495680" y="1828800"/>
            <a:ext cx="4232520" cy="317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4495680" y="5029200"/>
            <a:ext cx="41911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g. 10: Composite hodograph constructed at center of heavy snow band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2"/>
            </a:gs>
            <a:gs pos="50000">
              <a:srgbClr val="0000ff"/>
            </a:gs>
            <a:gs pos="100000">
              <a:srgbClr val="0000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Composite Sounding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16" name="comp_sndg3" descr=""/>
          <p:cNvPicPr/>
          <p:nvPr/>
        </p:nvPicPr>
        <p:blipFill>
          <a:blip r:embed="rId1"/>
          <a:stretch/>
        </p:blipFill>
        <p:spPr>
          <a:xfrm>
            <a:off x="3962520" y="1752480"/>
            <a:ext cx="4800600" cy="39164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80880" y="182880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Low-level environment is typically moist but statically st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5715000"/>
            <a:ext cx="49528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g. 11: Composite sounding constructed at center of heavy snow band.  Temperature profile is shown with thick solid line; dew point profile is shown with dashed line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2"/>
            </a:gs>
            <a:gs pos="50000">
              <a:srgbClr val="0000ff"/>
            </a:gs>
            <a:gs pos="100000">
              <a:srgbClr val="0000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Moisture and Stability Composites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167652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Lifted Index &gt;&gt; 0°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LI" descr=""/>
          <p:cNvPicPr/>
          <p:nvPr/>
        </p:nvPicPr>
        <p:blipFill>
          <a:blip r:embed="rId1"/>
          <a:stretch/>
        </p:blipFill>
        <p:spPr>
          <a:xfrm>
            <a:off x="4495680" y="1676520"/>
            <a:ext cx="4160880" cy="38541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419720" y="5562720"/>
            <a:ext cx="4267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g. 12: Composite lifted index in °C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2"/>
            </a:gs>
            <a:gs pos="50000">
              <a:srgbClr val="0000ff"/>
            </a:gs>
            <a:gs pos="100000">
              <a:srgbClr val="0000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Motivation for Research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676520"/>
            <a:ext cx="8153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The first major winter storm of the season developed over the central Rockies as a powerful upper-level jet stream dove into the southern Rockies …. During the early morning hours [26 October 1997], the system went convective with widespread “thundersnow” reported over the southern half of Iowa.  Lightning struck a tree outside of a house in Nevada causing damage to electrical appliances as well as telephone damage in the house.  The “thundersnow” resulted in very heavy snowfall with a band of nine inch or greater snowfall extending from Ringgold County in the south central [part of the state] to Mahaska County in the southeast part of the state .… 13 Iowa counties were declared Federal Disaster Areas .… Clean-up costs for the 13 counties was [sic.] estimated at $5.1 million, ranging from $30,000 in Tama county to $1.84 million in Polk County.” (NCDC </a:t>
            </a:r>
            <a:r>
              <a:rPr b="0" i="1" lang="en-US" sz="2000" spc="-1" strike="noStrike">
                <a:solidFill>
                  <a:srgbClr val="ffffff"/>
                </a:solidFill>
                <a:latin typeface="Arial Narrow"/>
              </a:rPr>
              <a:t>Storm Data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1997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2"/>
            </a:gs>
            <a:gs pos="50000">
              <a:srgbClr val="0000ff"/>
            </a:gs>
            <a:gs pos="100000">
              <a:srgbClr val="0000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Moisture and Stability Composites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167652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Lifted Index &gt;&gt; 0°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2133720"/>
            <a:ext cx="3886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Maximu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Narrow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CAPE = 10-75 J kg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 Narrow"/>
              </a:rPr>
              <a:t>-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maxCAPE" descr=""/>
          <p:cNvPicPr/>
          <p:nvPr/>
        </p:nvPicPr>
        <p:blipFill>
          <a:blip r:embed="rId1"/>
          <a:stretch/>
        </p:blipFill>
        <p:spPr>
          <a:xfrm>
            <a:off x="4648320" y="1752480"/>
            <a:ext cx="4038480" cy="37148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72000" y="5486400"/>
            <a:ext cx="41911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g. 13: Composite maximum </a:t>
            </a:r>
            <a:r>
              <a:rPr b="0" lang="en-US" sz="17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700" spc="-1" strike="noStrike" baseline="-25000">
                <a:solidFill>
                  <a:srgbClr val="ffffff"/>
                </a:solidFill>
                <a:latin typeface="Arial Narrow"/>
              </a:rPr>
              <a:t>e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 CAPE in J kg</a:t>
            </a:r>
            <a:r>
              <a:rPr b="0" lang="en-US" sz="1700" spc="-1" strike="noStrike" baseline="30000">
                <a:solidFill>
                  <a:srgbClr val="ffffff"/>
                </a:solidFill>
                <a:latin typeface="Arial Narrow"/>
              </a:rPr>
              <a:t>-1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2"/>
            </a:gs>
            <a:gs pos="50000">
              <a:srgbClr val="0000ff"/>
            </a:gs>
            <a:gs pos="100000">
              <a:srgbClr val="0000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Moisture and Stability Composites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167652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Lifted Index &gt;&gt; 0°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2133720"/>
            <a:ext cx="3886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Maximu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Narrow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CAPE = 10-75 J kg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 Narrow"/>
              </a:rPr>
              <a:t>-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2590920"/>
            <a:ext cx="41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vidence of elevated instability (CSI, WSS, or elevated convective instabilit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19720" y="4876920"/>
            <a:ext cx="45720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g. 14: Sample horizontal EPV, in PVU, calculated at 700 mb.  Solid lines denote positive EPV; dashed lines denote negative EPV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sample_EPV" descr=""/>
          <p:cNvPicPr/>
          <p:nvPr/>
        </p:nvPicPr>
        <p:blipFill>
          <a:blip r:embed="rId1"/>
          <a:srcRect l="9000" t="9335" r="4002" b="10671"/>
          <a:stretch/>
        </p:blipFill>
        <p:spPr>
          <a:xfrm>
            <a:off x="4495680" y="1676520"/>
            <a:ext cx="4496040" cy="310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2"/>
            </a:gs>
            <a:gs pos="50000">
              <a:srgbClr val="0000ff"/>
            </a:gs>
            <a:gs pos="100000">
              <a:srgbClr val="0000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Moisture and Stability Composites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167652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Lifted Index &gt;&gt; 0°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2133720"/>
            <a:ext cx="3886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Maximu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Narrow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CAPE = 10-75 J kg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 Narrow"/>
              </a:rPr>
              <a:t>-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3352680"/>
            <a:ext cx="41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High surface-500 mb mean relative humid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RH" descr=""/>
          <p:cNvPicPr/>
          <p:nvPr/>
        </p:nvPicPr>
        <p:blipFill>
          <a:blip r:embed="rId1"/>
          <a:stretch/>
        </p:blipFill>
        <p:spPr>
          <a:xfrm>
            <a:off x="4648320" y="1752480"/>
            <a:ext cx="4141800" cy="3816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80880" y="2590920"/>
            <a:ext cx="41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vidence of elevated instability (CSI, WSS, or elevated convective instabilit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48320" y="5638680"/>
            <a:ext cx="41907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g. 15: Composite surface-500 mb mean relative humidity in percent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2"/>
            </a:gs>
            <a:gs pos="50000">
              <a:srgbClr val="0000ff"/>
            </a:gs>
            <a:gs pos="100000">
              <a:srgbClr val="0000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Moisture and Stability Composites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167652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Lifted Index &gt;&gt; 0°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2133720"/>
            <a:ext cx="3886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Maximu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Narrow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CAPE = 10-75 J kg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 Narrow"/>
              </a:rPr>
              <a:t>-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3352680"/>
            <a:ext cx="41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High surface-500 mb mean relative humid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W" descr=""/>
          <p:cNvPicPr/>
          <p:nvPr/>
        </p:nvPicPr>
        <p:blipFill>
          <a:blip r:embed="rId1"/>
          <a:stretch/>
        </p:blipFill>
        <p:spPr>
          <a:xfrm>
            <a:off x="4648320" y="1676520"/>
            <a:ext cx="4117680" cy="38145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80880" y="4114800"/>
            <a:ext cx="41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recipitable water (PW)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120% of norm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2590920"/>
            <a:ext cx="4114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2590920"/>
            <a:ext cx="41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vidence of elevated instability (CSI, WSS, or elevated convective instabilit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5562720"/>
            <a:ext cx="4114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g. 16: Composite precipitable water in inches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2"/>
            </a:gs>
            <a:gs pos="50000">
              <a:srgbClr val="0000ff"/>
            </a:gs>
            <a:gs pos="100000">
              <a:srgbClr val="0000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11 March 2000 Case Study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 late-winter, surprise heavy snow event occurred during the morning of 11 March 2000.  Forecasters anticipated 1-2 inches of snow, but the system became convective, resulting in heavy snow in a narrow band in Missouri and Illinoi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nowfall occurred mainly during the morning hours (0900—1500 UTC) in east-central Missour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Thundersnow” was observed at Spirit of St. Louis (KSUS) and St. Louis International (KSTL) airports for approximately 2 hours, beginning shortly after 1200 U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2"/>
            </a:gs>
            <a:gs pos="50000">
              <a:srgbClr val="0000ff"/>
            </a:gs>
            <a:gs pos="100000">
              <a:srgbClr val="0000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Storm Total Snowfall 11 March 2000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53" name="00mar11_snow" descr=""/>
          <p:cNvPicPr/>
          <p:nvPr/>
        </p:nvPicPr>
        <p:blipFill>
          <a:blip r:embed="rId1"/>
          <a:stretch/>
        </p:blipFill>
        <p:spPr>
          <a:xfrm>
            <a:off x="2133720" y="1766880"/>
            <a:ext cx="4952880" cy="3376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2057400" y="525780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Fig. 17: Total snowfall in Missouri and Illinois in inches, as analyzed by F. H. Glass of KSTL NWSF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2"/>
            </a:gs>
            <a:gs pos="50000">
              <a:srgbClr val="0000ff"/>
            </a:gs>
            <a:gs pos="100000">
              <a:srgbClr val="0000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Infrared Satellite Loop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Valid 0015-0315 UTC; 0715-2315 UTC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086600" cy="483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2"/>
            </a:gs>
            <a:gs pos="50000">
              <a:srgbClr val="0000ff"/>
            </a:gs>
            <a:gs pos="100000">
              <a:srgbClr val="0000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Water Vapor Satellite Loop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Valid 0015-0315 UTC; 0715-2315 UTC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956280" cy="47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2"/>
            </a:gs>
            <a:gs pos="50000">
              <a:srgbClr val="0000ff"/>
            </a:gs>
            <a:gs pos="100000">
              <a:srgbClr val="0000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0000 UTC 11 March 2000 Surface Analysis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00200" y="6172200"/>
            <a:ext cx="60199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g. 18: 0000 UTC surface analysis.  Blue scalloped line denotes region reporting snow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00mar11_00sfc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5868720" cy="455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2"/>
            </a:gs>
            <a:gs pos="50000">
              <a:srgbClr val="0000ff"/>
            </a:gs>
            <a:gs pos="100000">
              <a:srgbClr val="0000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0600 UTC 11 March 2000 Surface Analysis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6172200"/>
            <a:ext cx="59436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g. 19: 0600 UTC surface analysis.  Blue scalloped line denotes region reporting snow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00mar11_06sfc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5868720" cy="458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2"/>
            </a:gs>
            <a:gs pos="50000">
              <a:srgbClr val="0000ff"/>
            </a:gs>
            <a:gs pos="100000">
              <a:srgbClr val="0000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Research Objective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etermine common synoptic and dynamic characteristics of cool-season (October-March) elevated thunderstorms in the Midw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xamine the nature of instabilities associated with the development of elevated convection (CSI or PSI, WSS, elevated convective instabilit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6765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The goal of this research is t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2"/>
            </a:gs>
            <a:gs pos="50000">
              <a:srgbClr val="0000ff"/>
            </a:gs>
            <a:gs pos="100000">
              <a:srgbClr val="0000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1200 UTC 11 March 2000 Surface Analysis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6172200"/>
            <a:ext cx="60199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g. 20: 1200 UTC surface analysis.  Blue scalloped line denotes region reporting snow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00mar11_12sfc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5878440" cy="462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2"/>
            </a:gs>
            <a:gs pos="50000">
              <a:srgbClr val="0000ff"/>
            </a:gs>
            <a:gs pos="100000">
              <a:srgbClr val="0000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1800 UTC 11 March 2000 Surface Analysis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00200" y="6172200"/>
            <a:ext cx="60199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g. 21: 1800 UTC surface analysis.  Blue scalloped line denotes region reporting snow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00mar11_18sfc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5878440" cy="4575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2"/>
            </a:gs>
            <a:gs pos="50000">
              <a:srgbClr val="0000ff"/>
            </a:gs>
            <a:gs pos="100000">
              <a:srgbClr val="0000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Upper-Air Analysis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0000 UTC 11 March 2000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72" name="mar11_00upa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5105520" cy="381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3" name=""/>
          <p:cNvSpPr/>
          <p:nvPr/>
        </p:nvSpPr>
        <p:spPr>
          <a:xfrm>
            <a:off x="1905120" y="5867280"/>
            <a:ext cx="5410080" cy="9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g. 22: 0000 UTC upper-air analysis.  850 mb </a:t>
            </a:r>
            <a:r>
              <a:rPr b="0" lang="en-US" sz="17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700" spc="-1" strike="noStrike" baseline="-25000">
                <a:solidFill>
                  <a:srgbClr val="ffffff"/>
                </a:solidFill>
                <a:latin typeface="Arial Narrow"/>
              </a:rPr>
              <a:t>e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 ridge, </a:t>
            </a:r>
            <a:r>
              <a:rPr b="0" lang="en-US" sz="17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700" spc="-1" strike="noStrike" baseline="-25000">
                <a:solidFill>
                  <a:srgbClr val="ffffff"/>
                </a:solidFill>
                <a:latin typeface="Arial Narrow"/>
              </a:rPr>
              <a:t>e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 advection, and LLJ are denoted in red; 500 mb trough and vorticity maximum in brown; 250 mb divergence and ULJ in purple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2"/>
            </a:gs>
            <a:gs pos="50000">
              <a:srgbClr val="0000ff"/>
            </a:gs>
            <a:gs pos="100000">
              <a:srgbClr val="0000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Upper-Air Analysis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1200 UTC 11 March 2000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75" name="mar11_12upa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5181840" cy="384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6" name=""/>
          <p:cNvSpPr/>
          <p:nvPr/>
        </p:nvSpPr>
        <p:spPr>
          <a:xfrm>
            <a:off x="1905120" y="5867280"/>
            <a:ext cx="5410080" cy="9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g. 23: 1200 UTC upper-air analysis.  850 mb </a:t>
            </a:r>
            <a:r>
              <a:rPr b="0" lang="en-US" sz="17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700" spc="-1" strike="noStrike" baseline="-25000">
                <a:solidFill>
                  <a:srgbClr val="ffffff"/>
                </a:solidFill>
                <a:latin typeface="Arial Narrow"/>
              </a:rPr>
              <a:t>e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 ridge, </a:t>
            </a:r>
            <a:r>
              <a:rPr b="0" lang="en-US" sz="17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700" spc="-1" strike="noStrike" baseline="-25000">
                <a:solidFill>
                  <a:srgbClr val="ffffff"/>
                </a:solidFill>
                <a:latin typeface="Arial Narrow"/>
              </a:rPr>
              <a:t>e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 advection, and LLJ are denoted in red; 500 mb trough and vorticity maximum in brown; 250 mb divergence and ULJ in purple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2"/>
            </a:gs>
            <a:gs pos="50000">
              <a:srgbClr val="0000ff"/>
            </a:gs>
            <a:gs pos="100000">
              <a:srgbClr val="0000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Moisture and Stability Analysis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0000 UTC 11 March 2000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78" name="mar11_00stab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105520" cy="38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9" name=""/>
          <p:cNvSpPr/>
          <p:nvPr/>
        </p:nvSpPr>
        <p:spPr>
          <a:xfrm>
            <a:off x="1752480" y="5730840"/>
            <a:ext cx="5715000" cy="11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g. 24: 0000 UTC moisture and stability analysis.  Lifted index is shown with red lines; PW with dotted green lines; surface-500 mb mean relative humidity with solid green line; maximum </a:t>
            </a:r>
            <a:r>
              <a:rPr b="0" lang="en-US" sz="17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700" spc="-1" strike="noStrike" baseline="-25000">
                <a:solidFill>
                  <a:srgbClr val="ffffff"/>
                </a:solidFill>
                <a:latin typeface="Arial Narrow"/>
              </a:rPr>
              <a:t>e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 CAPE with purple line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2"/>
            </a:gs>
            <a:gs pos="50000">
              <a:srgbClr val="0000ff"/>
            </a:gs>
            <a:gs pos="100000">
              <a:srgbClr val="0000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Stability Analysis </a:t>
            </a:r>
            <a:r>
              <a:rPr b="1" i="1" lang="en-US" sz="2400" spc="-1" strike="noStrike">
                <a:solidFill>
                  <a:srgbClr val="ff0000"/>
                </a:solidFill>
                <a:latin typeface="Arial Narrow"/>
              </a:rPr>
              <a:t>(cont.)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0000 UTC 11 March 2000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81" name="00mar11_00epv700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730840" cy="39448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676520" y="5791320"/>
            <a:ext cx="58672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g. 25: 700 mb HEPV in PVU.  Solid lines denote positive EPV; dashed lines denote negative EPV.  Line AB denotes location of cross section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3505320"/>
            <a:ext cx="83844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67080" y="3200400"/>
            <a:ext cx="1843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257800" y="4114800"/>
            <a:ext cx="1843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B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2"/>
            </a:gs>
            <a:gs pos="50000">
              <a:srgbClr val="0000ff"/>
            </a:gs>
            <a:gs pos="100000">
              <a:srgbClr val="0000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Stability Analysis </a:t>
            </a:r>
            <a:r>
              <a:rPr b="1" i="1" lang="en-US" sz="2400" spc="-1" strike="noStrike">
                <a:solidFill>
                  <a:srgbClr val="ff0000"/>
                </a:solidFill>
                <a:latin typeface="Arial Narrow"/>
              </a:rPr>
              <a:t>(cont.)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0000 UTC 11 March 2000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87" name="mar11_00csec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8126280" cy="29448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57200" y="5105520"/>
            <a:ext cx="83059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g. 26: </a:t>
            </a:r>
            <a:r>
              <a:rPr b="0" lang="en-US" sz="17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700" spc="-1" strike="noStrike" baseline="-25000">
                <a:solidFill>
                  <a:srgbClr val="ffffff"/>
                </a:solidFill>
                <a:latin typeface="Arial Narrow"/>
              </a:rPr>
              <a:t>e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 in K (dashed lines) and M</a:t>
            </a:r>
            <a:r>
              <a:rPr b="0" lang="en-US" sz="1700" spc="-1" strike="noStrike" baseline="-25000">
                <a:solidFill>
                  <a:srgbClr val="ffffff"/>
                </a:solidFill>
                <a:latin typeface="Arial Narrow"/>
              </a:rPr>
              <a:t>g 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in m s</a:t>
            </a:r>
            <a:r>
              <a:rPr b="0" lang="en-US" sz="1700" spc="-1" strike="noStrike" baseline="30000">
                <a:solidFill>
                  <a:srgbClr val="ffffff"/>
                </a:solidFill>
                <a:latin typeface="Arial Narrow"/>
              </a:rPr>
              <a:t>-1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 (solid lines) at left; relative humidity in percent at right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2"/>
            </a:gs>
            <a:gs pos="50000">
              <a:srgbClr val="0000ff"/>
            </a:gs>
            <a:gs pos="100000">
              <a:srgbClr val="0000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850 mb Frontogenesis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0000 UTC 11 March 2000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90" name="00mar11_00front850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5951520" cy="40878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600200" y="5943600"/>
            <a:ext cx="60958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g. 27: 850 mb frontogenesis in K (100 km · 3 h)</a:t>
            </a:r>
            <a:r>
              <a:rPr b="0" lang="en-US" sz="1700" spc="-1" strike="noStrike" baseline="30000">
                <a:solidFill>
                  <a:srgbClr val="ffffff"/>
                </a:solidFill>
                <a:latin typeface="Arial Narrow"/>
              </a:rPr>
              <a:t>-1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.  Solid lines denote frontogenesis; dashed lines denote frontolysis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2"/>
            </a:gs>
            <a:gs pos="50000">
              <a:srgbClr val="0000ff"/>
            </a:gs>
            <a:gs pos="100000">
              <a:srgbClr val="0000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Moisture and Stability Analysis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1200 UTC 11 March 2000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93" name="mar11_12stab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257800" cy="3646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4" name=""/>
          <p:cNvSpPr/>
          <p:nvPr/>
        </p:nvSpPr>
        <p:spPr>
          <a:xfrm>
            <a:off x="1752480" y="5562720"/>
            <a:ext cx="5715000" cy="11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g. 28: 1200 UTC moisture and stability analysis.  Lifted index is shown with red lines; PW with dotted green lines; surface-500 mb mean relative humidity with solid green line; maximum </a:t>
            </a:r>
            <a:r>
              <a:rPr b="0" lang="en-US" sz="17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700" spc="-1" strike="noStrike" baseline="-25000">
                <a:solidFill>
                  <a:srgbClr val="ffffff"/>
                </a:solidFill>
                <a:latin typeface="Arial Narrow"/>
              </a:rPr>
              <a:t>e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 CAPE with purple line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2"/>
            </a:gs>
            <a:gs pos="50000">
              <a:srgbClr val="0000ff"/>
            </a:gs>
            <a:gs pos="100000">
              <a:srgbClr val="0000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Stability Analysis </a:t>
            </a:r>
            <a:r>
              <a:rPr b="1" i="1" lang="en-US" sz="2400" spc="-1" strike="noStrike">
                <a:solidFill>
                  <a:srgbClr val="ff0000"/>
                </a:solidFill>
                <a:latin typeface="Arial Narrow"/>
              </a:rPr>
              <a:t>(cont.)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1200 UTC 11 March 2000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96" name="00mar11_12epv700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311800" cy="36370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828800" y="5562720"/>
            <a:ext cx="5562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g. 29: 700 mb HEPV in PVU.  Solid lines denote positive EPV; dashed lines denote negative EPV.  Line CD denotes location of cross section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429000"/>
            <a:ext cx="99036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648320" y="3200400"/>
            <a:ext cx="228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C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91320" y="3733920"/>
            <a:ext cx="183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D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2"/>
            </a:gs>
            <a:gs pos="50000">
              <a:srgbClr val="0000ff"/>
            </a:gs>
            <a:gs pos="100000">
              <a:srgbClr val="0000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Methodology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n event was included in the study if the following criteria were me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Storm total exceeded six inches of snowfall at multiple st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Event initiated within ±4 hours of either 0000 UTC or 1200 UTC obser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ata was collected in TTAA/TTAB/PPBB format and interpolated to 33 pressure levels at 25 mb increments from 1000-200 mb, then objectively analyzed to a 31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23 grid using Barnes (1973) objective analysi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11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11 grid extracted with center chosen near center of heaviest snow band for each c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This data was then averaged over 19 cases using compositing software developed by Moore et al. (1996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2"/>
            </a:gs>
            <a:gs pos="50000">
              <a:srgbClr val="0000ff"/>
            </a:gs>
            <a:gs pos="100000">
              <a:srgbClr val="0000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Stability Analysis </a:t>
            </a:r>
            <a:r>
              <a:rPr b="1" i="1" lang="en-US" sz="2400" spc="-1" strike="noStrike">
                <a:solidFill>
                  <a:srgbClr val="ff0000"/>
                </a:solidFill>
                <a:latin typeface="Arial Narrow"/>
              </a:rPr>
              <a:t>(cont.)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1200 UTC 11 March 2000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02" name="mar11_12csec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8145360" cy="29718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57200" y="5410080"/>
            <a:ext cx="83059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g. 30: </a:t>
            </a:r>
            <a:r>
              <a:rPr b="0" lang="en-US" sz="17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700" spc="-1" strike="noStrike" baseline="-25000">
                <a:solidFill>
                  <a:srgbClr val="ffffff"/>
                </a:solidFill>
                <a:latin typeface="Arial Narrow"/>
              </a:rPr>
              <a:t>e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 in K (dashed lines) and M</a:t>
            </a:r>
            <a:r>
              <a:rPr b="0" lang="en-US" sz="1700" spc="-1" strike="noStrike" baseline="-25000">
                <a:solidFill>
                  <a:srgbClr val="ffffff"/>
                </a:solidFill>
                <a:latin typeface="Arial Narrow"/>
              </a:rPr>
              <a:t>g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 in m s</a:t>
            </a:r>
            <a:r>
              <a:rPr b="0" lang="en-US" sz="1700" spc="-1" strike="noStrike" baseline="30000">
                <a:solidFill>
                  <a:srgbClr val="ffffff"/>
                </a:solidFill>
                <a:latin typeface="Arial Narrow"/>
              </a:rPr>
              <a:t>-1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 (solid lines) at left; relative humidity in percent at right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2"/>
            </a:gs>
            <a:gs pos="50000">
              <a:srgbClr val="0000ff"/>
            </a:gs>
            <a:gs pos="100000">
              <a:srgbClr val="0000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850 mb Frontogenesis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1200 UTC 11 March 2000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05" name="00mar11_12front850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5959440" cy="4105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600200" y="6019920"/>
            <a:ext cx="60958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g. 31: 850 mb frontogenesis in K (100 km · 3 h)</a:t>
            </a:r>
            <a:r>
              <a:rPr b="0" lang="en-US" sz="1700" spc="-1" strike="noStrike" baseline="30000">
                <a:solidFill>
                  <a:srgbClr val="ffffff"/>
                </a:solidFill>
                <a:latin typeface="Arial Narrow"/>
              </a:rPr>
              <a:t>-1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.  Solid lines denote frontogenesis; dashed lines denote frontolysis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2"/>
            </a:gs>
            <a:gs pos="50000">
              <a:srgbClr val="0000ff"/>
            </a:gs>
            <a:gs pos="100000">
              <a:srgbClr val="0000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Conclusions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17524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Heavy snow bands accompanied by thunder typically develop under the following condition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2514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2590920"/>
            <a:ext cx="8305920" cy="38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400-800 km northeast or northwest of a weak surface low and on the cool side of a warm front or quasi-stationary fro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In the exit region of a southerly LLJ, in a region of warm-air advection and high positiv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Narrow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adv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Winds veer significantly through low levels, become southwesterly at middle levels, and are responsible for advecting drier air to destabilize the region and enhance snowfall tota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Within a broad region of upper-level divergence in a coupled ULJ patter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In a statically stable environment; however, CSI, WSS, or elevated convective instability typically exists, especially near 700 m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2"/>
            </a:gs>
            <a:gs pos="50000">
              <a:srgbClr val="0000ff"/>
            </a:gs>
            <a:gs pos="100000">
              <a:srgbClr val="0000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Conclusions </a:t>
            </a:r>
            <a:r>
              <a:rPr b="1" i="1" lang="en-US" sz="2400" spc="-1" strike="noStrike">
                <a:solidFill>
                  <a:srgbClr val="ff0000"/>
                </a:solidFill>
                <a:latin typeface="Arial Narrow"/>
              </a:rPr>
              <a:t>(cont.)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11 March 2000 event represents a typical thundersnow ev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Surface and upper-air features were very mode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High moisture content and frontogenetical lift made up for weak stability fiel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2"/>
            </a:gs>
            <a:gs pos="50000">
              <a:srgbClr val="0000ff"/>
            </a:gs>
            <a:gs pos="100000">
              <a:srgbClr val="0000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Future Research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xpand case li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etermine “false alarm” rat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xamine radar to evaluate propagation characterist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Include mesoscale numerical models such as MASS or nonhydrostatic Workstation Eta in analys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2"/>
            </a:gs>
            <a:gs pos="50000">
              <a:srgbClr val="0000ff"/>
            </a:gs>
            <a:gs pos="100000">
              <a:srgbClr val="0000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Calculations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Quasi-horizontal equivalent potential vorticity (McCann 1995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Two-dimensional frontogenesis (Petterssen 1956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362320" y="2590920"/>
          <a:ext cx="4552920" cy="73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90920"/>
                    <a:ext cx="455292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2819520" y="3962520"/>
          <a:ext cx="3019320" cy="690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962520"/>
                    <a:ext cx="301932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2"/>
            </a:gs>
            <a:gs pos="50000">
              <a:srgbClr val="0000ff"/>
            </a:gs>
            <a:gs pos="100000">
              <a:srgbClr val="0000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List of Events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455840" y="1397160"/>
          <a:ext cx="6232320" cy="406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5840" y="1397160"/>
                    <a:ext cx="623232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1600200" y="1600200"/>
          <a:ext cx="6095880" cy="487692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e of Even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ea Affecte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t., Lon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owfal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30215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thwest Missour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.5°N, 94.7°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—2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30221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ntral Iow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.1°N, 93.2°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—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30225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ssour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.4°N, 94.4°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—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40309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thern Missour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.7°N, 90.4°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—2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50119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ntral Missour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.0°N, 92.5°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—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51206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stern Iow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.3°N, 95.7°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—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61022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astern Kansa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.0°N, 95.8 °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—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61201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theast Kansa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.0 °N, 95.2 °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—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71026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ntral Iow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.2 °N, 93.0 °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—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80121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ntral Iow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.7 °N, 93.6 °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—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80309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thern Illinoi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.2 °N, 87.5 °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—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81109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th Dakot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.8 °N, 97.3 °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—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90309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thwest Illinoi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.0 °N, 90.0 °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—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90314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thern Missour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.4 °N, 93.5 °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—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91205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thern Kansa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.8 °N, 97.5 °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—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0103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ntral Kansa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.8 °N, 99.6 °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—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0112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theast Minnesot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.5 °N, 93.2 °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—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0119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thern Minnesot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.2 °N, 94.0 °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—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0311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astern Missour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.6 °N, 90.0 °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—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2"/>
            </a:gs>
            <a:gs pos="50000">
              <a:srgbClr val="0000ff"/>
            </a:gs>
            <a:gs pos="100000">
              <a:srgbClr val="0000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Surface Composites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14 events formed 400-800 km to northeast or northwest of surface low, on cool side of warm front or quasi-stationary fro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5 events formed behind a cold fro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1 event formed within the interaction between a mid-latitude cyclone and a second cold fro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2"/>
            </a:gs>
            <a:gs pos="50000">
              <a:srgbClr val="0000ff"/>
            </a:gs>
            <a:gs pos="100000">
              <a:srgbClr val="0000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850 mb Composites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828800"/>
            <a:ext cx="38098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vents initiated to northeast of a closed 850 mb height minim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Within exit region of southerly LL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850ht_wind" descr=""/>
          <p:cNvPicPr/>
          <p:nvPr/>
        </p:nvPicPr>
        <p:blipFill>
          <a:blip r:embed="rId1"/>
          <a:stretch/>
        </p:blipFill>
        <p:spPr>
          <a:xfrm>
            <a:off x="4648320" y="1752480"/>
            <a:ext cx="3979800" cy="3721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572000" y="5562720"/>
            <a:ext cx="41148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g. 1: 850 mb heights in gpm (solid lines) and isotachs in m s</a:t>
            </a:r>
            <a:r>
              <a:rPr b="0" lang="en-US" sz="1700" spc="-1" strike="noStrike" baseline="30000">
                <a:solidFill>
                  <a:srgbClr val="ffffff"/>
                </a:solidFill>
                <a:latin typeface="Arial Narrow"/>
              </a:rPr>
              <a:t>-1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 (dashed lines)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2"/>
            </a:gs>
            <a:gs pos="50000">
              <a:srgbClr val="0000ff"/>
            </a:gs>
            <a:gs pos="100000">
              <a:srgbClr val="0000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850 mb Composites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828800"/>
            <a:ext cx="38098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vents initiated to northeast of a closed 850 mb height minim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Within exit region of southerly LL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3048120"/>
            <a:ext cx="3886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Within a ridge of high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 Narrow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ai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850theta_e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4067280" cy="3797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572000" y="5562720"/>
            <a:ext cx="41148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g. 2: 850 mb equivalent potential temperature in Kelvin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9T16:03:51Z</dcterms:created>
  <dc:creator>slueas</dc:creator>
  <dc:description/>
  <dc:language>en-US</dc:language>
  <cp:lastModifiedBy>slu eas</cp:lastModifiedBy>
  <dcterms:modified xsi:type="dcterms:W3CDTF">2001-05-15T18:59:04Z</dcterms:modified>
  <cp:revision>27</cp:revision>
  <dc:subject/>
  <dc:title>Evaluation of Cool-Season Elevated Convection in the Central United Sta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sumner@eas.slu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Heather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