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2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F761-E568-404F-8F77-D66DF977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86F1-6ECF-406B-AB65-F848743B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7942-C10C-44DF-9677-E6D752E91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D2E4-169F-4170-8F17-94429E45F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B7CB-EAB2-4DF6-AC8B-1A162CEE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2C8D-6718-4991-884C-52B377A2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E0D0-5626-46DA-BE31-4DE4BE3D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1CC4-75C8-4B77-8CAA-1D2B2A86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752B-C0A5-44C9-83D3-BD9DFAD7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1869-033C-44A3-B08F-FD08D493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1802-FC47-4C6D-B6D3-F5A24923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2C61-0F76-4ACA-A28B-7DAF6212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7879-309F-4915-A00B-F664E03F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AD7F-C4D9-4CF4-93DD-98508ADA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FAA9-500D-4AAD-9A04-7FEFACFF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875B-6C2D-4940-ACB7-F6D2E9B83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69F6-B6FC-45DF-B511-0641D13C4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F028-951B-4F4A-9E21-C1B22FAE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1E5C-7C45-45A7-9616-08AE698C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513E-6D02-45CB-BB06-C17008E9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3BCC-0CB4-4EE5-942F-22395CB0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8914-6465-411D-A7F6-EF110649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10E6-FB4D-4B93-BC78-4CB7C783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8C2B-5895-4B35-8844-BB05B68E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F7E8-9685-469D-9C59-75107E1A71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8E38-3BFC-4B0F-A0D1-721FEF9322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0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0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://www.eas.slu.edu/CIPS/presentations.html" TargetMode="External"/><Relationship Id="rId2" Type="http://schemas.openxmlformats.org/officeDocument/2006/relationships/hyperlink" Target="http://www.eas.slu.edu/People/Students/paschan/home.html" TargetMode="External"/><Relationship Id="rId3" Type="http://schemas.openxmlformats.org/officeDocument/2006/relationships/hyperlink" Target="mailto:paschan@eas.slu.edu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Numerical Simulations of Mesoscale Snow Bands Associated with Weak Cyclogenesi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28240" y="2895120"/>
            <a:ext cx="8915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am N. Pas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sters of Science Research Defe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505320" y="4495680"/>
            <a:ext cx="23619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ethodolo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cases from Paddock (2005) were simulated using a numerical mod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6 February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3 February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perational NCEP Eta 212 was used for initialization of the numerical mod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 km grid spacing (185 x 12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mbert Conformal Proj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000 UTC and 1200 U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85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ethodology continued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oscale Meteorological Model Version 5 for Penn. State and NCAR (MM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hydrosta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a sigma coordinate for vertical lev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rizontal Arakawa-Lamb-B staggered gi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-order leapfrog time-st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itsch-Chappell (FC) - CPS sc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rk-Thompson - PBL sc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isner 2 - microphysics sc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id Analysis and Display System (GrA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del Analysis Techniqu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imulations were compared us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lation – used to determine the strength of the pattern between the MM5 and the E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0 would be a perfect 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M5 would be the same or proportional to the Eta at every grid poi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ot Mean Square Error (RMSE) – used to determine how well the intensities were represen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0 would be a perfect repres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test the significance of the RMSE a % Diff was compu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Diff describes the amount or percentage isopleths were shifted between the MM5 and the E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all % Diff meant the parameter was well represe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jective Analysis – visual comparis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ence plo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fect difference would be 0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334120" y="1600200"/>
                <a:ext cx="312408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RR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/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371600" y="3581280"/>
                <a:ext cx="4419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MSE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rPr>
                        <m:lit/>
                        <m:nor/>
                      </m:rPr>
                      <m:t xml:space="preserve">DIF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M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ncrementofInterest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s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6 February 200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st-southwesterly mid-tropospheric flow; an inverted trough (oriented from northeast Texas to southwest Missouri) in advance of a cold front at the surf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thwest Missouri received 1-4 inches of s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3 February 200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thwest mid-tropospheric flow; an inverted trough (oriented from southwest Arkansas to east-central Oklahoma) associated with a 1000 mb low in northern Tex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areas of northern Oklahoma and southeast Kansas received 6-10 inches of s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85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main 1– Synoptic Sca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pper-level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erg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ospheric air intr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ddle level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hortwav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Vorticit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CB—Pseudo-water vapor image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ow-level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oisture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irculat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2819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February 06, 2003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62520" y="838080"/>
            <a:ext cx="5181480" cy="33274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85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del Domai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3927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 was run for 36 hours beginning on 0000 UTC 06 February 2003 and ending on 1200 UTC 07 February 200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ai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noptic Sc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ain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sosc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ain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orm Sc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19920" y="2133720"/>
            <a:ext cx="1371600" cy="10666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05720" y="2514600"/>
            <a:ext cx="609480" cy="457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990720"/>
            <a:ext cx="4647960" cy="3047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962520" y="4191120"/>
            <a:ext cx="51814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8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omain 1:  300 mb Height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4145040"/>
            <a:ext cx="5334120" cy="27129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80880" y="19051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 pattern and intensity represen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5638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0 UTC 02/06/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rcRect l="7762" t="0" r="6873" b="0"/>
          <a:stretch/>
        </p:blipFill>
        <p:spPr>
          <a:xfrm>
            <a:off x="3886200" y="762120"/>
            <a:ext cx="52578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423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omain 1: 300 mb Divergence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4800600"/>
            <a:ext cx="3429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or represen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and localized differenc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19051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? And WHE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5867280" cy="4029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038480" y="4262400"/>
            <a:ext cx="510552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385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MM5 and ETA 300 mb Wind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13716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onger Jets in the MM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5715000" cy="3794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505320" y="3112920"/>
            <a:ext cx="56386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earch Committee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ociate Professor Charles E. Gr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irperson and Academic Advi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essor James T. Mo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ociate Professor Robert W. Pas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making this research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Winds to evaluate Divergence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4114800"/>
            <a:ext cx="4724280" cy="24415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419720" y="4114800"/>
            <a:ext cx="472428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0" y="685800"/>
            <a:ext cx="4724280" cy="32446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4419720" y="685800"/>
            <a:ext cx="472428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omain 1: 500 mb Height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4030560"/>
            <a:ext cx="5562720" cy="28274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33520" y="137160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 Pattern and Intensity Repres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rcRect l="8651" t="0" r="7925" b="0"/>
          <a:stretch/>
        </p:blipFill>
        <p:spPr>
          <a:xfrm>
            <a:off x="4038480" y="685800"/>
            <a:ext cx="510552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omain 1: 500 mb Vorticity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5181480"/>
            <a:ext cx="2895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sonable Pattern Represen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% Diff Val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6172200" cy="4251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733920" y="4106880"/>
            <a:ext cx="541008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omain 1: 500 mb Wind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5105160"/>
            <a:ext cx="762624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 Vorticity differences are not associated with the area of intere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4771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4302000"/>
            <a:ext cx="5029200" cy="2556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385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omain 1: 700 mb Height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16002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te area is in the ground in the MM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10080" y="4876920"/>
            <a:ext cx="3200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 pattern represen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ent intensity represen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200400" y="609480"/>
            <a:ext cx="5943600" cy="40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b7"/>
                </a:solidFill>
                <a:latin typeface="Arial Black"/>
              </a:rPr>
              <a:t>Domain 1: 700 mb Relative Humidity</a:t>
            </a:r>
            <a:endParaRPr b="1" lang="en-US" sz="3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52388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 pattern repres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or intensity repres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52880" y="5105520"/>
            <a:ext cx="4191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5 allows for RH &gt; 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a does 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4532400"/>
            <a:ext cx="4572000" cy="23256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819520" y="533520"/>
            <a:ext cx="6324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85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Domain 1: 700 mb Temperatures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4494240"/>
            <a:ext cx="4648320" cy="23637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52280" y="1523880"/>
            <a:ext cx="26672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 Pattern Represen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% Dif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5029200"/>
            <a:ext cx="32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jor Differences occurred over mountains and the southeast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048120" y="685800"/>
            <a:ext cx="609588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omain 1: 850 mb Height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952880" cy="32338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419720" y="457200"/>
            <a:ext cx="4724280" cy="31370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rcRect l="17643" t="0" r="0" b="0"/>
          <a:stretch/>
        </p:blipFill>
        <p:spPr>
          <a:xfrm>
            <a:off x="380880" y="3151080"/>
            <a:ext cx="4191120" cy="37069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rcRect l="16154" t="0" r="0" b="0"/>
          <a:stretch/>
        </p:blipFill>
        <p:spPr>
          <a:xfrm>
            <a:off x="4572000" y="3151080"/>
            <a:ext cx="426708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8512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omain 1: 850 mb Height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523880" y="609480"/>
            <a:ext cx="5867640" cy="29847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3733560"/>
            <a:ext cx="80074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d the Western boundary on the East side of the Rocky Mount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ed for better pattern repres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ed for diagnosis of true dif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closed low in the MM5 and a trough in the E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b7"/>
                </a:solidFill>
                <a:latin typeface="Arial Black"/>
              </a:rPr>
              <a:t>Domain 1: 850 mb Relative Humidity</a:t>
            </a:r>
            <a:endParaRPr b="1" lang="en-US" sz="3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4417920"/>
            <a:ext cx="4800600" cy="2440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0" y="1371600"/>
            <a:ext cx="32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ing the boundary did nothing to improve the 850 mb RH Stat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51055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ly due to super- saturation differences, but had more of an impact at 850 m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rcRect l="10753" t="0" r="0" b="0"/>
          <a:stretch/>
        </p:blipFill>
        <p:spPr>
          <a:xfrm>
            <a:off x="3657600" y="533520"/>
            <a:ext cx="54864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earch Objectiv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ination of the physical processes that occur in systems associated with weak cyclogenesis through the use of numerical model simul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ination of th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yor Be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SS / CSI / EP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-level frontogen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lectivities and precipitation estim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ummary of Domain 1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representation of Heights for all levels and at all time peri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differences in the winds lead to larger differences in divergence and vorticity, because of the associated derivati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M5 allows for RH&gt;100% Eta does no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M5 developed a stronger low at 850 mb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sonable representations were found so investigation into the smaller domains could contin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main 2: Mesosca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is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3851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omain 2: Moisture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5105520" cy="38372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038480" y="3009960"/>
            <a:ext cx="5105520" cy="38480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257800" y="685800"/>
            <a:ext cx="3657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0-500 mb Mean R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ep layer of RH&gt;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light orange col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38080" y="4952880"/>
            <a:ext cx="2819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50 mb RH and Wind ve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urple &gt; 10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Trowal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4572000" cy="34466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466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4572000" y="3411360"/>
            <a:ext cx="4572000" cy="34466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609480" y="4419720"/>
            <a:ext cx="36576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00 mb Heights, wind vectors, and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eak Trow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light rid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Theta-E advection (900-800mb)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140360" cy="31212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5029200" y="457200"/>
            <a:ext cx="4114800" cy="31021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029200" y="3755880"/>
            <a:ext cx="4114800" cy="31021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57200" y="3962520"/>
            <a:ext cx="3809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ight positive theta-e advection corresponding to the theta-e ri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impres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38512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omain 2: Instability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209680" y="762120"/>
            <a:ext cx="5034240" cy="37893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457164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V and RH at 600 mb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le region RH&gt;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ple—EPV &lt; 0 – C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en—EPV &gt;0, but &lt; 0.25 – W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385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omain 2: DCB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33520" y="569880"/>
            <a:ext cx="838188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38512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omain 2: Instability—DCB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648320" y="533520"/>
            <a:ext cx="4491000" cy="3375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800600" y="3962520"/>
            <a:ext cx="43434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eudo-water vapor image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per-level Potential Vortic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atospheric origin of the air associated with the DC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extremely dry air can be seen in the 1000-500 mb Mean RH (dark purples and blu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4838760" cy="34210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0" y="3244680"/>
            <a:ext cx="480060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Domain 2: Instability—Soundings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4648320" cy="32162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rcRect l="0" t="0" r="5707" b="0"/>
          <a:stretch/>
        </p:blipFill>
        <p:spPr>
          <a:xfrm>
            <a:off x="4419720" y="609480"/>
            <a:ext cx="4724280" cy="37483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rcRect l="0" t="0" r="5707" b="0"/>
          <a:stretch/>
        </p:blipFill>
        <p:spPr>
          <a:xfrm>
            <a:off x="0" y="3048120"/>
            <a:ext cx="4800600" cy="38098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5029200" y="46483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1752480"/>
            <a:ext cx="30492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599840" y="2133720"/>
            <a:ext cx="3049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133720" y="1981080"/>
            <a:ext cx="2438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327560"/>
            <a:ext cx="43434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ist-neutral lapse rate with a ‘col point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nematic Sweet spot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nacos (200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ical CSI Sou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semueller and Zubrick (199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2286000"/>
            <a:ext cx="1447920" cy="3682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00 UT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057400" y="5334120"/>
            <a:ext cx="1371600" cy="3682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00 UT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omain 2: Lift-- Frontogenesi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4191120" cy="31604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4952880" y="533520"/>
            <a:ext cx="4191120" cy="31240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0" y="3697200"/>
            <a:ext cx="4191120" cy="31608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4952880" y="3639960"/>
            <a:ext cx="4191120" cy="32180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114800" y="1371600"/>
            <a:ext cx="914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_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809880" y="1905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24280" y="19051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114800" y="4724280"/>
            <a:ext cx="914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_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733920" y="5257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724280" y="52578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ritical Process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stem-relative flow: Conveyor Be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W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SS / CSI / EP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ntogen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648320" cy="35035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8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omain 2: Lift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267080" y="457200"/>
            <a:ext cx="4876920" cy="36766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0" y="3238560"/>
            <a:ext cx="4800600" cy="36194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4800600" y="419112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50 to 450 mb Average Resultant Deformation and 1000 to 500 mb Average Vertical Velocities support the Fn-Converg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8512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omain 2: Lift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5867280" cy="40622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505320" y="2606760"/>
            <a:ext cx="5638680" cy="42512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971800" y="2057400"/>
            <a:ext cx="30492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400800" y="6172200"/>
            <a:ext cx="30492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4724280"/>
            <a:ext cx="27432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ta-e and vertical veloc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00 UT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2/06/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791320" y="11430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 is the middle of the cross-s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3851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ummary of Domain 2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CB intrusion lead to destabilization of the environment apparent from the soundings and from the PV and Mean RH plo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to a reduction in EPV indicative of WSS and/or C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mosphere was at or near saturation for the d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d-level frontogenesis was found, indicating UVM (warm side of the DTC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ormation and the vertical velocities supported banded precipit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nding revealed a col point and the “Typical CSI Sound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385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omain 3: Storm Scale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120" y="563868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ar Comparison—Visual Comparis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cipitation Comparison—Visual Comparis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6629400" cy="49802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572000" y="3276720"/>
            <a:ext cx="1905120" cy="6858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adar Comparis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d model-simulated reflectivities based on model-generated snow and rain waters to the observed radar available from a NIDS archive site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served radar was resized in order to provide better comparisons to the MM5 dom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M5 is going to be overestim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hasis was placed on the location and the pattern of the refle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Observed Radar: 1600 – 2000 UTC 06 February 2003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543800" cy="56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MM5 simulated Radar: 1600 – 2000 UTC 06 February 2003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3911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1700 UTC Radar Comparison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rcRect l="5820" t="0" r="0" b="0"/>
          <a:stretch/>
        </p:blipFill>
        <p:spPr>
          <a:xfrm>
            <a:off x="4343400" y="3032280"/>
            <a:ext cx="4800600" cy="38257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rcRect l="0" t="0" r="11807" b="0"/>
          <a:stretch/>
        </p:blipFill>
        <p:spPr>
          <a:xfrm>
            <a:off x="0" y="609480"/>
            <a:ext cx="4572000" cy="38912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4572000" y="762120"/>
            <a:ext cx="4267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5 band is displaced to the southeast and is not as well defined as the obser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white ellipse represents band of intere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2000 UTC Radar Comparison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12694" b="0"/>
          <a:stretch/>
        </p:blipFill>
        <p:spPr>
          <a:xfrm>
            <a:off x="0" y="609480"/>
            <a:ext cx="5029200" cy="43243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657600" y="2739960"/>
            <a:ext cx="5486400" cy="4118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5715000" y="11430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5 band is nearly in the same location as the Observ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adar Summary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ar pseudo-reflectivities were overestimations of the obser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e primarily to the formula used to compute the pseudo-reflecti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ar was able to resemble the banded pattern, however it was not seen as easily as the MM5 generated reflectivities throughout the entire domain, not seen in the obser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ystem Relative Flow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845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stem relative streamlines are identical to trajectories of a moving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s for identification of the conveyor belts through system-relative wind analysis on isentropic su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m Conveyor Belt (WC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d Conveyor Belt (CC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y Conveyor Belt (DC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ecipitation Comparis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-hourly accumulated precipitation estimates from RFC to the MM5 generated six-hourly precipitation estim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FC using both the Doppler Radar and rain gauge networks to derive their estim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5 estimate was done by summing up the non-convective precipitation parameter over a six-hour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ted based on the explicit moisture scheme, not on the C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estimated again, but emphasis was placed on the pattern simulated from the MM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Accumulated Precip: </a:t>
            </a:r>
            <a:br>
              <a:rPr sz="3200"/>
            </a:b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1800 UTC 06 – 0000 UTC 07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5029200" cy="41148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rcRect l="7463" t="0" r="0" b="0"/>
          <a:stretch/>
        </p:blipFill>
        <p:spPr>
          <a:xfrm>
            <a:off x="0" y="914400"/>
            <a:ext cx="5029200" cy="40798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5486400" y="1371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5 Est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8600" y="51814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Mississippi River Forecast Center Est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Accumulated Precipitation</a:t>
            </a:r>
            <a:br>
              <a:rPr sz="3200"/>
            </a:b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0000 UTC – 0600 UTC 07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3962520" y="2673360"/>
            <a:ext cx="5181480" cy="41846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rcRect l="5820" t="0" r="0" b="0"/>
          <a:stretch/>
        </p:blipFill>
        <p:spPr>
          <a:xfrm>
            <a:off x="0" y="990720"/>
            <a:ext cx="5105520" cy="40687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380880" y="57150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MRFC Estim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562720" y="1447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5 Estim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8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ecipitation Summa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M5 precipitation estimates were overestim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M5 produced significant precipitation throughout the entire domain, not representative of the obser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anded precipitation feature was simulated with this large precipitation reg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anded precipitation feature was located in nearly the same location as the obser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Summary of Simulation 2: February 23, 2003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ai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a contained sharper curved jets over the East Coast.  MM5 had a stronger jet over central Kans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fferences in the 300 mb Diverg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M5 produced a shortwave, not seen in the E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d effects on the vorti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50 mb heights were different by 100 gp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ch stronger low in the MM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ain differences in dealing with supersatu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ai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ep layer mois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CB lead to destabilization and reduction of EP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defined trow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d-level frontogenesis was seen as both F_n and F_s, for this case. Supported by the vertical velocities, and average resultant deform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unding revealed the “Typical CSI Sounding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ain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estimated precipitation amounts and reflectiv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s not representative of the patterns seen in the precipitation estimates (LMRFC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8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clusion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M5 compared well to the Eta used as model initialization, for the large scale.  This allowed for investigation of the smaller domai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M5 was able to simu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isture: deep layer moisture (1000-500 mb Mean R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bility: WSS and/or CSI seen through the reduction of EP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t: Frontogenesis, primarily convergence of F_n and F_s, supported by the vertical velocities and resultant deform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igation of the storm scale reveal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6 February 2003: The MM5 simulated a banded pattern in both the reflectivities and precipitation amou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 February 2003: Diagnosing a banded structure became difficult as the overestimation washed out any banded featu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uture Wor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MM5 results to another model that is possibly more representative of the actual observed conditions like the RUC-I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the formulation used for the pseudo-reflecti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unt for different indexes of ref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a more accurate Z-S relationshi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foray into a realm of numerical modeling that has not yet been undertak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Questions or Comments?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AA—CSTAR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ation can be found a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eas.slu.edu/CIPS/presentations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ipts used for calculations can be found a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eas/cips/research/GrADS/Pasch_scripts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://www.eas.slu.edu/People/Students/paschan/home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s can be direct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paschan@eas.slu.e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veyor Bel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42670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d Conveyor Belt (CC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iginates near the surface, below the level of the WCB, north of a warm frontal boundary and becomes saturated as it ascends  in an anticyclonic path as it flows toward the center of a low pressur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m Conveyor Belt (WC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iginates in warm-sector, carries warm, moist, high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e air northwa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ry Conveyor Belt (DC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iginates in the upper troposphere; one branch descends anticyclonically and the other branch ascends cyclonical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191120" y="1776240"/>
            <a:ext cx="4952880" cy="3718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410080" y="56386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age Courtesy of COM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rowa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191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ugh of warm air alof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ed the crest of the warm air alo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ping valley of tropical air” (high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cated ahead of a surface occlusion correlated with clouds and precip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owal air stream can be seen on a constant pressure surface looking for a ridge in the mid-level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e fie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sociated with the WC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3657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191120" y="3429000"/>
            <a:ext cx="4952880" cy="3429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467480" y="27432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ET from Martin 199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649116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ner 19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SS / CSI / EPV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4419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SS and CSI both enhance the potential for narrow, banded snow f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gnosed through the reduction of EP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V &lt; 0.25 PVU denotes W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V &lt; 0 PVU denotes C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tion of EPV occurs where the DCB overlays the cold air of the CCB; dry air over moist air increases the slope of th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e surfac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267080" y="1644480"/>
            <a:ext cx="4876920" cy="39182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800600" y="59436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ore and Nol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5029200"/>
            <a:ext cx="2895480" cy="83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–Convective Insta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I –Conditional Symmetric Insta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SS –Weak Symmetric Sta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8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-vector Frontogenesi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533520"/>
            <a:ext cx="3886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ghtening of the potential temperature gradi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yser et al (198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_n is normal to the potential temperature isentrop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_s is parallel to the potential temperature isentrop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vy snowfall occurs on the warm side of the DTC, associated with UVM. (convergence of F_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nacos (200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vergence of F_n is associated with frontal scale disturban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vergence of F_s is associated with synoptic scale disturbanc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6156360"/>
            <a:ext cx="472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yser et al. (1988, MWR) and Augustine and Caracena (1994, WA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>
            <a:lum contrast="12000"/>
          </a:blip>
          <a:srcRect l="4480" t="5642" r="2984" b="2344"/>
          <a:stretch/>
        </p:blipFill>
        <p:spPr>
          <a:xfrm>
            <a:off x="4038480" y="2209680"/>
            <a:ext cx="5105520" cy="39085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267080" y="838080"/>
            <a:ext cx="487692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anuel (198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SS leads to narrowing and increasing of the UVM on the warm side of the D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21:44:46Z</dcterms:created>
  <dc:creator>Adam Pasch</dc:creator>
  <dc:description/>
  <dc:language>en-US</dc:language>
  <cp:lastModifiedBy>Adam Pasch</cp:lastModifiedBy>
  <dcterms:modified xsi:type="dcterms:W3CDTF">2005-07-18T15:01:20Z</dcterms:modified>
  <cp:revision>20</cp:revision>
  <dc:subject/>
  <dc:title>Numerical Simulations of Mesoscale Snow Bands Associated with Weak Cyclogenesis</dc:title>
</cp:coreProperties>
</file>