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10.png" ContentType="image/png"/>
  <Override PartName="/ppt/media/image4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38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33.png" ContentType="image/png"/>
  <Override PartName="/ppt/media/image8.jpeg" ContentType="image/jpeg"/>
  <Override PartName="/ppt/media/image26.png" ContentType="image/png"/>
  <Override PartName="/ppt/media/image3.png" ContentType="image/png"/>
  <Override PartName="/ppt/media/image15.png" ContentType="image/png"/>
  <Override PartName="/ppt/media/image3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2.png" ContentType="image/png"/>
  <Override PartName="/ppt/media/image59.png" ContentType="image/png"/>
  <Override PartName="/ppt/media/image57.png" ContentType="image/png"/>
  <Override PartName="/ppt/media/image20.png" ContentType="image/png"/>
  <Override PartName="/ppt/media/image24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9.png" ContentType="image/png"/>
  <Override PartName="/ppt/media/image39.png" ContentType="image/png"/>
  <Override PartName="/ppt/media/image1.png" ContentType="image/png"/>
  <Override PartName="/ppt/media/image13.png" ContentType="image/png"/>
  <Override PartName="/ppt/media/image30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media/image53.png" ContentType="image/png"/>
  <Override PartName="/ppt/media/image54.png" ContentType="image/png"/>
  <Override PartName="/ppt/media/image55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54AB-8FD2-461D-860E-983B585B5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BDDC-EE45-4251-B559-2D1D54777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9FF5-D505-4EE0-AD9F-8C9E65596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39CF-9CD0-41F1-BFF5-C596A6B63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F5C6-E2D4-47A3-BA2B-9E24413EA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EBD8-3C81-4276-8164-949BE7715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4E12-E5D0-4AED-A59F-81C973107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C13D-7804-49E7-9FD5-CD4BB7DF9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8F25-8CD6-4770-8974-B9ACC61EE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D411-0CBE-4C09-AF1A-4CD63678C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9AA0-CA42-4CFA-BB9A-22C79961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D021-6536-44B2-9EE5-89AEF9612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74212-A66A-4D78-B950-750B43AB2D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Warm Season Elevated Thunderstorms: Results from Composite Analyses and Case Stud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 rot="21564600">
            <a:off x="228240" y="2590560"/>
            <a:ext cx="3276720" cy="2520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09480" y="609588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IPS Midwest Tour III: Minneapolis, MN FO, 7 June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81280" y="2362320"/>
            <a:ext cx="5639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les E. Graves and James T. Mo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perative Institute for Precipitation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int Louis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pt. of Earth &amp; Atmospheric Sci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772400" cy="5651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828800" y="62485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urtesy of COM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omposite Analysis of Warm Season Elevated Thunderst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1143000"/>
            <a:ext cx="777240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ed 21 cases ( including 35 events) of warm season elevated thunderstorms from 1993-1998 in the NWS central region; some involved multiple time periods; must have led to &gt; 4 inches of rain within 24 h over at least a 100 km X 100 km sized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d diagnostic fields for each case (e.g., temperature advection, moisture convergence, LIs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ied a MCS centroid either at initiation point or at the point of most intense convection associated with the M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d an 11 X 11 grid (grid distance = 190.5 km) about the centroid for each parameter and each event, then averaged the objectively analyzed fields to derive a composite 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5400" y="214200"/>
            <a:ext cx="895320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8705880" cy="60357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37160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mposite of Surface Condition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371600" y="60958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25 hPa Heights (gpm) and Temperatures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039760" y="380880"/>
            <a:ext cx="5046840" cy="54104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666880" y="3387600"/>
            <a:ext cx="4275360" cy="498600"/>
          </a:xfrm>
          <a:custGeom>
            <a:avLst/>
            <a:gdLst/>
            <a:ahLst/>
            <a:rect l="l" t="t" r="r" b="b"/>
            <a:pathLst>
              <a:path w="2693" h="314">
                <a:moveTo>
                  <a:pt x="0" y="314"/>
                </a:moveTo>
                <a:cubicBezTo>
                  <a:pt x="125" y="286"/>
                  <a:pt x="573" y="188"/>
                  <a:pt x="760" y="146"/>
                </a:cubicBezTo>
                <a:cubicBezTo>
                  <a:pt x="947" y="104"/>
                  <a:pt x="1046" y="79"/>
                  <a:pt x="1125" y="62"/>
                </a:cubicBezTo>
                <a:cubicBezTo>
                  <a:pt x="1204" y="45"/>
                  <a:pt x="1202" y="48"/>
                  <a:pt x="1233" y="44"/>
                </a:cubicBezTo>
                <a:cubicBezTo>
                  <a:pt x="1264" y="40"/>
                  <a:pt x="1238" y="42"/>
                  <a:pt x="1314" y="35"/>
                </a:cubicBezTo>
                <a:cubicBezTo>
                  <a:pt x="1390" y="28"/>
                  <a:pt x="1593" y="8"/>
                  <a:pt x="1691" y="4"/>
                </a:cubicBezTo>
                <a:cubicBezTo>
                  <a:pt x="1789" y="0"/>
                  <a:pt x="1790" y="9"/>
                  <a:pt x="1904" y="12"/>
                </a:cubicBezTo>
                <a:cubicBezTo>
                  <a:pt x="2018" y="15"/>
                  <a:pt x="2268" y="20"/>
                  <a:pt x="2378" y="20"/>
                </a:cubicBezTo>
                <a:cubicBezTo>
                  <a:pt x="2488" y="20"/>
                  <a:pt x="2515" y="11"/>
                  <a:pt x="2567" y="12"/>
                </a:cubicBezTo>
                <a:cubicBezTo>
                  <a:pt x="2619" y="13"/>
                  <a:pt x="2667" y="25"/>
                  <a:pt x="2693" y="2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rcRect l="23003" t="12668" r="21000" b="11332"/>
          <a:stretch/>
        </p:blipFill>
        <p:spPr>
          <a:xfrm>
            <a:off x="1676520" y="228600"/>
            <a:ext cx="5613120" cy="5715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371600" y="59436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50 hPa Heights (gpm) and Temperatures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8120" y="3324240"/>
            <a:ext cx="3809880" cy="257040"/>
          </a:xfrm>
          <a:custGeom>
            <a:avLst/>
            <a:gdLst/>
            <a:ahLst/>
            <a:rect l="l" t="t" r="r" b="b"/>
            <a:pathLst>
              <a:path w="2400" h="162">
                <a:moveTo>
                  <a:pt x="0" y="162"/>
                </a:moveTo>
                <a:cubicBezTo>
                  <a:pt x="152" y="126"/>
                  <a:pt x="304" y="90"/>
                  <a:pt x="432" y="66"/>
                </a:cubicBezTo>
                <a:cubicBezTo>
                  <a:pt x="560" y="42"/>
                  <a:pt x="656" y="28"/>
                  <a:pt x="768" y="18"/>
                </a:cubicBezTo>
                <a:cubicBezTo>
                  <a:pt x="880" y="8"/>
                  <a:pt x="974" y="4"/>
                  <a:pt x="1102" y="5"/>
                </a:cubicBezTo>
                <a:cubicBezTo>
                  <a:pt x="1230" y="6"/>
                  <a:pt x="1364" y="0"/>
                  <a:pt x="1536" y="21"/>
                </a:cubicBezTo>
                <a:cubicBezTo>
                  <a:pt x="1708" y="42"/>
                  <a:pt x="1992" y="108"/>
                  <a:pt x="2136" y="131"/>
                </a:cubicBezTo>
                <a:cubicBezTo>
                  <a:pt x="2280" y="154"/>
                  <a:pt x="2345" y="156"/>
                  <a:pt x="2400" y="162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rcRect l="24000" t="14003" r="22001" b="11332"/>
          <a:stretch/>
        </p:blipFill>
        <p:spPr>
          <a:xfrm>
            <a:off x="1676520" y="228600"/>
            <a:ext cx="5732280" cy="59436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981080" y="617220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25 hPa Wind Vectors and Isotac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828800" y="61722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50 hPa Wind Vectors and Isotachs (m 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981080" y="380880"/>
            <a:ext cx="53136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523880" y="609588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25 hPa Moisture Convergence 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  k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013120" y="380880"/>
            <a:ext cx="53863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523880" y="601992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50 hPa Moisture Convergence 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  k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rcRect l="23003" t="14003" r="20003" b="14003"/>
          <a:stretch/>
        </p:blipFill>
        <p:spPr>
          <a:xfrm>
            <a:off x="1447920" y="304920"/>
            <a:ext cx="6019560" cy="57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Definition of an “Elevated Thunderstorm” </a:t>
            </a:r>
            <a:br>
              <a:rPr sz="2600"/>
            </a:b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(Colman 1990, MWR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elevated thunderstorm occurs above a frontal i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isolated from surface diabatic effects which are often considered fundamental to thunderstorm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man’s criteria includ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 must lie on the cold side of an analyzed front, showing a clear contrast in temperature, dew point, and w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tation’s temperature, dew point, and wind must be qualitatively similar to immediately surround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urface air on the warm side of the analyzed front must have a higher </a:t>
            </a:r>
            <a:r>
              <a:rPr b="0" lang="en-US" sz="2400" spc="-1" strike="noStrike">
                <a:solidFill>
                  <a:srgbClr val="000000"/>
                </a:solidFill>
                <a:latin typeface="WP Greek Century"/>
                <a:ea typeface="WP Greek Century"/>
              </a:rPr>
              <a:t>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n the air on the cold side of the bound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rcRect l="24000" t="14003" r="21000" b="14003"/>
          <a:stretch/>
        </p:blipFill>
        <p:spPr>
          <a:xfrm>
            <a:off x="1828800" y="457200"/>
            <a:ext cx="5486400" cy="53863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819520" y="5943600"/>
            <a:ext cx="3504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50 hPa </a:t>
            </a:r>
            <a:r>
              <a:rPr b="0" lang="en-US" sz="2400" spc="-1" strike="noStrike">
                <a:solidFill>
                  <a:srgbClr val="000000"/>
                </a:solidFill>
                <a:latin typeface="WP Greek Century"/>
                <a:ea typeface="WP Greek Century"/>
              </a:rPr>
              <a:t>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91120" y="2286000"/>
            <a:ext cx="295200" cy="2224080"/>
          </a:xfrm>
          <a:custGeom>
            <a:avLst/>
            <a:gdLst/>
            <a:ahLst/>
            <a:rect l="l" t="t" r="r" b="b"/>
            <a:pathLst>
              <a:path w="186" h="1401">
                <a:moveTo>
                  <a:pt x="0" y="0"/>
                </a:moveTo>
                <a:cubicBezTo>
                  <a:pt x="19" y="66"/>
                  <a:pt x="87" y="259"/>
                  <a:pt x="114" y="398"/>
                </a:cubicBezTo>
                <a:cubicBezTo>
                  <a:pt x="141" y="537"/>
                  <a:pt x="150" y="708"/>
                  <a:pt x="161" y="832"/>
                </a:cubicBezTo>
                <a:cubicBezTo>
                  <a:pt x="172" y="956"/>
                  <a:pt x="173" y="1058"/>
                  <a:pt x="177" y="1140"/>
                </a:cubicBezTo>
                <a:cubicBezTo>
                  <a:pt x="181" y="1222"/>
                  <a:pt x="184" y="1279"/>
                  <a:pt x="185" y="1322"/>
                </a:cubicBezTo>
                <a:cubicBezTo>
                  <a:pt x="186" y="1365"/>
                  <a:pt x="185" y="1385"/>
                  <a:pt x="185" y="1401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828800" y="6019920"/>
            <a:ext cx="571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50 hPa </a:t>
            </a:r>
            <a:r>
              <a:rPr b="0" lang="en-US" sz="2400" spc="-1" strike="noStrike">
                <a:solidFill>
                  <a:srgbClr val="000000"/>
                </a:solidFill>
                <a:latin typeface="WP Greek Century"/>
                <a:ea typeface="WP Greek Century"/>
              </a:rPr>
              <a:t>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dvection 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K 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57400" y="304920"/>
            <a:ext cx="5427720" cy="55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371600" y="59436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50 hPa Moisture Transport Vectors (g-m k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4057"/>
          <a:stretch/>
        </p:blipFill>
        <p:spPr>
          <a:xfrm>
            <a:off x="1752480" y="380880"/>
            <a:ext cx="553572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25001" t="18003" r="22001" b="15332"/>
          <a:stretch/>
        </p:blipFill>
        <p:spPr>
          <a:xfrm>
            <a:off x="228600" y="304920"/>
            <a:ext cx="4038480" cy="38098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26003" t="18665" r="22001" b="12000"/>
          <a:stretch/>
        </p:blipFill>
        <p:spPr>
          <a:xfrm>
            <a:off x="4724280" y="2438280"/>
            <a:ext cx="3962520" cy="39625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572000" y="5335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mposite 2-D Frontogenesis Fiel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85720" y="1752480"/>
            <a:ext cx="2386080" cy="1076400"/>
          </a:xfrm>
          <a:custGeom>
            <a:avLst/>
            <a:gdLst/>
            <a:ahLst/>
            <a:rect l="l" t="t" r="r" b="b"/>
            <a:pathLst>
              <a:path w="1503" h="678">
                <a:moveTo>
                  <a:pt x="0" y="678"/>
                </a:moveTo>
                <a:cubicBezTo>
                  <a:pt x="29" y="674"/>
                  <a:pt x="110" y="668"/>
                  <a:pt x="176" y="655"/>
                </a:cubicBezTo>
                <a:cubicBezTo>
                  <a:pt x="242" y="642"/>
                  <a:pt x="268" y="641"/>
                  <a:pt x="399" y="601"/>
                </a:cubicBezTo>
                <a:cubicBezTo>
                  <a:pt x="530" y="561"/>
                  <a:pt x="824" y="477"/>
                  <a:pt x="960" y="417"/>
                </a:cubicBezTo>
                <a:cubicBezTo>
                  <a:pt x="1096" y="357"/>
                  <a:pt x="1124" y="310"/>
                  <a:pt x="1215" y="240"/>
                </a:cubicBezTo>
                <a:cubicBezTo>
                  <a:pt x="1306" y="170"/>
                  <a:pt x="1411" y="88"/>
                  <a:pt x="1503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3429000"/>
            <a:ext cx="1905120" cy="990720"/>
          </a:xfrm>
          <a:custGeom>
            <a:avLst/>
            <a:gdLst/>
            <a:ahLst/>
            <a:rect l="l" t="t" r="r" b="b"/>
            <a:pathLst>
              <a:path w="1200" h="624">
                <a:moveTo>
                  <a:pt x="0" y="624"/>
                </a:moveTo>
                <a:cubicBezTo>
                  <a:pt x="29" y="617"/>
                  <a:pt x="98" y="607"/>
                  <a:pt x="173" y="582"/>
                </a:cubicBezTo>
                <a:cubicBezTo>
                  <a:pt x="248" y="557"/>
                  <a:pt x="384" y="502"/>
                  <a:pt x="449" y="474"/>
                </a:cubicBezTo>
                <a:cubicBezTo>
                  <a:pt x="514" y="446"/>
                  <a:pt x="527" y="431"/>
                  <a:pt x="564" y="413"/>
                </a:cubicBezTo>
                <a:cubicBezTo>
                  <a:pt x="601" y="395"/>
                  <a:pt x="626" y="390"/>
                  <a:pt x="672" y="367"/>
                </a:cubicBezTo>
                <a:cubicBezTo>
                  <a:pt x="718" y="344"/>
                  <a:pt x="753" y="336"/>
                  <a:pt x="841" y="275"/>
                </a:cubicBezTo>
                <a:cubicBezTo>
                  <a:pt x="929" y="214"/>
                  <a:pt x="1125" y="57"/>
                  <a:pt x="120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219320" y="6095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0 hPa Heights (gpm) and Absolute Vorticity 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5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082960" y="228600"/>
            <a:ext cx="5473440" cy="58672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286000" y="32004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0" y="3352680"/>
            <a:ext cx="1295280" cy="213372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2209680"/>
            <a:ext cx="1600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Neutral vorticity advection at MCS 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523880" y="624852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0 hPa Winds and Isotachs (m 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828800" y="228600"/>
            <a:ext cx="5600880" cy="59436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791320" y="4572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320" y="24382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MCS area in right-entrance region of UL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133720" y="838080"/>
            <a:ext cx="3733560" cy="1524240"/>
          </a:xfrm>
          <a:custGeom>
            <a:avLst/>
            <a:gdLst/>
            <a:ahLst/>
            <a:rect l="l" t="t" r="r" b="b"/>
            <a:pathLst>
              <a:path w="2352" h="912">
                <a:moveTo>
                  <a:pt x="0" y="912"/>
                </a:moveTo>
                <a:cubicBezTo>
                  <a:pt x="212" y="812"/>
                  <a:pt x="424" y="712"/>
                  <a:pt x="624" y="624"/>
                </a:cubicBezTo>
                <a:cubicBezTo>
                  <a:pt x="824" y="536"/>
                  <a:pt x="1016" y="456"/>
                  <a:pt x="1200" y="384"/>
                </a:cubicBezTo>
                <a:cubicBezTo>
                  <a:pt x="1384" y="312"/>
                  <a:pt x="1536" y="256"/>
                  <a:pt x="1728" y="192"/>
                </a:cubicBezTo>
                <a:cubicBezTo>
                  <a:pt x="1920" y="128"/>
                  <a:pt x="2136" y="64"/>
                  <a:pt x="235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981080" y="601992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0 hPa Divergence 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5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117880" y="457200"/>
            <a:ext cx="5351400" cy="54864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52280" y="2438280"/>
            <a:ext cx="1828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Div may have some MCS-induced  contam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752480" y="6019920"/>
            <a:ext cx="5791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um </a:t>
            </a:r>
            <a:r>
              <a:rPr b="0" lang="en-US" sz="2400" spc="-1" strike="noStrike">
                <a:solidFill>
                  <a:srgbClr val="000000"/>
                </a:solidFill>
                <a:latin typeface="WP Greek Century"/>
                <a:ea typeface="WP Greek Century"/>
              </a:rPr>
              <a:t>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PE (J K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905120" y="304920"/>
            <a:ext cx="5481360" cy="5580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52280" y="2514600"/>
            <a:ext cx="167652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Max-</a:t>
            </a:r>
            <a:r>
              <a:rPr b="1" lang="en-US" sz="2000" spc="-1" strike="noStrike">
                <a:solidFill>
                  <a:srgbClr val="3333cc"/>
                </a:solidFill>
                <a:latin typeface="WP Greek Century"/>
                <a:ea typeface="WP Greek Century"/>
              </a:rPr>
              <a:t>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CAPE at MCS site ~ 1220 J kg</a:t>
            </a:r>
            <a:r>
              <a:rPr b="1" lang="en-US" sz="2000" spc="-1" strike="noStrike" baseline="30000">
                <a:solidFill>
                  <a:srgbClr val="3333cc"/>
                </a:solidFill>
                <a:latin typeface="Times New Roman"/>
              </a:rPr>
              <a:t>-1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(about 2x mean parcel CAP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090880" y="304920"/>
            <a:ext cx="5362560" cy="58147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057400" y="6172200"/>
            <a:ext cx="5791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um </a:t>
            </a:r>
            <a:r>
              <a:rPr b="0" lang="en-US" sz="2400" spc="-1" strike="noStrike">
                <a:solidFill>
                  <a:srgbClr val="000000"/>
                </a:solidFill>
                <a:latin typeface="WP Greek Century"/>
                <a:ea typeface="WP Greek Century"/>
              </a:rPr>
              <a:t>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IN (J K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2280" y="2514600"/>
            <a:ext cx="18288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Max-</a:t>
            </a:r>
            <a:r>
              <a:rPr b="1" lang="en-US" sz="2000" spc="-1" strike="noStrike">
                <a:solidFill>
                  <a:srgbClr val="3333cc"/>
                </a:solidFill>
                <a:latin typeface="WP Greek Century"/>
                <a:ea typeface="WP Greek Century"/>
              </a:rPr>
              <a:t>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CIN at MCS site ~ 37 J kg</a:t>
            </a:r>
            <a:r>
              <a:rPr b="1" lang="en-US" sz="2000" spc="-1" strike="noStrike" baseline="30000">
                <a:solidFill>
                  <a:srgbClr val="3333cc"/>
                </a:solidFill>
                <a:latin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48320" y="2057400"/>
            <a:ext cx="609480" cy="24382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371600" y="601992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Surface-500 hPa Relative Humidity (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828800" y="304920"/>
            <a:ext cx="55609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Elevated Thunderstorms (cont.)</a:t>
            </a:r>
            <a:br>
              <a:rPr sz="2600"/>
            </a:b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(Colman 1990, MWR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cold sector MCSs generally fit the Maddox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frontal or meso-hig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ype flash flood scen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vated thunderstorms can occur during any time of year; they usually as associated with heavy rain/snow or hail; nearly all winter-season thunderstorms over the United States east of the Rockies (excluding Florida) are of the elevated typ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matology of elevated thunderstorms reveals a bimodal variation; primary maximum in April, secondary maximum in Sept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295280" y="6248520"/>
            <a:ext cx="6629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site Plot of </a:t>
            </a:r>
            <a:r>
              <a:rPr b="0" lang="en-US" sz="2400" spc="-1" strike="noStrike">
                <a:solidFill>
                  <a:srgbClr val="000000"/>
                </a:solidFill>
                <a:latin typeface="WP Greek Century"/>
                <a:ea typeface="WP Greek Century"/>
              </a:rPr>
              <a:t>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K) at Active MCS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914400" y="228600"/>
            <a:ext cx="7292880" cy="58183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7162920" y="3429000"/>
            <a:ext cx="198108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P Greek Century"/>
                <a:ea typeface="WP Greek Century"/>
              </a:rPr>
              <a:t>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 - 4.5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l, stable P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6248160" y="4572000"/>
            <a:ext cx="5331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3733920" y="3657600"/>
            <a:ext cx="7617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33520" y="617220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site Sounding at Low-Level Inflow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782200" cy="584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447920" y="59436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site Hodograph at Low-Level Inflow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7818480" cy="52578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590920" y="2895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L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2057400" y="1752120"/>
            <a:ext cx="990720" cy="2590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95480" y="1371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4 m s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676520" y="6019920"/>
            <a:ext cx="5790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6248520"/>
            <a:ext cx="6781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site Plot of </a:t>
            </a:r>
            <a:r>
              <a:rPr b="0" lang="en-US" sz="2400" spc="-1" strike="noStrike">
                <a:solidFill>
                  <a:srgbClr val="000000"/>
                </a:solidFill>
                <a:latin typeface="WP Greek Century"/>
                <a:ea typeface="WP Greek Century"/>
              </a:rPr>
              <a:t>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K) at Low-Level Inflow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7211880" cy="58179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7162920" y="342900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P Greek Century"/>
                <a:ea typeface="WP Greek Century"/>
              </a:rPr>
              <a:t>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 -15.5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819160" y="342900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7162560" y="541008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914400" y="1447920"/>
            <a:ext cx="731520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ase Study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3-4 June 2002 over eastern Iowa and northwest Illino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ll data shown is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0000 UTC 4 June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5867280" cy="55929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76320" y="152280"/>
            <a:ext cx="899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KDVN WSR-88D Storm Total Precipitation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(in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553080" y="1143000"/>
            <a:ext cx="2438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 – 11 inches       reported in Delaware and Dubuque counties in Iow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2971800" y="1447920"/>
            <a:ext cx="358128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553080" y="388620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ounts greater than 4 inches were common in the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429000" y="38098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04920" y="4157640"/>
            <a:ext cx="1941480" cy="1260360"/>
          </a:xfrm>
          <a:custGeom>
            <a:avLst/>
            <a:gdLst/>
            <a:ahLst/>
            <a:rect l="l" t="t" r="r" b="b"/>
            <a:pathLst>
              <a:path w="1223" h="794">
                <a:moveTo>
                  <a:pt x="0" y="591"/>
                </a:moveTo>
                <a:cubicBezTo>
                  <a:pt x="30" y="593"/>
                  <a:pt x="55" y="597"/>
                  <a:pt x="84" y="603"/>
                </a:cubicBezTo>
                <a:cubicBezTo>
                  <a:pt x="143" y="601"/>
                  <a:pt x="199" y="596"/>
                  <a:pt x="258" y="594"/>
                </a:cubicBezTo>
                <a:cubicBezTo>
                  <a:pt x="330" y="596"/>
                  <a:pt x="399" y="595"/>
                  <a:pt x="471" y="591"/>
                </a:cubicBezTo>
                <a:cubicBezTo>
                  <a:pt x="541" y="593"/>
                  <a:pt x="611" y="591"/>
                  <a:pt x="681" y="597"/>
                </a:cubicBezTo>
                <a:cubicBezTo>
                  <a:pt x="704" y="599"/>
                  <a:pt x="750" y="603"/>
                  <a:pt x="750" y="603"/>
                </a:cubicBezTo>
                <a:cubicBezTo>
                  <a:pt x="765" y="625"/>
                  <a:pt x="789" y="643"/>
                  <a:pt x="801" y="666"/>
                </a:cubicBezTo>
                <a:cubicBezTo>
                  <a:pt x="808" y="679"/>
                  <a:pt x="830" y="728"/>
                  <a:pt x="840" y="735"/>
                </a:cubicBezTo>
                <a:cubicBezTo>
                  <a:pt x="844" y="748"/>
                  <a:pt x="856" y="759"/>
                  <a:pt x="864" y="771"/>
                </a:cubicBezTo>
                <a:cubicBezTo>
                  <a:pt x="868" y="777"/>
                  <a:pt x="876" y="789"/>
                  <a:pt x="876" y="789"/>
                </a:cubicBezTo>
                <a:cubicBezTo>
                  <a:pt x="886" y="788"/>
                  <a:pt x="896" y="788"/>
                  <a:pt x="906" y="786"/>
                </a:cubicBezTo>
                <a:cubicBezTo>
                  <a:pt x="912" y="785"/>
                  <a:pt x="924" y="780"/>
                  <a:pt x="924" y="780"/>
                </a:cubicBezTo>
                <a:cubicBezTo>
                  <a:pt x="932" y="755"/>
                  <a:pt x="920" y="794"/>
                  <a:pt x="930" y="744"/>
                </a:cubicBezTo>
                <a:cubicBezTo>
                  <a:pt x="932" y="735"/>
                  <a:pt x="939" y="717"/>
                  <a:pt x="939" y="717"/>
                </a:cubicBezTo>
                <a:cubicBezTo>
                  <a:pt x="932" y="696"/>
                  <a:pt x="937" y="704"/>
                  <a:pt x="927" y="690"/>
                </a:cubicBezTo>
                <a:cubicBezTo>
                  <a:pt x="930" y="667"/>
                  <a:pt x="917" y="624"/>
                  <a:pt x="945" y="615"/>
                </a:cubicBezTo>
                <a:cubicBezTo>
                  <a:pt x="980" y="589"/>
                  <a:pt x="1011" y="577"/>
                  <a:pt x="1053" y="567"/>
                </a:cubicBezTo>
                <a:cubicBezTo>
                  <a:pt x="1056" y="565"/>
                  <a:pt x="1059" y="564"/>
                  <a:pt x="1062" y="561"/>
                </a:cubicBezTo>
                <a:cubicBezTo>
                  <a:pt x="1065" y="558"/>
                  <a:pt x="1065" y="554"/>
                  <a:pt x="1068" y="552"/>
                </a:cubicBezTo>
                <a:cubicBezTo>
                  <a:pt x="1073" y="548"/>
                  <a:pt x="1080" y="547"/>
                  <a:pt x="1086" y="543"/>
                </a:cubicBezTo>
                <a:cubicBezTo>
                  <a:pt x="1093" y="533"/>
                  <a:pt x="1100" y="526"/>
                  <a:pt x="1110" y="519"/>
                </a:cubicBezTo>
                <a:cubicBezTo>
                  <a:pt x="1117" y="508"/>
                  <a:pt x="1123" y="508"/>
                  <a:pt x="1134" y="501"/>
                </a:cubicBezTo>
                <a:cubicBezTo>
                  <a:pt x="1142" y="489"/>
                  <a:pt x="1136" y="485"/>
                  <a:pt x="1140" y="471"/>
                </a:cubicBezTo>
                <a:cubicBezTo>
                  <a:pt x="1141" y="453"/>
                  <a:pt x="1141" y="435"/>
                  <a:pt x="1143" y="417"/>
                </a:cubicBezTo>
                <a:cubicBezTo>
                  <a:pt x="1146" y="388"/>
                  <a:pt x="1186" y="376"/>
                  <a:pt x="1197" y="351"/>
                </a:cubicBezTo>
                <a:cubicBezTo>
                  <a:pt x="1204" y="335"/>
                  <a:pt x="1207" y="319"/>
                  <a:pt x="1215" y="303"/>
                </a:cubicBezTo>
                <a:cubicBezTo>
                  <a:pt x="1219" y="285"/>
                  <a:pt x="1223" y="267"/>
                  <a:pt x="1206" y="255"/>
                </a:cubicBezTo>
                <a:cubicBezTo>
                  <a:pt x="1196" y="226"/>
                  <a:pt x="1212" y="267"/>
                  <a:pt x="1194" y="240"/>
                </a:cubicBezTo>
                <a:cubicBezTo>
                  <a:pt x="1180" y="219"/>
                  <a:pt x="1191" y="196"/>
                  <a:pt x="1167" y="180"/>
                </a:cubicBezTo>
                <a:cubicBezTo>
                  <a:pt x="1162" y="172"/>
                  <a:pt x="1098" y="123"/>
                  <a:pt x="1113" y="132"/>
                </a:cubicBezTo>
                <a:cubicBezTo>
                  <a:pt x="1102" y="118"/>
                  <a:pt x="1106" y="107"/>
                  <a:pt x="1101" y="99"/>
                </a:cubicBezTo>
                <a:cubicBezTo>
                  <a:pt x="1096" y="91"/>
                  <a:pt x="1077" y="94"/>
                  <a:pt x="1080" y="84"/>
                </a:cubicBezTo>
                <a:cubicBezTo>
                  <a:pt x="1064" y="60"/>
                  <a:pt x="1105" y="50"/>
                  <a:pt x="1122" y="36"/>
                </a:cubicBezTo>
                <a:lnTo>
                  <a:pt x="1185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09680" y="1562040"/>
            <a:ext cx="2585880" cy="2600280"/>
          </a:xfrm>
          <a:custGeom>
            <a:avLst/>
            <a:gdLst/>
            <a:ahLst/>
            <a:rect l="l" t="t" r="r" b="b"/>
            <a:pathLst>
              <a:path w="1629" h="1638">
                <a:moveTo>
                  <a:pt x="1113" y="1638"/>
                </a:moveTo>
                <a:cubicBezTo>
                  <a:pt x="1119" y="1634"/>
                  <a:pt x="1127" y="1632"/>
                  <a:pt x="1131" y="1626"/>
                </a:cubicBezTo>
                <a:cubicBezTo>
                  <a:pt x="1133" y="1623"/>
                  <a:pt x="1134" y="1619"/>
                  <a:pt x="1137" y="1617"/>
                </a:cubicBezTo>
                <a:cubicBezTo>
                  <a:pt x="1147" y="1609"/>
                  <a:pt x="1162" y="1603"/>
                  <a:pt x="1173" y="1596"/>
                </a:cubicBezTo>
                <a:cubicBezTo>
                  <a:pt x="1187" y="1586"/>
                  <a:pt x="1179" y="1591"/>
                  <a:pt x="1200" y="1584"/>
                </a:cubicBezTo>
                <a:cubicBezTo>
                  <a:pt x="1203" y="1583"/>
                  <a:pt x="1209" y="1581"/>
                  <a:pt x="1209" y="1581"/>
                </a:cubicBezTo>
                <a:cubicBezTo>
                  <a:pt x="1245" y="1585"/>
                  <a:pt x="1246" y="1587"/>
                  <a:pt x="1290" y="1581"/>
                </a:cubicBezTo>
                <a:cubicBezTo>
                  <a:pt x="1303" y="1579"/>
                  <a:pt x="1326" y="1569"/>
                  <a:pt x="1326" y="1569"/>
                </a:cubicBezTo>
                <a:cubicBezTo>
                  <a:pt x="1366" y="1529"/>
                  <a:pt x="1421" y="1511"/>
                  <a:pt x="1473" y="1494"/>
                </a:cubicBezTo>
                <a:cubicBezTo>
                  <a:pt x="1497" y="1470"/>
                  <a:pt x="1496" y="1444"/>
                  <a:pt x="1503" y="1413"/>
                </a:cubicBezTo>
                <a:cubicBezTo>
                  <a:pt x="1510" y="1378"/>
                  <a:pt x="1530" y="1337"/>
                  <a:pt x="1560" y="1317"/>
                </a:cubicBezTo>
                <a:cubicBezTo>
                  <a:pt x="1570" y="1302"/>
                  <a:pt x="1581" y="1290"/>
                  <a:pt x="1587" y="1272"/>
                </a:cubicBezTo>
                <a:cubicBezTo>
                  <a:pt x="1581" y="1254"/>
                  <a:pt x="1607" y="1236"/>
                  <a:pt x="1617" y="1221"/>
                </a:cubicBezTo>
                <a:cubicBezTo>
                  <a:pt x="1606" y="1214"/>
                  <a:pt x="1606" y="1199"/>
                  <a:pt x="1611" y="1185"/>
                </a:cubicBezTo>
                <a:cubicBezTo>
                  <a:pt x="1609" y="1156"/>
                  <a:pt x="1629" y="1145"/>
                  <a:pt x="1614" y="1122"/>
                </a:cubicBezTo>
                <a:cubicBezTo>
                  <a:pt x="1616" y="1100"/>
                  <a:pt x="1599" y="1089"/>
                  <a:pt x="1581" y="1077"/>
                </a:cubicBezTo>
                <a:cubicBezTo>
                  <a:pt x="1570" y="1044"/>
                  <a:pt x="1543" y="1033"/>
                  <a:pt x="1512" y="1023"/>
                </a:cubicBezTo>
                <a:cubicBezTo>
                  <a:pt x="1496" y="1018"/>
                  <a:pt x="1506" y="1022"/>
                  <a:pt x="1485" y="1008"/>
                </a:cubicBezTo>
                <a:cubicBezTo>
                  <a:pt x="1482" y="1006"/>
                  <a:pt x="1476" y="1002"/>
                  <a:pt x="1476" y="1002"/>
                </a:cubicBezTo>
                <a:cubicBezTo>
                  <a:pt x="1467" y="989"/>
                  <a:pt x="1458" y="977"/>
                  <a:pt x="1443" y="972"/>
                </a:cubicBezTo>
                <a:cubicBezTo>
                  <a:pt x="1453" y="958"/>
                  <a:pt x="1437" y="953"/>
                  <a:pt x="1440" y="936"/>
                </a:cubicBezTo>
                <a:cubicBezTo>
                  <a:pt x="1436" y="924"/>
                  <a:pt x="1444" y="913"/>
                  <a:pt x="1434" y="903"/>
                </a:cubicBezTo>
                <a:cubicBezTo>
                  <a:pt x="1421" y="864"/>
                  <a:pt x="1392" y="862"/>
                  <a:pt x="1359" y="843"/>
                </a:cubicBezTo>
                <a:cubicBezTo>
                  <a:pt x="1350" y="838"/>
                  <a:pt x="1341" y="831"/>
                  <a:pt x="1332" y="825"/>
                </a:cubicBezTo>
                <a:cubicBezTo>
                  <a:pt x="1329" y="823"/>
                  <a:pt x="1323" y="819"/>
                  <a:pt x="1323" y="819"/>
                </a:cubicBezTo>
                <a:cubicBezTo>
                  <a:pt x="1303" y="789"/>
                  <a:pt x="1301" y="736"/>
                  <a:pt x="1284" y="699"/>
                </a:cubicBezTo>
                <a:cubicBezTo>
                  <a:pt x="1275" y="679"/>
                  <a:pt x="1283" y="684"/>
                  <a:pt x="1269" y="672"/>
                </a:cubicBezTo>
                <a:cubicBezTo>
                  <a:pt x="1248" y="655"/>
                  <a:pt x="1203" y="645"/>
                  <a:pt x="1176" y="639"/>
                </a:cubicBezTo>
                <a:cubicBezTo>
                  <a:pt x="1166" y="637"/>
                  <a:pt x="1156" y="635"/>
                  <a:pt x="1146" y="633"/>
                </a:cubicBezTo>
                <a:cubicBezTo>
                  <a:pt x="1134" y="631"/>
                  <a:pt x="1110" y="627"/>
                  <a:pt x="1110" y="627"/>
                </a:cubicBezTo>
                <a:cubicBezTo>
                  <a:pt x="1101" y="621"/>
                  <a:pt x="1092" y="618"/>
                  <a:pt x="1083" y="612"/>
                </a:cubicBezTo>
                <a:cubicBezTo>
                  <a:pt x="1076" y="601"/>
                  <a:pt x="1076" y="595"/>
                  <a:pt x="1065" y="588"/>
                </a:cubicBezTo>
                <a:cubicBezTo>
                  <a:pt x="1059" y="570"/>
                  <a:pt x="1052" y="554"/>
                  <a:pt x="1044" y="537"/>
                </a:cubicBezTo>
                <a:cubicBezTo>
                  <a:pt x="1040" y="528"/>
                  <a:pt x="1035" y="510"/>
                  <a:pt x="1035" y="510"/>
                </a:cubicBezTo>
                <a:cubicBezTo>
                  <a:pt x="1033" y="490"/>
                  <a:pt x="1031" y="470"/>
                  <a:pt x="1029" y="450"/>
                </a:cubicBezTo>
                <a:cubicBezTo>
                  <a:pt x="1028" y="444"/>
                  <a:pt x="1023" y="432"/>
                  <a:pt x="1023" y="432"/>
                </a:cubicBezTo>
                <a:cubicBezTo>
                  <a:pt x="1020" y="402"/>
                  <a:pt x="1017" y="374"/>
                  <a:pt x="1011" y="345"/>
                </a:cubicBezTo>
                <a:cubicBezTo>
                  <a:pt x="1012" y="328"/>
                  <a:pt x="1012" y="311"/>
                  <a:pt x="1014" y="294"/>
                </a:cubicBezTo>
                <a:cubicBezTo>
                  <a:pt x="1021" y="275"/>
                  <a:pt x="1043" y="246"/>
                  <a:pt x="1053" y="228"/>
                </a:cubicBezTo>
                <a:cubicBezTo>
                  <a:pt x="1063" y="210"/>
                  <a:pt x="1075" y="200"/>
                  <a:pt x="1074" y="186"/>
                </a:cubicBezTo>
                <a:cubicBezTo>
                  <a:pt x="1068" y="167"/>
                  <a:pt x="1067" y="155"/>
                  <a:pt x="1050" y="144"/>
                </a:cubicBezTo>
                <a:cubicBezTo>
                  <a:pt x="1037" y="124"/>
                  <a:pt x="1003" y="111"/>
                  <a:pt x="987" y="90"/>
                </a:cubicBezTo>
                <a:lnTo>
                  <a:pt x="954" y="18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7925040" cy="5931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0" y="76320"/>
            <a:ext cx="8915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GOES-IR Satellite Loop for 15 UTC 3 June – 21 UTC 4 June 200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438280" y="609480"/>
            <a:ext cx="6553440" cy="50292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276720" y="579132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Weak cyclonic circulation anchored in SW Iowa since 2000 UTC 3 Ju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" y="1143000"/>
            <a:ext cx="198108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trong thermal gradient across the bound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* In Iowa: 60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°F in the north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80°F in the sou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48769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onary fro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2057400" y="4572000"/>
            <a:ext cx="91440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522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urface Analysis for 00 UTC 4 June 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105520" y="2286000"/>
            <a:ext cx="1450800" cy="981000"/>
          </a:xfrm>
          <a:custGeom>
            <a:avLst/>
            <a:gdLst/>
            <a:ahLst/>
            <a:rect l="l" t="t" r="r" b="b"/>
            <a:pathLst>
              <a:path w="914" h="618">
                <a:moveTo>
                  <a:pt x="30" y="1"/>
                </a:moveTo>
                <a:cubicBezTo>
                  <a:pt x="0" y="11"/>
                  <a:pt x="14" y="29"/>
                  <a:pt x="22" y="53"/>
                </a:cubicBezTo>
                <a:cubicBezTo>
                  <a:pt x="25" y="61"/>
                  <a:pt x="30" y="77"/>
                  <a:pt x="30" y="77"/>
                </a:cubicBezTo>
                <a:cubicBezTo>
                  <a:pt x="29" y="88"/>
                  <a:pt x="10" y="88"/>
                  <a:pt x="14" y="130"/>
                </a:cubicBezTo>
                <a:cubicBezTo>
                  <a:pt x="8" y="191"/>
                  <a:pt x="42" y="278"/>
                  <a:pt x="42" y="346"/>
                </a:cubicBezTo>
                <a:cubicBezTo>
                  <a:pt x="78" y="354"/>
                  <a:pt x="67" y="381"/>
                  <a:pt x="78" y="413"/>
                </a:cubicBezTo>
                <a:cubicBezTo>
                  <a:pt x="82" y="425"/>
                  <a:pt x="90" y="449"/>
                  <a:pt x="90" y="449"/>
                </a:cubicBezTo>
                <a:cubicBezTo>
                  <a:pt x="93" y="473"/>
                  <a:pt x="93" y="550"/>
                  <a:pt x="102" y="570"/>
                </a:cubicBezTo>
                <a:cubicBezTo>
                  <a:pt x="111" y="590"/>
                  <a:pt x="115" y="566"/>
                  <a:pt x="146" y="569"/>
                </a:cubicBezTo>
                <a:cubicBezTo>
                  <a:pt x="217" y="583"/>
                  <a:pt x="180" y="591"/>
                  <a:pt x="290" y="586"/>
                </a:cubicBezTo>
                <a:cubicBezTo>
                  <a:pt x="367" y="571"/>
                  <a:pt x="443" y="575"/>
                  <a:pt x="522" y="581"/>
                </a:cubicBezTo>
                <a:cubicBezTo>
                  <a:pt x="577" y="579"/>
                  <a:pt x="631" y="573"/>
                  <a:pt x="686" y="573"/>
                </a:cubicBezTo>
                <a:cubicBezTo>
                  <a:pt x="707" y="573"/>
                  <a:pt x="721" y="611"/>
                  <a:pt x="742" y="618"/>
                </a:cubicBezTo>
                <a:cubicBezTo>
                  <a:pt x="749" y="613"/>
                  <a:pt x="765" y="600"/>
                  <a:pt x="770" y="593"/>
                </a:cubicBezTo>
                <a:cubicBezTo>
                  <a:pt x="775" y="586"/>
                  <a:pt x="773" y="576"/>
                  <a:pt x="778" y="569"/>
                </a:cubicBezTo>
                <a:cubicBezTo>
                  <a:pt x="789" y="552"/>
                  <a:pt x="795" y="537"/>
                  <a:pt x="806" y="521"/>
                </a:cubicBezTo>
                <a:cubicBezTo>
                  <a:pt x="812" y="497"/>
                  <a:pt x="808" y="510"/>
                  <a:pt x="818" y="481"/>
                </a:cubicBezTo>
                <a:cubicBezTo>
                  <a:pt x="819" y="477"/>
                  <a:pt x="822" y="469"/>
                  <a:pt x="822" y="469"/>
                </a:cubicBezTo>
                <a:cubicBezTo>
                  <a:pt x="818" y="451"/>
                  <a:pt x="820" y="445"/>
                  <a:pt x="810" y="430"/>
                </a:cubicBezTo>
                <a:cubicBezTo>
                  <a:pt x="834" y="424"/>
                  <a:pt x="854" y="390"/>
                  <a:pt x="878" y="382"/>
                </a:cubicBezTo>
                <a:cubicBezTo>
                  <a:pt x="893" y="359"/>
                  <a:pt x="890" y="353"/>
                  <a:pt x="914" y="337"/>
                </a:cubicBezTo>
                <a:cubicBezTo>
                  <a:pt x="911" y="292"/>
                  <a:pt x="908" y="237"/>
                  <a:pt x="866" y="209"/>
                </a:cubicBezTo>
                <a:cubicBezTo>
                  <a:pt x="843" y="175"/>
                  <a:pt x="866" y="216"/>
                  <a:pt x="838" y="194"/>
                </a:cubicBezTo>
                <a:cubicBezTo>
                  <a:pt x="826" y="184"/>
                  <a:pt x="807" y="170"/>
                  <a:pt x="798" y="158"/>
                </a:cubicBezTo>
                <a:cubicBezTo>
                  <a:pt x="792" y="149"/>
                  <a:pt x="798" y="135"/>
                  <a:pt x="790" y="129"/>
                </a:cubicBezTo>
                <a:cubicBezTo>
                  <a:pt x="779" y="95"/>
                  <a:pt x="781" y="57"/>
                  <a:pt x="770" y="25"/>
                </a:cubicBezTo>
                <a:cubicBezTo>
                  <a:pt x="766" y="13"/>
                  <a:pt x="747" y="9"/>
                  <a:pt x="734" y="9"/>
                </a:cubicBezTo>
                <a:cubicBezTo>
                  <a:pt x="630" y="8"/>
                  <a:pt x="530" y="15"/>
                  <a:pt x="426" y="14"/>
                </a:cubicBezTo>
                <a:cubicBezTo>
                  <a:pt x="364" y="8"/>
                  <a:pt x="310" y="10"/>
                  <a:pt x="238" y="14"/>
                </a:cubicBezTo>
                <a:cubicBezTo>
                  <a:pt x="106" y="10"/>
                  <a:pt x="177" y="0"/>
                  <a:pt x="38" y="5"/>
                </a:cubicBezTo>
                <a:cubicBezTo>
                  <a:pt x="18" y="10"/>
                  <a:pt x="18" y="13"/>
                  <a:pt x="30" y="1"/>
                </a:cubicBez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066760" y="533520"/>
            <a:ext cx="7077240" cy="47242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04920" y="763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Surface Moisture Converg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" y="1981080"/>
            <a:ext cx="175248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Blue contours = moisture converg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ed contours = moisture diverg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781680" y="5181480"/>
            <a:ext cx="20574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ximum over the Iowa-Illinois borde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gt;3.0 g (kg – h)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 flipV="1">
            <a:off x="6248520" y="2209320"/>
            <a:ext cx="914400" cy="297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920" y="563868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ongated region of large values of moisture convergence running along and ahead of frontal z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523880" y="2742840"/>
            <a:ext cx="2895840" cy="2895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09480" y="569880"/>
            <a:ext cx="7848720" cy="62881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533520" y="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850 hPa Wind Vectors and Isotac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3581280" y="3580920"/>
            <a:ext cx="1981440" cy="2210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Elevated Thunderstorms Frequenc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28600" y="914400"/>
            <a:ext cx="6553080" cy="5791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58000" y="232740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man, 19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MW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838080" y="487440"/>
            <a:ext cx="7467840" cy="63705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533520" y="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950-850 hPa Layer-Averaged Moisture Flux Converg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676520" y="533520"/>
            <a:ext cx="7229520" cy="5229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6320" y="7632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Topeka, Kansas Sou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10280" y="4343400"/>
            <a:ext cx="1905120" cy="380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5791320"/>
            <a:ext cx="510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ong lid likely prevents release of significant CAPE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til advected  into Iowa-Illinois a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52280" y="3429000"/>
            <a:ext cx="15242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e:  Davenport rawinsonde ended prematur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2280" y="1447920"/>
            <a:ext cx="15242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presents  the air mass being advected into east-central Iow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10280" y="4724280"/>
            <a:ext cx="1905120" cy="228600"/>
          </a:xfrm>
          <a:prstGeom prst="rect">
            <a:avLst/>
          </a:prstGeom>
          <a:noFill/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486400" y="58672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so note high precipitable water value:  1.73 in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86200" y="1523880"/>
            <a:ext cx="1500120" cy="3148200"/>
          </a:xfrm>
          <a:custGeom>
            <a:avLst/>
            <a:gdLst/>
            <a:ahLst/>
            <a:rect l="l" t="t" r="r" b="b"/>
            <a:pathLst>
              <a:path w="945" h="1983">
                <a:moveTo>
                  <a:pt x="0" y="0"/>
                </a:moveTo>
                <a:cubicBezTo>
                  <a:pt x="48" y="68"/>
                  <a:pt x="98" y="135"/>
                  <a:pt x="144" y="192"/>
                </a:cubicBezTo>
                <a:cubicBezTo>
                  <a:pt x="190" y="249"/>
                  <a:pt x="231" y="289"/>
                  <a:pt x="279" y="345"/>
                </a:cubicBezTo>
                <a:cubicBezTo>
                  <a:pt x="327" y="401"/>
                  <a:pt x="398" y="480"/>
                  <a:pt x="432" y="528"/>
                </a:cubicBezTo>
                <a:cubicBezTo>
                  <a:pt x="466" y="576"/>
                  <a:pt x="458" y="587"/>
                  <a:pt x="486" y="633"/>
                </a:cubicBezTo>
                <a:cubicBezTo>
                  <a:pt x="514" y="679"/>
                  <a:pt x="556" y="725"/>
                  <a:pt x="603" y="804"/>
                </a:cubicBezTo>
                <a:cubicBezTo>
                  <a:pt x="650" y="883"/>
                  <a:pt x="726" y="1022"/>
                  <a:pt x="768" y="1104"/>
                </a:cubicBezTo>
                <a:cubicBezTo>
                  <a:pt x="810" y="1186"/>
                  <a:pt x="834" y="1232"/>
                  <a:pt x="855" y="1299"/>
                </a:cubicBezTo>
                <a:cubicBezTo>
                  <a:pt x="876" y="1366"/>
                  <a:pt x="882" y="1451"/>
                  <a:pt x="891" y="1506"/>
                </a:cubicBezTo>
                <a:cubicBezTo>
                  <a:pt x="900" y="1561"/>
                  <a:pt x="905" y="1574"/>
                  <a:pt x="912" y="1632"/>
                </a:cubicBezTo>
                <a:cubicBezTo>
                  <a:pt x="919" y="1690"/>
                  <a:pt x="931" y="1799"/>
                  <a:pt x="936" y="1857"/>
                </a:cubicBezTo>
                <a:cubicBezTo>
                  <a:pt x="941" y="1915"/>
                  <a:pt x="943" y="1957"/>
                  <a:pt x="945" y="1983"/>
                </a:cubicBezTo>
              </a:path>
            </a:pathLst>
          </a:custGeom>
          <a:noFill/>
          <a:ln w="38160">
            <a:solidFill>
              <a:srgbClr val="3333cc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010280" cy="52214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762120" y="31896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250 hPa heights (gpm) and isotachs (m s</a:t>
            </a:r>
            <a:r>
              <a:rPr b="1" lang="en-US" sz="2800" spc="-1" strike="noStrike" baseline="30000">
                <a:solidFill>
                  <a:srgbClr val="3333cc"/>
                </a:solidFill>
                <a:latin typeface="Arial"/>
              </a:rPr>
              <a:t>-1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438280" y="61102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ticyclonically-curved upper-level jet strea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14600" y="2057400"/>
            <a:ext cx="2324160" cy="1028880"/>
          </a:xfrm>
          <a:custGeom>
            <a:avLst/>
            <a:gdLst/>
            <a:ahLst/>
            <a:rect l="l" t="t" r="r" b="b"/>
            <a:pathLst>
              <a:path w="1464" h="648">
                <a:moveTo>
                  <a:pt x="0" y="648"/>
                </a:moveTo>
                <a:cubicBezTo>
                  <a:pt x="46" y="594"/>
                  <a:pt x="206" y="401"/>
                  <a:pt x="276" y="321"/>
                </a:cubicBezTo>
                <a:cubicBezTo>
                  <a:pt x="346" y="241"/>
                  <a:pt x="354" y="217"/>
                  <a:pt x="420" y="168"/>
                </a:cubicBezTo>
                <a:cubicBezTo>
                  <a:pt x="486" y="119"/>
                  <a:pt x="574" y="48"/>
                  <a:pt x="672" y="24"/>
                </a:cubicBezTo>
                <a:cubicBezTo>
                  <a:pt x="770" y="0"/>
                  <a:pt x="876" y="22"/>
                  <a:pt x="1008" y="24"/>
                </a:cubicBezTo>
                <a:cubicBezTo>
                  <a:pt x="1140" y="26"/>
                  <a:pt x="1369" y="31"/>
                  <a:pt x="1464" y="3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0200" y="63244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066680" y="841320"/>
            <a:ext cx="6782040" cy="50259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304920" y="24300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Average Divergence over the 300-200 hPa lay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3000" y="6156360"/>
            <a:ext cx="69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Maximum average divergence &gt; 2 x 10</a:t>
            </a:r>
            <a:r>
              <a:rPr b="1" lang="en-US" sz="2000" spc="-1" strike="noStrike" baseline="30000">
                <a:solidFill>
                  <a:srgbClr val="000099"/>
                </a:solidFill>
                <a:latin typeface="Arial"/>
              </a:rPr>
              <a:t>-5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s</a:t>
            </a:r>
            <a:r>
              <a:rPr b="1" lang="en-US" sz="2000" spc="-1" strike="noStrike" baseline="30000">
                <a:solidFill>
                  <a:srgbClr val="000099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3962520" y="3124080"/>
            <a:ext cx="457200" cy="289584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914400" y="228600"/>
            <a:ext cx="754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Maximum-</a:t>
            </a:r>
            <a:r>
              <a:rPr b="1" lang="en-US" sz="2800" spc="-1" strike="noStrike">
                <a:solidFill>
                  <a:srgbClr val="3333cc"/>
                </a:solidFill>
                <a:latin typeface="WP Greek Century"/>
                <a:ea typeface="WP Greek Century"/>
              </a:rPr>
              <a:t>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</a:rPr>
              <a:t>e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CAPE (J kg</a:t>
            </a:r>
            <a:r>
              <a:rPr b="1" lang="en-US" sz="2800" spc="-1" strike="noStrike" baseline="30000">
                <a:solidFill>
                  <a:srgbClr val="3333cc"/>
                </a:solidFill>
                <a:latin typeface="Arial"/>
              </a:rPr>
              <a:t>-1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620120" cy="54752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3962520" y="2819520"/>
            <a:ext cx="393480" cy="1447560"/>
          </a:xfrm>
          <a:custGeom>
            <a:avLst/>
            <a:gdLst/>
            <a:ahLst/>
            <a:rect l="l" t="t" r="r" b="b"/>
            <a:pathLst>
              <a:path w="248" h="912">
                <a:moveTo>
                  <a:pt x="240" y="0"/>
                </a:moveTo>
                <a:cubicBezTo>
                  <a:pt x="240" y="8"/>
                  <a:pt x="240" y="16"/>
                  <a:pt x="240" y="48"/>
                </a:cubicBezTo>
                <a:cubicBezTo>
                  <a:pt x="240" y="80"/>
                  <a:pt x="248" y="120"/>
                  <a:pt x="240" y="192"/>
                </a:cubicBezTo>
                <a:cubicBezTo>
                  <a:pt x="232" y="264"/>
                  <a:pt x="216" y="384"/>
                  <a:pt x="192" y="480"/>
                </a:cubicBezTo>
                <a:cubicBezTo>
                  <a:pt x="168" y="576"/>
                  <a:pt x="128" y="696"/>
                  <a:pt x="96" y="768"/>
                </a:cubicBezTo>
                <a:cubicBezTo>
                  <a:pt x="64" y="840"/>
                  <a:pt x="32" y="876"/>
                  <a:pt x="0" y="912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219320" y="825480"/>
            <a:ext cx="6400800" cy="47372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762120" y="16668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900-700 hPa Average Frontogen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48120" y="5745240"/>
            <a:ext cx="20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57150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in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ws orientation of cross section in next sl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4191120" y="1676520"/>
            <a:ext cx="380880" cy="2590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00400" y="2800440"/>
            <a:ext cx="1360440" cy="190440"/>
          </a:xfrm>
          <a:custGeom>
            <a:avLst/>
            <a:gdLst/>
            <a:ahLst/>
            <a:rect l="l" t="t" r="r" b="b"/>
            <a:pathLst>
              <a:path w="857" h="120">
                <a:moveTo>
                  <a:pt x="0" y="108"/>
                </a:moveTo>
                <a:cubicBezTo>
                  <a:pt x="27" y="93"/>
                  <a:pt x="120" y="36"/>
                  <a:pt x="162" y="18"/>
                </a:cubicBezTo>
                <a:cubicBezTo>
                  <a:pt x="204" y="0"/>
                  <a:pt x="200" y="0"/>
                  <a:pt x="252" y="0"/>
                </a:cubicBezTo>
                <a:cubicBezTo>
                  <a:pt x="304" y="0"/>
                  <a:pt x="419" y="11"/>
                  <a:pt x="477" y="18"/>
                </a:cubicBezTo>
                <a:cubicBezTo>
                  <a:pt x="535" y="25"/>
                  <a:pt x="553" y="33"/>
                  <a:pt x="600" y="45"/>
                </a:cubicBezTo>
                <a:cubicBezTo>
                  <a:pt x="647" y="57"/>
                  <a:pt x="719" y="81"/>
                  <a:pt x="762" y="93"/>
                </a:cubicBezTo>
                <a:cubicBezTo>
                  <a:pt x="805" y="105"/>
                  <a:pt x="837" y="114"/>
                  <a:pt x="857" y="120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71500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xis of frontogenes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59436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heta-E and RH Cross S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-866"/>
          <a:stretch/>
        </p:blipFill>
        <p:spPr>
          <a:xfrm>
            <a:off x="1295280" y="1295280"/>
            <a:ext cx="6705720" cy="49532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4038480" y="4876920"/>
            <a:ext cx="2362320" cy="1066680"/>
          </a:xfrm>
          <a:custGeom>
            <a:avLst/>
            <a:gdLst/>
            <a:ahLst/>
            <a:rect l="l" t="t" r="r" b="b"/>
            <a:pathLst>
              <a:path w="1488" h="672">
                <a:moveTo>
                  <a:pt x="0" y="672"/>
                </a:moveTo>
                <a:cubicBezTo>
                  <a:pt x="48" y="624"/>
                  <a:pt x="96" y="576"/>
                  <a:pt x="144" y="528"/>
                </a:cubicBezTo>
                <a:cubicBezTo>
                  <a:pt x="192" y="480"/>
                  <a:pt x="256" y="416"/>
                  <a:pt x="288" y="384"/>
                </a:cubicBezTo>
                <a:cubicBezTo>
                  <a:pt x="320" y="352"/>
                  <a:pt x="296" y="352"/>
                  <a:pt x="336" y="336"/>
                </a:cubicBezTo>
                <a:cubicBezTo>
                  <a:pt x="376" y="320"/>
                  <a:pt x="464" y="296"/>
                  <a:pt x="528" y="288"/>
                </a:cubicBezTo>
                <a:cubicBezTo>
                  <a:pt x="592" y="280"/>
                  <a:pt x="648" y="288"/>
                  <a:pt x="720" y="288"/>
                </a:cubicBezTo>
                <a:cubicBezTo>
                  <a:pt x="792" y="288"/>
                  <a:pt x="888" y="296"/>
                  <a:pt x="960" y="288"/>
                </a:cubicBezTo>
                <a:cubicBezTo>
                  <a:pt x="1032" y="280"/>
                  <a:pt x="1096" y="264"/>
                  <a:pt x="1152" y="240"/>
                </a:cubicBezTo>
                <a:cubicBezTo>
                  <a:pt x="1208" y="216"/>
                  <a:pt x="1248" y="176"/>
                  <a:pt x="1296" y="144"/>
                </a:cubicBezTo>
                <a:cubicBezTo>
                  <a:pt x="1344" y="112"/>
                  <a:pt x="1408" y="72"/>
                  <a:pt x="1440" y="48"/>
                </a:cubicBezTo>
                <a:cubicBezTo>
                  <a:pt x="1472" y="24"/>
                  <a:pt x="1480" y="12"/>
                  <a:pt x="1488" y="0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957480" y="4038480"/>
            <a:ext cx="3996000" cy="1952640"/>
          </a:xfrm>
          <a:custGeom>
            <a:avLst/>
            <a:gdLst/>
            <a:ahLst/>
            <a:rect l="l" t="t" r="r" b="b"/>
            <a:pathLst>
              <a:path w="2517" h="1230">
                <a:moveTo>
                  <a:pt x="2517" y="0"/>
                </a:moveTo>
                <a:cubicBezTo>
                  <a:pt x="2482" y="15"/>
                  <a:pt x="2362" y="74"/>
                  <a:pt x="2307" y="96"/>
                </a:cubicBezTo>
                <a:cubicBezTo>
                  <a:pt x="2252" y="118"/>
                  <a:pt x="2228" y="116"/>
                  <a:pt x="2187" y="132"/>
                </a:cubicBezTo>
                <a:cubicBezTo>
                  <a:pt x="2146" y="148"/>
                  <a:pt x="2105" y="174"/>
                  <a:pt x="2061" y="192"/>
                </a:cubicBezTo>
                <a:cubicBezTo>
                  <a:pt x="2017" y="210"/>
                  <a:pt x="1958" y="229"/>
                  <a:pt x="1923" y="240"/>
                </a:cubicBezTo>
                <a:cubicBezTo>
                  <a:pt x="1888" y="251"/>
                  <a:pt x="1908" y="244"/>
                  <a:pt x="1851" y="258"/>
                </a:cubicBezTo>
                <a:cubicBezTo>
                  <a:pt x="1794" y="272"/>
                  <a:pt x="1673" y="303"/>
                  <a:pt x="1581" y="324"/>
                </a:cubicBezTo>
                <a:cubicBezTo>
                  <a:pt x="1489" y="345"/>
                  <a:pt x="1378" y="366"/>
                  <a:pt x="1299" y="384"/>
                </a:cubicBezTo>
                <a:cubicBezTo>
                  <a:pt x="1220" y="402"/>
                  <a:pt x="1147" y="416"/>
                  <a:pt x="1107" y="432"/>
                </a:cubicBezTo>
                <a:cubicBezTo>
                  <a:pt x="1067" y="448"/>
                  <a:pt x="1059" y="464"/>
                  <a:pt x="1059" y="480"/>
                </a:cubicBezTo>
                <a:cubicBezTo>
                  <a:pt x="1059" y="496"/>
                  <a:pt x="1091" y="512"/>
                  <a:pt x="1107" y="528"/>
                </a:cubicBezTo>
                <a:cubicBezTo>
                  <a:pt x="1123" y="544"/>
                  <a:pt x="1139" y="560"/>
                  <a:pt x="1155" y="576"/>
                </a:cubicBezTo>
                <a:cubicBezTo>
                  <a:pt x="1171" y="592"/>
                  <a:pt x="1203" y="608"/>
                  <a:pt x="1203" y="624"/>
                </a:cubicBezTo>
                <a:cubicBezTo>
                  <a:pt x="1203" y="640"/>
                  <a:pt x="1179" y="656"/>
                  <a:pt x="1155" y="672"/>
                </a:cubicBezTo>
                <a:cubicBezTo>
                  <a:pt x="1131" y="688"/>
                  <a:pt x="1100" y="710"/>
                  <a:pt x="1059" y="720"/>
                </a:cubicBezTo>
                <a:cubicBezTo>
                  <a:pt x="1018" y="730"/>
                  <a:pt x="957" y="732"/>
                  <a:pt x="909" y="732"/>
                </a:cubicBezTo>
                <a:cubicBezTo>
                  <a:pt x="861" y="732"/>
                  <a:pt x="826" y="730"/>
                  <a:pt x="771" y="720"/>
                </a:cubicBezTo>
                <a:cubicBezTo>
                  <a:pt x="716" y="710"/>
                  <a:pt x="641" y="682"/>
                  <a:pt x="579" y="672"/>
                </a:cubicBezTo>
                <a:cubicBezTo>
                  <a:pt x="517" y="662"/>
                  <a:pt x="450" y="657"/>
                  <a:pt x="399" y="660"/>
                </a:cubicBezTo>
                <a:cubicBezTo>
                  <a:pt x="348" y="663"/>
                  <a:pt x="315" y="672"/>
                  <a:pt x="273" y="690"/>
                </a:cubicBezTo>
                <a:cubicBezTo>
                  <a:pt x="231" y="708"/>
                  <a:pt x="168" y="747"/>
                  <a:pt x="147" y="768"/>
                </a:cubicBezTo>
                <a:cubicBezTo>
                  <a:pt x="126" y="789"/>
                  <a:pt x="160" y="800"/>
                  <a:pt x="147" y="816"/>
                </a:cubicBezTo>
                <a:cubicBezTo>
                  <a:pt x="134" y="832"/>
                  <a:pt x="93" y="840"/>
                  <a:pt x="69" y="864"/>
                </a:cubicBezTo>
                <a:cubicBezTo>
                  <a:pt x="45" y="888"/>
                  <a:pt x="6" y="920"/>
                  <a:pt x="3" y="960"/>
                </a:cubicBezTo>
                <a:cubicBezTo>
                  <a:pt x="0" y="1000"/>
                  <a:pt x="35" y="1073"/>
                  <a:pt x="51" y="1104"/>
                </a:cubicBezTo>
                <a:cubicBezTo>
                  <a:pt x="67" y="1135"/>
                  <a:pt x="93" y="1125"/>
                  <a:pt x="99" y="1146"/>
                </a:cubicBezTo>
                <a:cubicBezTo>
                  <a:pt x="105" y="1167"/>
                  <a:pt x="89" y="1213"/>
                  <a:pt x="87" y="1230"/>
                </a:cubicBezTo>
              </a:path>
            </a:pathLst>
          </a:custGeom>
          <a:noFill/>
          <a:ln w="284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721560" y="4591080"/>
            <a:ext cx="1212840" cy="1428840"/>
          </a:xfrm>
          <a:custGeom>
            <a:avLst/>
            <a:gdLst/>
            <a:ahLst/>
            <a:rect l="l" t="t" r="r" b="b"/>
            <a:pathLst>
              <a:path w="764" h="900">
                <a:moveTo>
                  <a:pt x="764" y="0"/>
                </a:moveTo>
                <a:cubicBezTo>
                  <a:pt x="739" y="15"/>
                  <a:pt x="671" y="46"/>
                  <a:pt x="614" y="84"/>
                </a:cubicBezTo>
                <a:cubicBezTo>
                  <a:pt x="557" y="122"/>
                  <a:pt x="470" y="180"/>
                  <a:pt x="422" y="228"/>
                </a:cubicBezTo>
                <a:cubicBezTo>
                  <a:pt x="374" y="276"/>
                  <a:pt x="358" y="332"/>
                  <a:pt x="326" y="372"/>
                </a:cubicBezTo>
                <a:cubicBezTo>
                  <a:pt x="294" y="412"/>
                  <a:pt x="278" y="420"/>
                  <a:pt x="230" y="468"/>
                </a:cubicBezTo>
                <a:cubicBezTo>
                  <a:pt x="182" y="516"/>
                  <a:pt x="75" y="609"/>
                  <a:pt x="38" y="660"/>
                </a:cubicBezTo>
                <a:cubicBezTo>
                  <a:pt x="1" y="711"/>
                  <a:pt x="0" y="742"/>
                  <a:pt x="8" y="774"/>
                </a:cubicBezTo>
                <a:cubicBezTo>
                  <a:pt x="16" y="806"/>
                  <a:pt x="65" y="831"/>
                  <a:pt x="86" y="852"/>
                </a:cubicBezTo>
                <a:cubicBezTo>
                  <a:pt x="107" y="873"/>
                  <a:pt x="122" y="884"/>
                  <a:pt x="134" y="900"/>
                </a:cubicBezTo>
              </a:path>
            </a:pathLst>
          </a:custGeom>
          <a:noFill/>
          <a:ln w="284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rcRect l="0" t="2927" r="0" b="0"/>
          <a:stretch/>
        </p:blipFill>
        <p:spPr>
          <a:xfrm>
            <a:off x="36360" y="1219320"/>
            <a:ext cx="6821640" cy="50544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2286000" y="498600"/>
            <a:ext cx="464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0880" y="16812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ross section of kinematic vertical motion  (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μbar s</a:t>
            </a:r>
            <a:r>
              <a:rPr b="1" lang="en-US" sz="2400" spc="-1" strike="noStrike" baseline="30000">
                <a:solidFill>
                  <a:srgbClr val="3333cc"/>
                </a:solidFill>
                <a:latin typeface="Arial"/>
                <a:ea typeface="Times New Roman"/>
              </a:rPr>
              <a:t>-1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)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nd tangential ageostrophic w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61722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Nor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715000" y="61102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ou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781680" y="2514600"/>
            <a:ext cx="2057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agnoses a direct thermal circulation associated with the low-mid level frontogene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640080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219320" y="6095880"/>
            <a:ext cx="609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NE M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362320" y="6095880"/>
            <a:ext cx="609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W-C W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81280" y="6095880"/>
            <a:ext cx="533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"/>
              </a:rPr>
              <a:t>SE 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800600" y="6111720"/>
            <a:ext cx="533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E-C 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066680" y="3429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914400" y="1523880"/>
            <a:ext cx="731520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ase Study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6-17 June 1993 over Southern Minneso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ll data shown is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0000 UTC 17 June 199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24 h Rainfall Total Ending 12 UTC June 1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rcRect l="0" t="0" r="0" b="11108"/>
          <a:stretch/>
        </p:blipFill>
        <p:spPr>
          <a:xfrm>
            <a:off x="609480" y="1600200"/>
            <a:ext cx="792504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Elevated Thunderstorms Climatolog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0" y="914400"/>
            <a:ext cx="7124760" cy="59436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086960" y="3429000"/>
            <a:ext cx="19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man, 19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MW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00 UTC 17 June 1993 Surface 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12121" t="10047" r="6063" b="9598"/>
          <a:stretch/>
        </p:blipFill>
        <p:spPr>
          <a:xfrm>
            <a:off x="2209680" y="1295280"/>
            <a:ext cx="4849920" cy="50292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429000" y="4178160"/>
            <a:ext cx="2712960" cy="974880"/>
          </a:xfrm>
          <a:custGeom>
            <a:avLst/>
            <a:gdLst/>
            <a:ahLst/>
            <a:rect l="l" t="t" r="r" b="b"/>
            <a:pathLst>
              <a:path w="1709" h="614">
                <a:moveTo>
                  <a:pt x="0" y="200"/>
                </a:moveTo>
                <a:cubicBezTo>
                  <a:pt x="72" y="164"/>
                  <a:pt x="144" y="128"/>
                  <a:pt x="192" y="104"/>
                </a:cubicBezTo>
                <a:cubicBezTo>
                  <a:pt x="240" y="80"/>
                  <a:pt x="236" y="73"/>
                  <a:pt x="288" y="56"/>
                </a:cubicBezTo>
                <a:cubicBezTo>
                  <a:pt x="340" y="39"/>
                  <a:pt x="440" y="8"/>
                  <a:pt x="503" y="4"/>
                </a:cubicBezTo>
                <a:cubicBezTo>
                  <a:pt x="566" y="0"/>
                  <a:pt x="612" y="16"/>
                  <a:pt x="666" y="31"/>
                </a:cubicBezTo>
                <a:cubicBezTo>
                  <a:pt x="720" y="46"/>
                  <a:pt x="781" y="69"/>
                  <a:pt x="828" y="92"/>
                </a:cubicBezTo>
                <a:cubicBezTo>
                  <a:pt x="875" y="115"/>
                  <a:pt x="904" y="133"/>
                  <a:pt x="950" y="167"/>
                </a:cubicBezTo>
                <a:cubicBezTo>
                  <a:pt x="996" y="201"/>
                  <a:pt x="1046" y="251"/>
                  <a:pt x="1104" y="296"/>
                </a:cubicBezTo>
                <a:cubicBezTo>
                  <a:pt x="1162" y="341"/>
                  <a:pt x="1237" y="405"/>
                  <a:pt x="1296" y="440"/>
                </a:cubicBezTo>
                <a:cubicBezTo>
                  <a:pt x="1355" y="475"/>
                  <a:pt x="1390" y="477"/>
                  <a:pt x="1459" y="506"/>
                </a:cubicBezTo>
                <a:cubicBezTo>
                  <a:pt x="1528" y="535"/>
                  <a:pt x="1657" y="592"/>
                  <a:pt x="1709" y="61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505320" y="4495680"/>
            <a:ext cx="487080" cy="1524240"/>
          </a:xfrm>
          <a:custGeom>
            <a:avLst/>
            <a:gdLst/>
            <a:ahLst/>
            <a:rect l="l" t="t" r="r" b="b"/>
            <a:pathLst>
              <a:path w="307" h="960">
                <a:moveTo>
                  <a:pt x="0" y="0"/>
                </a:moveTo>
                <a:cubicBezTo>
                  <a:pt x="36" y="44"/>
                  <a:pt x="62" y="88"/>
                  <a:pt x="96" y="144"/>
                </a:cubicBezTo>
                <a:cubicBezTo>
                  <a:pt x="130" y="200"/>
                  <a:pt x="174" y="266"/>
                  <a:pt x="204" y="333"/>
                </a:cubicBezTo>
                <a:cubicBezTo>
                  <a:pt x="234" y="400"/>
                  <a:pt x="262" y="461"/>
                  <a:pt x="279" y="543"/>
                </a:cubicBezTo>
                <a:cubicBezTo>
                  <a:pt x="296" y="625"/>
                  <a:pt x="305" y="758"/>
                  <a:pt x="306" y="827"/>
                </a:cubicBezTo>
                <a:cubicBezTo>
                  <a:pt x="307" y="896"/>
                  <a:pt x="292" y="932"/>
                  <a:pt x="288" y="96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8782200" cy="59832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152280" y="22860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R Loop from 2201 UTC June 16 to  0901 UTC June 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900-800 hPa Moisture Flux Converg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rcRect l="0" t="6929" r="0" b="6494"/>
          <a:stretch/>
        </p:blipFill>
        <p:spPr>
          <a:xfrm>
            <a:off x="609480" y="1376280"/>
            <a:ext cx="7620120" cy="49482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4267080" y="3429000"/>
            <a:ext cx="838440" cy="9907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800-700 hPa Moisture Flux Converg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5556" r="0" b="5556"/>
          <a:stretch/>
        </p:blipFill>
        <p:spPr>
          <a:xfrm>
            <a:off x="609480" y="1320840"/>
            <a:ext cx="7620120" cy="50799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3886200" y="2971800"/>
            <a:ext cx="1143000" cy="13716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850 hPa Theta-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rcRect l="0" t="7408" r="0" b="7408"/>
          <a:stretch/>
        </p:blipFill>
        <p:spPr>
          <a:xfrm>
            <a:off x="609480" y="1447920"/>
            <a:ext cx="7620120" cy="48686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 flipH="1">
            <a:off x="4267080" y="2514600"/>
            <a:ext cx="457200" cy="19810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320" y="30456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850 hPa Theta-E Advection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rcRect l="0" t="7408" r="0" b="7408"/>
          <a:stretch/>
        </p:blipFill>
        <p:spPr>
          <a:xfrm>
            <a:off x="609480" y="1447920"/>
            <a:ext cx="762012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700 hPa Theta-E Adv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rcRect l="0" t="5556" r="0" b="7408"/>
          <a:stretch/>
        </p:blipFill>
        <p:spPr>
          <a:xfrm>
            <a:off x="609480" y="1352520"/>
            <a:ext cx="7620120" cy="497196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4191120" y="3276720"/>
            <a:ext cx="761760" cy="9903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500 hPa Heights and Vorti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rcRect l="0" t="5732" r="0" b="0"/>
          <a:stretch/>
        </p:blipFill>
        <p:spPr>
          <a:xfrm>
            <a:off x="609480" y="1349280"/>
            <a:ext cx="7620120" cy="53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rcRect l="7998" t="6003" r="1998" b="6003"/>
          <a:stretch/>
        </p:blipFill>
        <p:spPr>
          <a:xfrm>
            <a:off x="1219320" y="1371600"/>
            <a:ext cx="6858000" cy="50292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685800" y="56340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250 hPa Wind Vectors and Isotac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962520" y="3124080"/>
            <a:ext cx="106668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2971800" y="2209680"/>
            <a:ext cx="121932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200-300 hPa Layer Averaged Diverg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rcRect l="0" t="7408" r="0" b="7408"/>
          <a:stretch/>
        </p:blipFill>
        <p:spPr>
          <a:xfrm>
            <a:off x="609480" y="1447920"/>
            <a:ext cx="7620120" cy="486864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4191120" y="32767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Elevated Thunderstorms Climatolog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685800"/>
            <a:ext cx="7039080" cy="6172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7010640" y="3429000"/>
            <a:ext cx="19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lman, 19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MW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urface-500 hPa Mean RH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rcRect l="0" t="7408" r="0" b="7408"/>
          <a:stretch/>
        </p:blipFill>
        <p:spPr>
          <a:xfrm>
            <a:off x="609480" y="1447920"/>
            <a:ext cx="7620120" cy="48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x Theta-E CA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rcRect l="0" t="7408" r="0" b="7408"/>
          <a:stretch/>
        </p:blipFill>
        <p:spPr>
          <a:xfrm>
            <a:off x="609480" y="1447920"/>
            <a:ext cx="7620120" cy="48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x Theta-E C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rcRect l="0" t="7408" r="0" b="7408"/>
          <a:stretch/>
        </p:blipFill>
        <p:spPr>
          <a:xfrm>
            <a:off x="609480" y="1447920"/>
            <a:ext cx="7620120" cy="486864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 flipH="1">
            <a:off x="4419360" y="3200400"/>
            <a:ext cx="228600" cy="13716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850 hPa Frontogenesis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rcRect l="0" t="7408" r="0" b="7408"/>
          <a:stretch/>
        </p:blipFill>
        <p:spPr>
          <a:xfrm>
            <a:off x="609480" y="1447920"/>
            <a:ext cx="7620120" cy="486864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4343400" y="2590920"/>
            <a:ext cx="380880" cy="2133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heta-E Cross S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rcRect l="6945" t="11169" r="18056" b="0"/>
          <a:stretch/>
        </p:blipFill>
        <p:spPr>
          <a:xfrm>
            <a:off x="1676520" y="1314360"/>
            <a:ext cx="5638680" cy="50101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3056040" y="5632560"/>
            <a:ext cx="2811240" cy="58680"/>
          </a:xfrm>
          <a:custGeom>
            <a:avLst/>
            <a:gdLst/>
            <a:ahLst/>
            <a:rect l="l" t="t" r="r" b="b"/>
            <a:pathLst>
              <a:path w="1771" h="37">
                <a:moveTo>
                  <a:pt x="0" y="30"/>
                </a:moveTo>
                <a:cubicBezTo>
                  <a:pt x="73" y="31"/>
                  <a:pt x="298" y="37"/>
                  <a:pt x="447" y="37"/>
                </a:cubicBezTo>
                <a:cubicBezTo>
                  <a:pt x="596" y="37"/>
                  <a:pt x="761" y="36"/>
                  <a:pt x="894" y="30"/>
                </a:cubicBezTo>
                <a:cubicBezTo>
                  <a:pt x="1027" y="24"/>
                  <a:pt x="1161" y="8"/>
                  <a:pt x="1243" y="4"/>
                </a:cubicBezTo>
                <a:cubicBezTo>
                  <a:pt x="1325" y="0"/>
                  <a:pt x="1331" y="4"/>
                  <a:pt x="1387" y="4"/>
                </a:cubicBezTo>
                <a:cubicBezTo>
                  <a:pt x="1443" y="4"/>
                  <a:pt x="1515" y="4"/>
                  <a:pt x="1579" y="4"/>
                </a:cubicBezTo>
                <a:cubicBezTo>
                  <a:pt x="1643" y="4"/>
                  <a:pt x="1739" y="4"/>
                  <a:pt x="1771" y="4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629560" cy="59832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572000" y="4611600"/>
            <a:ext cx="4419720" cy="20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haded orange: max 925-850 </a:t>
            </a:r>
            <a:r>
              <a:rPr b="1" lang="en-US" sz="1800" spc="-1" strike="noStrike">
                <a:solidFill>
                  <a:srgbClr val="000000"/>
                </a:solidFill>
                <a:latin typeface="WP Greek Century"/>
                <a:ea typeface="WP Greek Century"/>
              </a:rPr>
              <a:t></a:t>
            </a:r>
            <a:r>
              <a:rPr b="1" lang="en-US" sz="1800" spc="-1" strike="noStrike" baseline="-18000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adv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shed lines = 925 hPa </a:t>
            </a:r>
            <a:r>
              <a:rPr b="1" lang="en-US" sz="1800" spc="-1" strike="noStrike">
                <a:solidFill>
                  <a:srgbClr val="000000"/>
                </a:solidFill>
                <a:latin typeface="WP Greek Century"/>
                <a:ea typeface="WP Greek Century"/>
              </a:rPr>
              <a:t></a:t>
            </a:r>
            <a:r>
              <a:rPr b="1" lang="en-US" sz="1800" spc="-1" strike="noStrike" baseline="-18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shed-X lines = 925-850 hPa MC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reen arrow = low-level jet (LLJ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ircled X = active MCS s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509760"/>
            <a:ext cx="9144000" cy="52815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800600" y="3886200"/>
            <a:ext cx="40384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lid lines = 500 hPa heigh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shed lines = 200 hPa isotac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ippled area = surface-500 hPa    mean relative humidity &gt; 70%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reen arrow = 700 hPa j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ircled X = active MCS s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80880" y="866880"/>
            <a:ext cx="8115480" cy="52988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143000" y="62485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apted from a figure by Trier and Parsons, 1993, MW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5T15:59:53Z</dcterms:created>
  <dc:creator>slueas</dc:creator>
  <dc:description/>
  <dc:language>en-US</dc:language>
  <cp:lastModifiedBy>gg</cp:lastModifiedBy>
  <dcterms:modified xsi:type="dcterms:W3CDTF">2005-06-03T15:49:58Z</dcterms:modified>
  <cp:revision>64</cp:revision>
  <dc:subject/>
  <dc:title>A Composite of Warm Season Elevated Thunderstorms Associated with Heavy Rainfal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www.eas.slu.edu/CIPS/index.html</vt:lpwstr>
  </property>
  <property fmtid="{D5CDD505-2E9C-101B-9397-08002B2CF9AE}" pid="9" name="LinkColor">
    <vt:r8>16711782</vt:r8>
  </property>
  <property fmtid="{D5CDD505-2E9C-101B-9397-08002B2CF9AE}" pid="10" name="MailAddress">
    <vt:lpwstr>moore@eas.slu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