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F02-F20D-420F-8670-01997713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A06-A5F2-46C5-99AD-5F113C4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075-CB81-4E9A-8398-0776F95F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397-F82C-4861-86A8-1FEDA61D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7DB-8076-4D71-BFB9-92EE22C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56F-761D-4E82-BF1C-02B2D41D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65A-122A-4A23-B2D4-D0C0DC7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E8D-0021-498B-AD72-552EDD4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65D-D12F-4BF0-8DCB-DDC29E97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5A3-F800-42C3-BF6C-3F9FDF06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52B-1287-40A2-8F68-B8AF0B14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D74-95A8-4B0E-9926-735744B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609-4EE4-4733-A07F-28CC616C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png"/><Relationship Id="rId3" Type="http://schemas.openxmlformats.org/officeDocument/2006/relationships/image" Target="../media/image5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Process-Oriented Observational Study of Snowfall Potential in the Central United Stat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ad M Gravelle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ahoma"/>
              </a:rPr>
              <a:t>Saint Louis University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arles E Graves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ahoma"/>
              </a:rPr>
              <a:t>Saint Louis University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cott M Rochette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ahoma"/>
              </a:rPr>
              <a:t>State University of New York College at Brockport</a:t>
            </a: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nnual Missouri Academy of Science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issouri Western State University, 21 April 2007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4800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57800" y="4800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08320" y="4792680"/>
            <a:ext cx="916200" cy="915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se Categor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809880" cy="2841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0" y="38862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otal events, n = 82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anded (upper left), n = 42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despread (upper right), n = 15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ther/Multi-banded/Undefinable       (lower left), n = 25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09880" cy="283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80988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anded Categor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809880" cy="2840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388620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otal events, n = 42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W/SE (upper left), n = 11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/E within 30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° of major axis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upper right), n = 17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W/NE (lower left), n = 14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ngth/Width Exampl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5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2680" y="26668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038480"/>
            <a:ext cx="16765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63760" y="2758680"/>
            <a:ext cx="582840" cy="420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66960" y="3130560"/>
            <a:ext cx="271800" cy="21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51360" y="3419640"/>
            <a:ext cx="172800" cy="13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956040" y="3544920"/>
            <a:ext cx="581040" cy="48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02000" y="3811680"/>
            <a:ext cx="480960" cy="48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43360" y="4019040"/>
            <a:ext cx="279360" cy="39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91120" y="4175280"/>
            <a:ext cx="21600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77040" y="4267080"/>
            <a:ext cx="128520" cy="309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80160" y="4410000"/>
            <a:ext cx="100080" cy="27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41880" y="4552560"/>
            <a:ext cx="763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76800" y="3642840"/>
            <a:ext cx="137880" cy="1206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383000" y="3765240"/>
            <a:ext cx="17316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03600" y="3906360"/>
            <a:ext cx="179640" cy="179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14840" y="3971880"/>
            <a:ext cx="241200" cy="292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43440" y="4073040"/>
            <a:ext cx="139680" cy="204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05440" y="4214880"/>
            <a:ext cx="88920" cy="1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97320" y="4268520"/>
            <a:ext cx="63720" cy="122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511960" y="4355640"/>
            <a:ext cx="58680" cy="12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76960" y="4335480"/>
            <a:ext cx="38160" cy="76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49840" y="4430880"/>
            <a:ext cx="68400" cy="163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anded Length Statistic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256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anded Width Statistic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269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57800" y="1447920"/>
            <a:ext cx="1784520" cy="2700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Look Ahead.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76240" y="990720"/>
            <a:ext cx="7391520" cy="5510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27440" y="537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3809880"/>
            <a:ext cx="3048120" cy="1143000"/>
          </a:xfrm>
          <a:custGeom>
            <a:avLst/>
            <a:gdLst/>
            <a:ahLst/>
            <a:rect l="l" t="t" r="r" b="b"/>
            <a:pathLst>
              <a:path w="1920" h="720">
                <a:moveTo>
                  <a:pt x="0" y="672"/>
                </a:moveTo>
                <a:cubicBezTo>
                  <a:pt x="140" y="696"/>
                  <a:pt x="280" y="720"/>
                  <a:pt x="432" y="720"/>
                </a:cubicBezTo>
                <a:cubicBezTo>
                  <a:pt x="584" y="720"/>
                  <a:pt x="768" y="704"/>
                  <a:pt x="912" y="672"/>
                </a:cubicBezTo>
                <a:cubicBezTo>
                  <a:pt x="1056" y="640"/>
                  <a:pt x="1200" y="576"/>
                  <a:pt x="1296" y="528"/>
                </a:cubicBezTo>
                <a:cubicBezTo>
                  <a:pt x="1392" y="480"/>
                  <a:pt x="1408" y="448"/>
                  <a:pt x="1488" y="384"/>
                </a:cubicBezTo>
                <a:cubicBezTo>
                  <a:pt x="1568" y="320"/>
                  <a:pt x="1704" y="208"/>
                  <a:pt x="1776" y="144"/>
                </a:cubicBezTo>
                <a:cubicBezTo>
                  <a:pt x="1848" y="80"/>
                  <a:pt x="1884" y="40"/>
                  <a:pt x="192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Look Ahead.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76240" y="990720"/>
            <a:ext cx="7391520" cy="551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95320" y="990720"/>
            <a:ext cx="7353360" cy="5495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27440" y="537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78360" y="529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19320" y="5533920"/>
            <a:ext cx="114804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09880"/>
            <a:ext cx="3048120" cy="1143000"/>
          </a:xfrm>
          <a:custGeom>
            <a:avLst/>
            <a:gdLst/>
            <a:ahLst/>
            <a:rect l="l" t="t" r="r" b="b"/>
            <a:pathLst>
              <a:path w="1920" h="720">
                <a:moveTo>
                  <a:pt x="0" y="672"/>
                </a:moveTo>
                <a:cubicBezTo>
                  <a:pt x="140" y="696"/>
                  <a:pt x="280" y="720"/>
                  <a:pt x="432" y="720"/>
                </a:cubicBezTo>
                <a:cubicBezTo>
                  <a:pt x="584" y="720"/>
                  <a:pt x="768" y="704"/>
                  <a:pt x="912" y="672"/>
                </a:cubicBezTo>
                <a:cubicBezTo>
                  <a:pt x="1056" y="640"/>
                  <a:pt x="1200" y="576"/>
                  <a:pt x="1296" y="528"/>
                </a:cubicBezTo>
                <a:cubicBezTo>
                  <a:pt x="1392" y="480"/>
                  <a:pt x="1408" y="448"/>
                  <a:pt x="1488" y="384"/>
                </a:cubicBezTo>
                <a:cubicBezTo>
                  <a:pt x="1568" y="320"/>
                  <a:pt x="1704" y="208"/>
                  <a:pt x="1776" y="144"/>
                </a:cubicBezTo>
                <a:cubicBezTo>
                  <a:pt x="1848" y="80"/>
                  <a:pt x="1884" y="40"/>
                  <a:pt x="192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Look Ahead.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76240" y="990720"/>
            <a:ext cx="7391520" cy="5510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76240" y="990720"/>
            <a:ext cx="7391520" cy="55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27440" y="537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4840" y="5046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78360" y="529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19320" y="5533920"/>
            <a:ext cx="114804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199040" y="5289480"/>
            <a:ext cx="89352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809880"/>
            <a:ext cx="3048120" cy="1143000"/>
          </a:xfrm>
          <a:custGeom>
            <a:avLst/>
            <a:gdLst/>
            <a:ahLst/>
            <a:rect l="l" t="t" r="r" b="b"/>
            <a:pathLst>
              <a:path w="1920" h="720">
                <a:moveTo>
                  <a:pt x="0" y="672"/>
                </a:moveTo>
                <a:cubicBezTo>
                  <a:pt x="140" y="696"/>
                  <a:pt x="280" y="720"/>
                  <a:pt x="432" y="720"/>
                </a:cubicBezTo>
                <a:cubicBezTo>
                  <a:pt x="584" y="720"/>
                  <a:pt x="768" y="704"/>
                  <a:pt x="912" y="672"/>
                </a:cubicBezTo>
                <a:cubicBezTo>
                  <a:pt x="1056" y="640"/>
                  <a:pt x="1200" y="576"/>
                  <a:pt x="1296" y="528"/>
                </a:cubicBezTo>
                <a:cubicBezTo>
                  <a:pt x="1392" y="480"/>
                  <a:pt x="1408" y="448"/>
                  <a:pt x="1488" y="384"/>
                </a:cubicBezTo>
                <a:cubicBezTo>
                  <a:pt x="1568" y="320"/>
                  <a:pt x="1704" y="208"/>
                  <a:pt x="1776" y="144"/>
                </a:cubicBezTo>
                <a:cubicBezTo>
                  <a:pt x="1848" y="80"/>
                  <a:pt x="1884" y="40"/>
                  <a:pt x="192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76240" y="990720"/>
            <a:ext cx="7391520" cy="550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Look Ahead.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1148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27440" y="5373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78360" y="529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84840" y="5046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30760" y="4519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019320" y="5533920"/>
            <a:ext cx="114804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99040" y="5289480"/>
            <a:ext cx="893520" cy="2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078520" y="4773600"/>
            <a:ext cx="742680" cy="50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809880"/>
            <a:ext cx="3048120" cy="1143000"/>
          </a:xfrm>
          <a:custGeom>
            <a:avLst/>
            <a:gdLst/>
            <a:ahLst/>
            <a:rect l="l" t="t" r="r" b="b"/>
            <a:pathLst>
              <a:path w="1920" h="720">
                <a:moveTo>
                  <a:pt x="0" y="672"/>
                </a:moveTo>
                <a:cubicBezTo>
                  <a:pt x="140" y="696"/>
                  <a:pt x="280" y="720"/>
                  <a:pt x="432" y="720"/>
                </a:cubicBezTo>
                <a:cubicBezTo>
                  <a:pt x="584" y="720"/>
                  <a:pt x="768" y="704"/>
                  <a:pt x="912" y="672"/>
                </a:cubicBezTo>
                <a:cubicBezTo>
                  <a:pt x="1056" y="640"/>
                  <a:pt x="1200" y="576"/>
                  <a:pt x="1296" y="528"/>
                </a:cubicBezTo>
                <a:cubicBezTo>
                  <a:pt x="1392" y="480"/>
                  <a:pt x="1408" y="448"/>
                  <a:pt x="1488" y="384"/>
                </a:cubicBezTo>
                <a:cubicBezTo>
                  <a:pt x="1568" y="320"/>
                  <a:pt x="1704" y="208"/>
                  <a:pt x="1776" y="144"/>
                </a:cubicBezTo>
                <a:cubicBezTo>
                  <a:pt x="1848" y="80"/>
                  <a:pt x="1884" y="40"/>
                  <a:pt x="192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ngths at lower snowfall thresholds often exceed the domain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W/NE bands are the widest, followed by E/W and NW/S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arly indications suggest that the differences in width of the three orientations are not the results of sampling, but the physical processes associated with snowfall generation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cription of Dataset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thodology/Case Sele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mary of Resul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uture Research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ing percentiles to provide forecasters with probabilistic guidance on the width of snowfall band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amine the orientation and strength of processes to snowfall potential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anding the period of record to include more yea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the identified events as analogs of future event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Find this, and other presentations online at: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ww.eas.slu.edu/CIPS/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Questions or Comments?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gravelle@eas.slu.edu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en with advances in numerical and ensemble model guidance, forecasting the axis and spatial extent of heavy snowfall still contains a large amount of uncertaint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uree and Younkin 196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owne and Younkin 197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876480" cy="290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9760" y="4732200"/>
            <a:ext cx="85993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abilistic forecasts are used by SPC and HPC to show the uncertainty with an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tase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ily 24-h snowfall amounts were obtained from the National Climate Data Center (NCDC) Cooperative Summary of the Day (COOP) collection for the period of November 1998 and March 2003.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rth American Regional Reanalysis (NARR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-h dataset with 32-km resolution on 29 pressure level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CDC publications of the Daily Weather Map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OP and NARR datasets were displayed using the General Meteorological Package (GEMPAK) softwar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11240" y="121932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514600" y="16765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124080" y="121932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581280" y="160020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219320" y="15238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276720" y="15238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28600" y="137160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3429000" y="17524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2590920" y="14479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990720" y="15238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3124080" y="160020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762120" y="12193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3581280" y="182880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1371600" y="16765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3352680" y="152388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85800" y="17524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1752480" y="129528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1"/>
          <a:stretch/>
        </p:blipFill>
        <p:spPr>
          <a:xfrm>
            <a:off x="3429000" y="15238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2"/>
          <a:stretch/>
        </p:blipFill>
        <p:spPr>
          <a:xfrm>
            <a:off x="457200" y="16765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3"/>
          <a:stretch/>
        </p:blipFill>
        <p:spPr>
          <a:xfrm>
            <a:off x="3429000" y="14479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4"/>
          <a:stretch/>
        </p:blipFill>
        <p:spPr>
          <a:xfrm>
            <a:off x="1911240" y="152388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5"/>
          <a:stretch/>
        </p:blipFill>
        <p:spPr>
          <a:xfrm>
            <a:off x="914400" y="14479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6"/>
          <a:stretch/>
        </p:blipFill>
        <p:spPr>
          <a:xfrm>
            <a:off x="3657600" y="121932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7"/>
          <a:stretch/>
        </p:blipFill>
        <p:spPr>
          <a:xfrm>
            <a:off x="533520" y="17524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8"/>
          <a:stretch/>
        </p:blipFill>
        <p:spPr>
          <a:xfrm>
            <a:off x="3505320" y="137160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9"/>
          <a:stretch/>
        </p:blipFill>
        <p:spPr>
          <a:xfrm>
            <a:off x="838080" y="1447920"/>
            <a:ext cx="5321520" cy="4819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0"/>
          <a:stretch/>
        </p:blipFill>
        <p:spPr>
          <a:xfrm>
            <a:off x="3048120" y="1523880"/>
            <a:ext cx="5321160" cy="481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1"/>
          <a:stretch/>
        </p:blipFill>
        <p:spPr>
          <a:xfrm>
            <a:off x="1911240" y="1371600"/>
            <a:ext cx="53215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12408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3124080" cy="283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48320" y="914400"/>
            <a:ext cx="3124080" cy="2828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3124080" cy="283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838600">
            <a:off x="1398240" y="1514520"/>
            <a:ext cx="146376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531400">
            <a:off x="4582800" y="1816200"/>
            <a:ext cx="2590920" cy="121284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675400">
            <a:off x="2641680" y="5127120"/>
            <a:ext cx="1739880" cy="116532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3809880"/>
            <a:ext cx="312408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 Ja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6 Ja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7 Ja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2-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9640" y="990720"/>
            <a:ext cx="6984720" cy="56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OP event data for each station was objectively analyzed using a Barnes objective analysi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71 x 171 grid ~ 10 km grid spac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ameters for the objective analysis were chosen such that stations within 35 km had the most influence on each grid poin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nally, a 9-pt smoother was applied to all fields before generating graphic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6553080" cy="488628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038480" cy="3237120"/>
          </a:xfrm>
          <a:prstGeom prst="rect">
            <a:avLst/>
          </a:prstGeom>
          <a:ln w="50760">
            <a:solidFill>
              <a:srgbClr val="000066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4:39:14Z</dcterms:created>
  <dc:creator>CMG</dc:creator>
  <dc:description/>
  <dc:language>en-US</dc:language>
  <cp:lastModifiedBy>CMGravelle</cp:lastModifiedBy>
  <dcterms:modified xsi:type="dcterms:W3CDTF">2007-04-20T14:56:12Z</dcterms:modified>
  <cp:revision>72</cp:revision>
  <dc:subject/>
  <dc:title>Composite Analyses of Coupled Upper-Level Jet Streaks       East of the Rocky Mountains</dc:title>
</cp:coreProperties>
</file>