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2B7-8F4C-4106-A211-2BECEFBA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315-C7E3-495A-B54A-35609C35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33C-586C-485C-917C-F9546B1C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6612-A6ED-49F0-A4D4-D827B2D1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CADD-3078-4CD6-9F31-D66B36F5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5BBB-772A-4449-BB2C-F8F4952A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7DDA-BBF8-4AA0-B42F-2B6D37BF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1021-E028-44D4-9754-3D2B8A68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EC7D-BC88-4700-95B5-92C83D9F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B3C7-A459-4CFA-9DA5-F9F65CEC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A942-B256-4211-BF32-AF9E2FB0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28E8-A0E3-4372-8262-57294EFB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9D16-2135-480F-82D5-8C10B14A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D6FB-6D3B-4733-82FB-12C98538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C0CD-32D5-4C1F-B868-D611BF20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F802-B0A1-4141-B3C4-1BFB3207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6EB9-C100-4E22-A8ED-C12F9292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16D7-D29E-42B5-9FAF-ED03D1F6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326-FCD0-42CF-8369-8D90B591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50E-E59B-4D08-A1BE-877D0172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E9B0-475A-4D21-B602-E084A6B4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2AE8-BBD1-4692-8CB6-DDA57525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8A2-31D8-48D3-B2DB-861092A8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C4F-2655-4FBC-A8C9-51FAFFCE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6A70-145A-4486-A8A6-8844C573E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12EB-166C-4026-872B-EAD549B01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as.slu.edu/CIPS/Presentations.html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20570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An Application of Corfidi Vectors to a Spectrum of Mesoscale Convective System Typ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ubinski, K.E., J.T. Moore, and C.E.Graves, Department of Earth and Atmospheric Sciences,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int Louis Univers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4774320" y="5715000"/>
            <a:ext cx="33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ssouri Academy of Science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ril 22, 2006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3617280" y="5105520"/>
            <a:ext cx="53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operative Institute Precipitation System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CIPSlogo" descr=""/>
          <p:cNvPicPr/>
          <p:nvPr/>
        </p:nvPicPr>
        <p:blipFill>
          <a:blip r:embed="rId1"/>
          <a:stretch/>
        </p:blipFill>
        <p:spPr>
          <a:xfrm>
            <a:off x="0" y="3733920"/>
            <a:ext cx="26906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Stationary MCS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4 May 200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vection developed along Iowa, Missouri and Illinois bord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LJ originated in northeast New Mexico and curved anticyclonically into Iowa and then southeast into Mississippi, Jet streak located on the border between Iowa and Missour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w pressure in Saskatchewan, with a warm front extending south from the low into western Missour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levated case, convection developed to the east of the warm fro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14 May 2001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6" name="01may14rad1" descr="The image “file:///H:/kelly/Picture/01may14rad1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533520" y="1600200"/>
            <a:ext cx="3533760" cy="2550960"/>
          </a:xfrm>
          <a:prstGeom prst="rect">
            <a:avLst/>
          </a:prstGeom>
          <a:ln w="0">
            <a:noFill/>
          </a:ln>
        </p:spPr>
      </p:pic>
      <p:pic>
        <p:nvPicPr>
          <p:cNvPr id="147" name="01may14rad2" descr="The image “file:///H:/kelly/Picture/01may14rad2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4191120" y="1600200"/>
            <a:ext cx="3504960" cy="2530440"/>
          </a:xfrm>
          <a:prstGeom prst="rect">
            <a:avLst/>
          </a:prstGeom>
          <a:ln w="0">
            <a:noFill/>
          </a:ln>
        </p:spPr>
      </p:pic>
      <p:pic>
        <p:nvPicPr>
          <p:cNvPr id="148" name="01may14rad3" descr="The image “file:///H:/kelly/Picture/01may14rad3.gif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2438280" y="4191120"/>
            <a:ext cx="3657600" cy="264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461280" y="4613400"/>
            <a:ext cx="25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dar imagery at 0400, 0630 and 0900 UT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Forward-Propagating MCS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7-18 May 200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CS originated over Oklahoma and Texas Panhand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 real indication of a LLJ, but a clear temperature gradient at 850 mb was present creating lif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ld front extended from east Texas to the northeast through central Iow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levated conve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17-18 May 2001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3" name="01may17sat1" descr="The image “file:///H:/kelly/Picture/01may17sat1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685800" y="1676520"/>
            <a:ext cx="3505320" cy="2530440"/>
          </a:xfrm>
          <a:prstGeom prst="rect">
            <a:avLst/>
          </a:prstGeom>
          <a:ln w="0">
            <a:noFill/>
          </a:ln>
        </p:spPr>
      </p:pic>
      <p:pic>
        <p:nvPicPr>
          <p:cNvPr id="154" name="01may17sat2" descr="The image “file:///H:/kelly/Picture/01may17sat2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4419720" y="1676520"/>
            <a:ext cx="3504960" cy="2531880"/>
          </a:xfrm>
          <a:prstGeom prst="rect">
            <a:avLst/>
          </a:prstGeom>
          <a:ln w="0">
            <a:noFill/>
          </a:ln>
        </p:spPr>
      </p:pic>
      <p:pic>
        <p:nvPicPr>
          <p:cNvPr id="155" name="01may17sat3" descr="The image “file:///H:/kelly/Picture/01may17sat3.gif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2514600" y="4325760"/>
            <a:ext cx="3505320" cy="2532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08640" y="491796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tellite imagery at 0415, 0815, and 1115 UT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Forward-Propagating MCS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-3 June 2005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vection originated in northeast Colorado and quickly moved east through Nebrask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LJ extended from central Texas north into Canada. Jet max located in northern Minnesota and Canada (15 m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w pressure in central Colorado. Stationary front present extending from just north of the low to the northeast into South Dako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Forward-Propagating MCS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 June 2005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ajor system to develop on this da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vection originated in east Texas traveling quickly eastwar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LJ extending from the central Texas into Nebraska with a jet max of 15 m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n Kans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w pressure in southeast corner of Colorado, dryline extending to the south, and a warm front extending to the southea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Corfidi’s Vector Method for Upwind-Propagating MCS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38080" y="2057400"/>
          <a:ext cx="601992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6019920" cy="35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6934320" y="182880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ell motion was determined by the mean wind from 850-300 mb, computed from the soun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"/>
          <p:cNvSpPr/>
          <p:nvPr/>
        </p:nvSpPr>
        <p:spPr>
          <a:xfrm>
            <a:off x="6994440" y="4191120"/>
            <a:ext cx="214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LJ was observed 1-3 km upstream from area of intere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Modified Corfidi Vector Method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ified Corifidi method uses the mean wind from the level of free convection (LFC) to equilibrium level (EL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uted from soun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the majority of the cases analyzed, the LFC was above 850 and the EL was higher than 300 m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5e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3424320" y="0"/>
          <a:ext cx="571968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4320" y="0"/>
                    <a:ext cx="5719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0" y="2133720"/>
            <a:ext cx="3352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boxes indicate more accurate speeds for cell mo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971800"/>
            <a:ext cx="3276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Yellow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boxes indicate more accurate directions for cell mo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Bright"/>
              </a:rPr>
              <a:t>Cell Mo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685800"/>
            <a:ext cx="33526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dividual convective cells were tracked within the MCS using WSR-88D radar to determine the cell mo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267080"/>
            <a:ext cx="3216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riginal version speed was more accurate 70% of the ti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257800"/>
            <a:ext cx="3444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dified version direction was more accurate 60% of the ti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5e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Bright"/>
              </a:rPr>
              <a:t>Storm Mo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373560" y="0"/>
          <a:ext cx="577044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73560" y="0"/>
                    <a:ext cx="5770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0" y="1981080"/>
            <a:ext cx="3352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 Narro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boxes indicate more accurate speeds for storm mo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2971800"/>
            <a:ext cx="3276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Yellow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boxes indicate more accurate directions for storm mo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762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storm motion was determined by tracking the MCS using satellite image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114800"/>
            <a:ext cx="3292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riginal version speed was more accurate 71% of the ti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5181480"/>
            <a:ext cx="32004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dified version direction was more accurate 67% of the ti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eavy rain events (4 inches or more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arm season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eat Plai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amples of backward, stationary, and forward-propagating MC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rfidi’s “Vector Method”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dified Corfidi Metho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5e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743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Wind Components for Cell Mo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754360" y="0"/>
          <a:ext cx="638964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4360" y="0"/>
                    <a:ext cx="6389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0" y="1905120"/>
            <a:ext cx="20732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66ff"/>
                </a:solidFill>
                <a:latin typeface="Arial Narro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boxes indicate that the speed of the cells is being overestima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809880"/>
            <a:ext cx="2743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4 % of the time, the speed was overestimated (location of LFC and EL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5305320"/>
            <a:ext cx="26067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1% of the time, the errors in U were greater than the errors in V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5e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2666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Wind Components for Storm Mo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24120" y="0"/>
          <a:ext cx="641988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4120" y="0"/>
                    <a:ext cx="64198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0" y="1905120"/>
            <a:ext cx="22255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9933ff"/>
                </a:solidFill>
                <a:latin typeface="Arial Narrow"/>
              </a:rPr>
              <a:t>Purpl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boxes indicate that the speed of the storm is being underestima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657600"/>
            <a:ext cx="2759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1% of the time, the speed was underestimate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5029200"/>
            <a:ext cx="2530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2% of the time, the errors in U were greater than the errors in V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5e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Variation in wind direction from cell to storm mo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889440" y="0"/>
          <a:ext cx="525456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9440" y="0"/>
                    <a:ext cx="5254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0" y="2362320"/>
            <a:ext cx="326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tual wind direction accuracy decreases in accuracy from cell to storm mo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4114800"/>
            <a:ext cx="329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63% of the time, the accuracy decreas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5eb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Variation in wind speed from cell to storm mo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911760" y="0"/>
          <a:ext cx="523224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11760" y="0"/>
                    <a:ext cx="5232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0" y="2362320"/>
            <a:ext cx="35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ctual wind speed accuracy increases from cell to storm mo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809880"/>
            <a:ext cx="329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60% of the time, the accuracy improv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No correlation between type of propagation, elevated vs. surface based convection and accuracy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 some cases, neither method worked well enough to be useful to the public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 both methods, the accuracy of the speed improved from cell to storm motion, but the direction decreased in accurac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LLJ influence in cell motion extends the length of the vector and rotates it more northerly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opagation vector compensates for the error in cell motion, leading to storm motions whose speeds are better but directions are worse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LLJ compensates for errors in the V direction, therefore, it’s going to be the errors in U that dominate the errors in the storm mo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ell motion and Propagation component are not independent from one anoth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reating a new mean wind level (LFC to EL) may be a better estimate of cell motion, but the LLJ still compensates for errors that are now non-existent producing worse storm mot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 would like to thank Dr.Graves for his help with this presen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IPS appreciates support from the NOAA-CSTAR progra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presentation can be found online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 u="sng">
                <a:solidFill>
                  <a:srgbClr val="d4876c"/>
                </a:solidFill>
                <a:uFillTx/>
                <a:latin typeface="Arial Narrow"/>
                <a:hlinkClick r:id="rId4"/>
              </a:rPr>
              <a:t>http://www.eas.slu.edu/CIPS/Presentations.htm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y questions or comments can be e-mail to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kubinski@eas.slu.edu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Backward-Propagating MCS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2 June 200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vection located in northwestern Iow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LJ extended from Oklahoma Panhandle to northern Wisconsin (15 m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w pressure in southern Minnesota, cold front extending from low pressure southwest into Nebrask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levated case, convection resided on cold side of bounda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Backward–Propagating MCS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2 June 2002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vection developed in central Wiscons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LJ extended from the Texas Panhandle north into South Dakota, jet streak located in Nebrask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w pressure in northeast Colorado, warm from extending from the low pressure east into southern Wiscons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nvection developed along this surface warm fro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levated cas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22 June 2002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9" name="02jun22rad1" descr="The image “file:///H:/kelly/Picture/02jun22rad1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152280" y="1828800"/>
            <a:ext cx="4419720" cy="3191040"/>
          </a:xfrm>
          <a:prstGeom prst="rect">
            <a:avLst/>
          </a:prstGeom>
          <a:ln w="0">
            <a:noFill/>
          </a:ln>
        </p:spPr>
      </p:pic>
      <p:pic>
        <p:nvPicPr>
          <p:cNvPr id="130" name="02jun22rad2" descr="The image “file:///H:/kelly/Picture/02jun22rad2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4572000" y="1828800"/>
            <a:ext cx="4419720" cy="3191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449080" y="541008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dar imagery at 0430 and 0600 UT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Stationary MCS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5 August 2005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cus for convection was in eastern Kans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LJ extending from Texas north into Canada. Jet streak located on south-central Kansas (20 m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 and  winds near North Dakota and Minnesota border (15 m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onary front located south of where convection was expected to develo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rface based, warm side of the stationary fro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Stationary MCS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6-7 June 2004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aining cells over north-central Texas and some parts of south-central Oklahom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ong winds at 850 mb near central and southern Texas coming from the south at 15 m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w pressure in Colorado, trough to the north in Oklahoma and to the south in central Texa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x Precipitable water and 1000-500 mb mean RH values during the pre-storm enviornment were located over the area where convection develop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6-7 June 2004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7" name="04jun06sat1" descr="The image “file:///H:/kelly/Picture/04jun06sat1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685800" y="1676520"/>
            <a:ext cx="3505320" cy="2530440"/>
          </a:xfrm>
          <a:prstGeom prst="rect">
            <a:avLst/>
          </a:prstGeom>
          <a:ln w="0">
            <a:noFill/>
          </a:ln>
        </p:spPr>
      </p:pic>
      <p:pic>
        <p:nvPicPr>
          <p:cNvPr id="138" name="04jun06sat2" descr="The image “file:///H:/kelly/Picture/04jun06sat2.gif” cannot be displayed, because it contains errors."/>
          <p:cNvPicPr/>
          <p:nvPr/>
        </p:nvPicPr>
        <p:blipFill>
          <a:blip r:embed="rId2"/>
          <a:stretch/>
        </p:blipFill>
        <p:spPr>
          <a:xfrm>
            <a:off x="4343400" y="1676520"/>
            <a:ext cx="3505320" cy="2531880"/>
          </a:xfrm>
          <a:prstGeom prst="rect">
            <a:avLst/>
          </a:prstGeom>
          <a:ln w="0">
            <a:noFill/>
          </a:ln>
        </p:spPr>
      </p:pic>
      <p:pic>
        <p:nvPicPr>
          <p:cNvPr id="139" name="04jun06sat3" descr="The image “file:///H:/kelly/Picture/04jun06sat3.gif” cannot be displayed, because it contains errors."/>
          <p:cNvPicPr/>
          <p:nvPr/>
        </p:nvPicPr>
        <p:blipFill>
          <a:blip r:embed="rId3"/>
          <a:stretch/>
        </p:blipFill>
        <p:spPr>
          <a:xfrm>
            <a:off x="2438280" y="4267080"/>
            <a:ext cx="3581640" cy="2584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537240" y="484200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tellite imagery at 0045, 0345, 0645 UT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Bright"/>
              </a:rPr>
              <a:t>Stationary MCS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2-23 June 2003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vection occurred over southern Nebrask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LJ extended from Texas northeast into Minnesota and Canad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wo separate jet streaks, (1) central Kansas, (2) Iowa and Minnesota reaching 15 m 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Narrow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onary front located between Nebraska and Kansas (sfc based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5:53:41Z</dcterms:created>
  <dc:creator>eas-9-156</dc:creator>
  <dc:description/>
  <dc:language>en-US</dc:language>
  <cp:lastModifiedBy>eas-9-156</cp:lastModifiedBy>
  <dcterms:modified xsi:type="dcterms:W3CDTF">2006-04-20T16:09:19Z</dcterms:modified>
  <cp:revision>18</cp:revision>
  <dc:subject/>
  <dc:title>An Application of Corfidi Vectors to a Spectrum of Mesoscale Convective System Types</dc:title>
</cp:coreProperties>
</file>