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5.png" ContentType="image/png"/>
  <Override PartName="/ppt/media/image5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2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0D1-4167-4CDE-8FA3-20849E3E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16F-A7BA-41A1-B8A7-2AA0E52C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0A8-2D9C-4C83-9CB7-9E6608F0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8D5-8512-441E-8976-B066B3A8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9308-2B25-403C-B0DC-535F3EC0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6E75-0522-4AF8-8A6B-1CB4A6C4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C9EB-1246-4A90-A6C6-66FA4D15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F0C4-52BC-46B6-B4EA-A6C180CC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B12F-DC00-402D-9055-C0E10F66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CEE6-69C6-4E68-A060-959E8C5A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031D-31E1-4BB8-A621-1B61537F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17B-853B-40A4-8691-3FB65FAC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5F26-D70D-4DDD-A065-74D229BD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6DAC-6D5D-4C55-AB62-4C85F089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A36A-7A8A-4F7D-B9F7-AF6C056D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C476-C156-4D8D-9117-D0728210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6843-FBD0-48A9-B0BD-46F43F3F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AD5-348D-4517-BB10-747CDE8D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A8E-EAC9-4D40-8A02-D95A1A52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948-78F7-4BC9-9CFD-DF1BA097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62D-4992-4FCF-859F-EC2A2435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545-0FAE-4CD1-9422-1877289F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661-CF2E-4A73-844F-22627634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1DD-4375-4A83-B875-816467E1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1201-DE13-455C-97B6-6C2ECF866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866D-86B3-4296-AAC1-7C74967B7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.slu.edu/CIPS/index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.slu.edu/CIPS/Presentations.html" TargetMode="External"/><Relationship Id="rId3" Type="http://schemas.openxmlformats.org/officeDocument/2006/relationships/hyperlink" Target="mailto:Paschan@eas.slu.edu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Mesoscale Convective System Initiation and Propagation Characteristics During the 18-19 May 2004 Kansas City Flash Flood.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m Pasch, Michael Paddock, James Moore and Charles Gr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int Louis Universi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rth and Atmospheric Sci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Institute for Precipitation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int Louis, 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1337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6248520"/>
            <a:ext cx="8229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ssouri Academy of Science, Lincoln University, Jefferson City, MO, April 16,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ar for 00 UTC-12 UTC 19 May 04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UC-II Initialization: 250 mb &amp; 500 mb 03 UTC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038480" y="2901960"/>
            <a:ext cx="5105520" cy="3956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4686480" cy="363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066680" y="46483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short-wave trough beginning to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05320" y="4419720"/>
            <a:ext cx="27432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248160" y="373392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westerly flow with an upper-level trough to the e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971440" y="1600200"/>
            <a:ext cx="25146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38280" y="1447920"/>
            <a:ext cx="533520" cy="1904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PW Percent of Normal 00 UTC 19 May 2004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6248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W ~ 150 - 170% of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rface &amp; 900 mb 03 UT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5029200" cy="3706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29280" y="2895480"/>
            <a:ext cx="4914720" cy="3819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62720" y="9907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flow boundary masks surface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876920"/>
            <a:ext cx="3124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southerly flow with a better defined boundary at 900 m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UC-II Initializ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1080" y="4343400"/>
            <a:ext cx="2525760" cy="351000"/>
          </a:xfrm>
          <a:custGeom>
            <a:avLst/>
            <a:gdLst/>
            <a:ahLst/>
            <a:rect l="l" t="t" r="r" b="b"/>
            <a:pathLst>
              <a:path w="1591" h="221">
                <a:moveTo>
                  <a:pt x="0" y="202"/>
                </a:moveTo>
                <a:cubicBezTo>
                  <a:pt x="139" y="200"/>
                  <a:pt x="570" y="221"/>
                  <a:pt x="835" y="187"/>
                </a:cubicBezTo>
                <a:cubicBezTo>
                  <a:pt x="1100" y="153"/>
                  <a:pt x="1434" y="39"/>
                  <a:pt x="1591" y="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850-500 mb Convective Instability 03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4920" y="5716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24080" y="2514600"/>
            <a:ext cx="121932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286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B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3352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G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heta E Cross Section 03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652320"/>
            <a:ext cx="8153640" cy="620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4876920" y="4648320"/>
            <a:ext cx="0" cy="129528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733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onvectively unst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267080"/>
            <a:ext cx="1752840" cy="83844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verage 950-850 mb Theta E Advection 03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74304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2971800"/>
            <a:ext cx="2392200" cy="1017720"/>
          </a:xfrm>
          <a:custGeom>
            <a:avLst/>
            <a:gdLst/>
            <a:ahLst/>
            <a:rect l="l" t="t" r="r" b="b"/>
            <a:pathLst>
              <a:path w="1507" h="641">
                <a:moveTo>
                  <a:pt x="0" y="0"/>
                </a:moveTo>
                <a:cubicBezTo>
                  <a:pt x="130" y="43"/>
                  <a:pt x="529" y="152"/>
                  <a:pt x="780" y="259"/>
                </a:cubicBezTo>
                <a:cubicBezTo>
                  <a:pt x="1031" y="366"/>
                  <a:pt x="1356" y="562"/>
                  <a:pt x="1507" y="641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verage 950-850 mb MTV 03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467480" y="11430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forms in the gradient of the MT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580920" y="2057400"/>
            <a:ext cx="40388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1002800">
            <a:off x="3047760" y="2819160"/>
            <a:ext cx="990360" cy="6094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10760" cy="5905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UC-II Initialization: Average 900-800 mb MCON 03 UTC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2606760"/>
            <a:ext cx="2541600" cy="745920"/>
          </a:xfrm>
          <a:custGeom>
            <a:avLst/>
            <a:gdLst/>
            <a:ahLst/>
            <a:rect l="l" t="t" r="r" b="b"/>
            <a:pathLst>
              <a:path w="1601" h="470">
                <a:moveTo>
                  <a:pt x="0" y="470"/>
                </a:moveTo>
                <a:cubicBezTo>
                  <a:pt x="159" y="436"/>
                  <a:pt x="686" y="344"/>
                  <a:pt x="953" y="266"/>
                </a:cubicBezTo>
                <a:cubicBezTo>
                  <a:pt x="1220" y="188"/>
                  <a:pt x="1466" y="55"/>
                  <a:pt x="1601" y="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UC-II Initialization: 250 mb &amp; 500 mb 06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343400" y="3132000"/>
            <a:ext cx="4800600" cy="372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4915080" cy="381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H="1">
            <a:off x="6552720" y="4191120"/>
            <a:ext cx="22860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914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n upper-level rid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14240" y="1752480"/>
            <a:ext cx="762120" cy="1524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105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eak short-wave tr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ring the 12 hour period ending 12 UTC 19 May 2004 a northwest-southeast band of heavy rainfall of 5-7 inches fell within the County Warning Area of Pleasant Hill, M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hunderstorms that formed during the night of 18 May 2004 were likely elevated as they formed in a region where an outflow boundary intersected a stationary fro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diagnostic study of the initiation and propagation of these thunderstorms was done us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CEP Rapid Update Cycle (RUC-II) Initialization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CDC COOP Precipitation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CDC Level II WSR-88D Radar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PVU QPF Verification and Comparison Plo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MPAK and SLUBREW graphic display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rface &amp; 900 mb 06 UT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533520"/>
            <a:ext cx="5049720" cy="3944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038480" y="2890800"/>
            <a:ext cx="5105520" cy="396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" y="4876920"/>
            <a:ext cx="3429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southerly flow with RH &gt; 90% at 900 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UC-II Initializat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9144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estern edge of the outflow continues to intersect the 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29480" y="4514760"/>
            <a:ext cx="2468520" cy="285840"/>
          </a:xfrm>
          <a:custGeom>
            <a:avLst/>
            <a:gdLst/>
            <a:ahLst/>
            <a:rect l="l" t="t" r="r" b="b"/>
            <a:pathLst>
              <a:path w="1555" h="180">
                <a:moveTo>
                  <a:pt x="0" y="180"/>
                </a:moveTo>
                <a:cubicBezTo>
                  <a:pt x="130" y="170"/>
                  <a:pt x="519" y="152"/>
                  <a:pt x="778" y="122"/>
                </a:cubicBezTo>
                <a:cubicBezTo>
                  <a:pt x="1037" y="92"/>
                  <a:pt x="1393" y="25"/>
                  <a:pt x="1555" y="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850-500 mb Convective Instability 06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305560" cy="6229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24080" y="2514600"/>
            <a:ext cx="121932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2286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B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3352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G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heta E Cross Section 06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7200" y="652320"/>
            <a:ext cx="8153280" cy="620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4952880" y="4876560"/>
            <a:ext cx="0" cy="106668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962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onvectively Unst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4572000"/>
            <a:ext cx="1143000" cy="3808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verage 950-850 mb Theta E Advection 06 UTC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819520" y="2971800"/>
            <a:ext cx="2590560" cy="1066680"/>
          </a:xfrm>
          <a:custGeom>
            <a:avLst/>
            <a:gdLst/>
            <a:ahLst/>
            <a:rect l="l" t="t" r="r" b="b"/>
            <a:pathLst>
              <a:path w="1680" h="624">
                <a:moveTo>
                  <a:pt x="0" y="0"/>
                </a:moveTo>
                <a:cubicBezTo>
                  <a:pt x="125" y="13"/>
                  <a:pt x="539" y="38"/>
                  <a:pt x="751" y="79"/>
                </a:cubicBezTo>
                <a:cubicBezTo>
                  <a:pt x="963" y="120"/>
                  <a:pt x="1115" y="154"/>
                  <a:pt x="1270" y="245"/>
                </a:cubicBezTo>
                <a:cubicBezTo>
                  <a:pt x="1425" y="336"/>
                  <a:pt x="1595" y="545"/>
                  <a:pt x="1680" y="624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verage 950-850 mb MTV 06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28600" y="51444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657600" y="2666880"/>
            <a:ext cx="1143000" cy="9144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848720" cy="5962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UC-II Initialization: Average 900-800 mb MCON 06 UTC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2514600"/>
            <a:ext cx="1817640" cy="1736640"/>
          </a:xfrm>
          <a:custGeom>
            <a:avLst/>
            <a:gdLst/>
            <a:ahLst/>
            <a:rect l="l" t="t" r="r" b="b"/>
            <a:pathLst>
              <a:path w="1145" h="1094">
                <a:moveTo>
                  <a:pt x="0" y="0"/>
                </a:moveTo>
                <a:cubicBezTo>
                  <a:pt x="121" y="67"/>
                  <a:pt x="536" y="221"/>
                  <a:pt x="727" y="403"/>
                </a:cubicBezTo>
                <a:cubicBezTo>
                  <a:pt x="918" y="585"/>
                  <a:pt x="1058" y="950"/>
                  <a:pt x="1145" y="1094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UC-II Initialization: 250 mb &amp; 500 mb 09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419720" y="3178080"/>
            <a:ext cx="4724280" cy="3679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4991040" cy="3878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6171840" y="4038480"/>
            <a:ext cx="68580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5181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short-wave trough is still pres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9144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ll in an upper-level rid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19810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rface &amp; 900 mb 09 UT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5105520" cy="3922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038480" y="2889360"/>
            <a:ext cx="5105520" cy="3968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2280" y="4952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southwesterly f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UC-II Initializ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6858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outflow has moved out of the region and another has formed.  This was seen on the RA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389480"/>
            <a:ext cx="2819520" cy="108000"/>
          </a:xfrm>
          <a:custGeom>
            <a:avLst/>
            <a:gdLst/>
            <a:ahLst/>
            <a:rect l="l" t="t" r="r" b="b"/>
            <a:pathLst>
              <a:path w="1776" h="68">
                <a:moveTo>
                  <a:pt x="0" y="67"/>
                </a:moveTo>
                <a:cubicBezTo>
                  <a:pt x="190" y="56"/>
                  <a:pt x="842" y="0"/>
                  <a:pt x="1138" y="0"/>
                </a:cubicBezTo>
                <a:cubicBezTo>
                  <a:pt x="1434" y="0"/>
                  <a:pt x="1643" y="54"/>
                  <a:pt x="1776" y="68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850-500 mb Convective Instability 09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124080" y="2514600"/>
            <a:ext cx="121932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2286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B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352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G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heta E Cross Section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09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3520" y="709560"/>
            <a:ext cx="8076960" cy="614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V="1">
            <a:off x="5105520" y="5029200"/>
            <a:ext cx="0" cy="91440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4267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onvectively Un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4952880"/>
            <a:ext cx="1447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3963" t="37757" r="0" b="4820"/>
          <a:stretch/>
        </p:blipFill>
        <p:spPr>
          <a:xfrm>
            <a:off x="0" y="1066680"/>
            <a:ext cx="495288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0" t="17762" r="9807" b="16655"/>
          <a:stretch/>
        </p:blipFill>
        <p:spPr>
          <a:xfrm>
            <a:off x="4938840" y="1066680"/>
            <a:ext cx="420516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ddox et al.’s 1979 (BAMS) Frontal Pattern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verage 950-850 mb Theta E Advection 09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76720" y="2514600"/>
            <a:ext cx="2438280" cy="1981080"/>
          </a:xfrm>
          <a:custGeom>
            <a:avLst/>
            <a:gdLst/>
            <a:ahLst/>
            <a:rect l="l" t="t" r="r" b="b"/>
            <a:pathLst>
              <a:path w="1584" h="1296">
                <a:moveTo>
                  <a:pt x="0" y="0"/>
                </a:moveTo>
                <a:cubicBezTo>
                  <a:pt x="147" y="79"/>
                  <a:pt x="617" y="259"/>
                  <a:pt x="881" y="475"/>
                </a:cubicBezTo>
                <a:cubicBezTo>
                  <a:pt x="1145" y="691"/>
                  <a:pt x="1438" y="1125"/>
                  <a:pt x="1584" y="1296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5716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verage 950-850 mb MTV 09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895480"/>
            <a:ext cx="1143000" cy="7621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orfidi Vector Upwind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25398" t="6350" r="19049" b="11112"/>
          <a:stretch/>
        </p:blipFill>
        <p:spPr>
          <a:xfrm>
            <a:off x="0" y="685800"/>
            <a:ext cx="4800600" cy="4495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rcRect l="25729" t="529" r="22337" b="12699"/>
          <a:stretch/>
        </p:blipFill>
        <p:spPr>
          <a:xfrm>
            <a:off x="4495680" y="243828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81480" y="838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3 UTC 19 Ma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962160" y="1143000"/>
            <a:ext cx="144756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6 UTC 19 Ma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657600" y="4952880"/>
            <a:ext cx="182880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1371600"/>
            <a:ext cx="4495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pagation = -LLJ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ell Motion= 850-300mb mean win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orfidi Diagnostic 04 UTC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rcRect l="27359" t="12265" r="21699" b="16983"/>
          <a:stretch/>
        </p:blipFill>
        <p:spPr>
          <a:xfrm>
            <a:off x="152280" y="685800"/>
            <a:ext cx="5924520" cy="6172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095880" y="1219320"/>
            <a:ext cx="3048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ta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 Motion and Storm Motion from radar measure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agation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orifidi Upwind vs. Diagnostic Corfidi.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ifidi only takes into account the LLJ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case demonstrates that just relying on LLJ will not necessarily provide the best results for new cell propagation characteris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propagation vector obtained from radar measurements points to where new cells will form because this is the area wit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est MC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Theta-E Adv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fting through the gust and stationary fro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onceptual Model of 19 May 2004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883944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intersection of an outflow boundary with a stationary front was the focus for conv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torms form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gradient of CI with the max located to the w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n area of positive Theta-E Advection with RH &gt; 90% at 900m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gradient of the MTVs with the max to the southwest.  (Probable location of the LLJ influence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gion was Convectively Unst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torms moved along the axis of highest MCON, with the MCON strengthening from  0.8 gm/kg per hr to 2 gm/kg per hr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LJ and front were better defined at 900 m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 surface front was masked by the outflow boundar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ndings here resembled the conceptual model discussed by Moore et al. 2003 (WAF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181480" y="6858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INING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ork was done through CIPS with the support of NOAA–CS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ould like to thank Michael Paddock, Jim Moore and Chuck Graves for their help with this c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resentation can be found onl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http://www.eas.slu.edu/CIPS/Presentations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 or comments can be directed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Paschan@eas.slu.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787320"/>
            <a:ext cx="7543800" cy="6070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0120" y="28954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ea of &gt; 6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819520" y="3200400"/>
            <a:ext cx="487656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adar Estimated Storm Total Precipitation From EAX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3886200"/>
            <a:ext cx="380880" cy="457200"/>
          </a:xfrm>
          <a:prstGeom prst="star5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6881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238880" y="1600200"/>
            <a:ext cx="15242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ice the area of &gt; 6 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t coincides with the radar estim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ice the maximum value of 7.02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829400">
            <a:off x="1909800" y="3255840"/>
            <a:ext cx="83808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514240" y="3429000"/>
            <a:ext cx="4724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 h Precipitation ending 12 UTC 19 May 200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15840"/>
            <a:ext cx="85341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505320" y="2349360"/>
            <a:ext cx="5638680" cy="450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5486400" cy="4384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280" y="518148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rgest amount of rain fell between 00 and 12 UTC         19 May 2004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19080"/>
            <a:ext cx="8534160" cy="6819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bserve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HPC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RF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0040" y="350532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G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ET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F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IR Satellite Loop 00-12 UTC 19 May 2004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835200"/>
            <a:ext cx="883944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5:32:48Z</dcterms:created>
  <dc:creator>eas-9-155</dc:creator>
  <dc:description/>
  <dc:language>en-US</dc:language>
  <cp:lastModifiedBy>eas-9-155</cp:lastModifiedBy>
  <dcterms:modified xsi:type="dcterms:W3CDTF">2005-04-14T19:21:22Z</dcterms:modified>
  <cp:revision>26</cp:revision>
  <dc:subject/>
  <dc:title>Mesoscale Convective System Initiation and Propagation Characteristics During the 18-19 May 2004 Kansas City Flash Flood.</dc:title>
</cp:coreProperties>
</file>