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174-9ACE-4880-8532-0A448DC6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7F4-AF7C-4747-847B-FDC77A94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F52-3203-42E8-99CA-127144F0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E5D-6500-425E-A814-93871062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718B-1EAD-4C80-B0A0-09FA62FD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CACB-8AAE-4D91-9D1A-81B28594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EBB3-2650-4C4C-8A42-7653BAD2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9636-4B87-40A5-9D91-C59FE1EC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14C4-3B91-495C-B690-5EA851BA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DA49-8CBC-472B-A4D2-815E53D2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379C-3174-4601-84AC-A7F134AE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FAE-646D-4E0F-99E6-33117B3C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655D-5CE1-4345-B652-DD6F4C5D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D06E-62A6-4283-8297-10E70601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8AE9-CEA4-4975-B177-BC56EBE4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FA30-2758-421F-AFB3-2816DD44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38FC-561E-4275-AC7B-6806DFEF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5336A-739E-4835-BE0C-9610694C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649C3-AFE7-4015-BF0C-00EE80E5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B9212-8593-4D91-85B0-A6706703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036EA-2EAF-4501-B2C6-0D94EAD5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85572-D258-4796-BFAB-9D331151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D70-00CB-465F-9808-7A46B435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063D0-8DD4-4F4C-9BDF-840A66C7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7B79F-B80D-4720-A170-9DBDB75F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A8F9F-C0BA-46A1-BB22-7B36F0E9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01429-5FF1-406B-9DB7-918394D2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1F255-0BE9-4D36-81E6-16E7A4DF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8D0D2-1ADA-4300-9522-D3A70458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5D82C-9FF4-42DB-A288-C8CB8E00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A34E1-16CE-40DC-B04D-89A81C75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B5188-31B7-469E-8BA1-9629196C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6FDA3-1481-458C-8ADC-D6D27697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BE8-7536-46E3-963A-77105309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EBB7-61A1-42AE-9D29-3C637D15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D4B3B-C191-4AFD-B107-82F0F6A7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8A248-7094-4796-8603-56D4F60E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7A1D7-716D-4464-867E-62D167C7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E2296-93E0-4604-9D05-BE33B4AF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BA1E1-31C2-4AEE-BCD6-0A370295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E3D71-0384-41ED-B544-24B93870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56042-0CDC-4495-8D20-7F7C83DA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A510C-A164-47A7-A7CE-5F7CB6A4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022-34EF-4E57-A45C-215F598B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DFF-F27C-452E-9B58-6FAACC46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C96-496C-4749-A5C0-F2F288CB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CA4-2465-4C72-AE8C-2E79D986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9EB-8626-4C72-99DE-91679A88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6E42-7231-4CBF-8A37-0AC6A83B41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39BD-67DB-46BC-9874-67C4427C6DF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8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60EE-7A9E-449F-B9D6-136F94CDE2E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C1F8-0140-4D9F-9F0F-F57BAA68DC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as.slu.edu/CIPS/Presentations" TargetMode="External"/><Relationship Id="rId2" Type="http://schemas.openxmlformats.org/officeDocument/2006/relationships/hyperlink" Target="mailto:paddockm@eas.slu.edu" TargetMode="Externa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 Diagnostic Analysis of Mesoscale Snowbands Which Occurred on 26 February 200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3962520" y="2362320"/>
            <a:ext cx="4952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hael J. Paddock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m N. Pas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mes T. Moore, 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les E. Gra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Earth and Atmospheric Science, Saint Louis Univers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souri Academy of Sc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 April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047760" cy="312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6 February 1200 UTC RUC-I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4346640" cy="32763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838080" y="54100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00 hPa ageostrophic wind vectors and observed wind isotac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54864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00-200 hPa average diverg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4343400" cy="325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 rot="20110800">
            <a:off x="1752480" y="2962080"/>
            <a:ext cx="1143000" cy="6141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6 February 1200 UTC RUC-II 294 K Surfac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113080" cy="449892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5867280" y="2971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nimal isentropic upglide, at b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219320" y="3581280"/>
            <a:ext cx="1828800" cy="5335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 February SAB-Enhanced Goes-8 Satellite IR Loop from 0715 to 2115 UTC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00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 February TPC-Enhanced Goes-8 Satellite WV Loop from 0715 to 2115 UTC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7724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800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 February Mid-Mississippi Valley Regional Radar Loop from 0630 to 2100 UTC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9300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 February 0000 UTC RUC-II 600 hPa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quivalent Potential Vorticit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105160" cy="4419720"/>
          </a:xfrm>
          <a:prstGeom prst="rect">
            <a:avLst/>
          </a:prstGeom>
          <a:ln w="9360">
            <a:solidFill>
              <a:srgbClr val="050507"/>
            </a:solidFill>
            <a:miter/>
          </a:ln>
        </p:spPr>
      </p:pic>
      <p:sp>
        <p:nvSpPr>
          <p:cNvPr id="560" name=""/>
          <p:cNvSpPr/>
          <p:nvPr/>
        </p:nvSpPr>
        <p:spPr>
          <a:xfrm rot="20389800">
            <a:off x="2057400" y="3352320"/>
            <a:ext cx="1298520" cy="9003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2971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gative EPV over the reg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438280" y="36576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EPV &lt;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3429000"/>
            <a:ext cx="1625760" cy="660240"/>
          </a:xfrm>
          <a:custGeom>
            <a:avLst/>
            <a:gdLst/>
            <a:ahLst/>
            <a:rect l="l" t="t" r="r" b="b"/>
            <a:pathLst>
              <a:path w="1024" h="416">
                <a:moveTo>
                  <a:pt x="0" y="256"/>
                </a:moveTo>
                <a:cubicBezTo>
                  <a:pt x="0" y="240"/>
                  <a:pt x="24" y="232"/>
                  <a:pt x="48" y="208"/>
                </a:cubicBezTo>
                <a:cubicBezTo>
                  <a:pt x="72" y="184"/>
                  <a:pt x="104" y="136"/>
                  <a:pt x="144" y="112"/>
                </a:cubicBezTo>
                <a:cubicBezTo>
                  <a:pt x="184" y="88"/>
                  <a:pt x="232" y="64"/>
                  <a:pt x="288" y="64"/>
                </a:cubicBezTo>
                <a:cubicBezTo>
                  <a:pt x="344" y="64"/>
                  <a:pt x="424" y="96"/>
                  <a:pt x="480" y="112"/>
                </a:cubicBezTo>
                <a:cubicBezTo>
                  <a:pt x="536" y="128"/>
                  <a:pt x="576" y="160"/>
                  <a:pt x="624" y="160"/>
                </a:cubicBezTo>
                <a:cubicBezTo>
                  <a:pt x="672" y="160"/>
                  <a:pt x="712" y="128"/>
                  <a:pt x="768" y="112"/>
                </a:cubicBezTo>
                <a:cubicBezTo>
                  <a:pt x="824" y="96"/>
                  <a:pt x="920" y="80"/>
                  <a:pt x="960" y="64"/>
                </a:cubicBezTo>
                <a:cubicBezTo>
                  <a:pt x="1000" y="48"/>
                  <a:pt x="1000" y="0"/>
                  <a:pt x="1008" y="16"/>
                </a:cubicBezTo>
                <a:cubicBezTo>
                  <a:pt x="1016" y="32"/>
                  <a:pt x="1024" y="112"/>
                  <a:pt x="1008" y="160"/>
                </a:cubicBezTo>
                <a:cubicBezTo>
                  <a:pt x="992" y="208"/>
                  <a:pt x="944" y="264"/>
                  <a:pt x="912" y="304"/>
                </a:cubicBezTo>
                <a:cubicBezTo>
                  <a:pt x="880" y="344"/>
                  <a:pt x="864" y="384"/>
                  <a:pt x="816" y="400"/>
                </a:cubicBezTo>
                <a:cubicBezTo>
                  <a:pt x="768" y="416"/>
                  <a:pt x="688" y="408"/>
                  <a:pt x="624" y="400"/>
                </a:cubicBezTo>
                <a:cubicBezTo>
                  <a:pt x="560" y="392"/>
                  <a:pt x="496" y="360"/>
                  <a:pt x="432" y="352"/>
                </a:cubicBezTo>
                <a:cubicBezTo>
                  <a:pt x="368" y="344"/>
                  <a:pt x="304" y="360"/>
                  <a:pt x="240" y="352"/>
                </a:cubicBezTo>
                <a:cubicBezTo>
                  <a:pt x="176" y="344"/>
                  <a:pt x="88" y="320"/>
                  <a:pt x="48" y="304"/>
                </a:cubicBezTo>
                <a:cubicBezTo>
                  <a:pt x="8" y="288"/>
                  <a:pt x="0" y="272"/>
                  <a:pt x="0" y="256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 February 0600 UTC RUC-II 600 hPa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quivalent Potential Vorticit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095800" cy="4498920"/>
          </a:xfrm>
          <a:prstGeom prst="rect">
            <a:avLst/>
          </a:prstGeom>
          <a:ln w="9360">
            <a:solidFill>
              <a:srgbClr val="050507"/>
            </a:solidFill>
            <a:miter/>
          </a:ln>
        </p:spPr>
      </p:pic>
      <p:sp>
        <p:nvSpPr>
          <p:cNvPr id="566" name=""/>
          <p:cNvSpPr/>
          <p:nvPr/>
        </p:nvSpPr>
        <p:spPr>
          <a:xfrm rot="20389800">
            <a:off x="2057400" y="3428640"/>
            <a:ext cx="1298520" cy="9000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867280" y="2971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gative EPV shifts sou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514600" y="44197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EPV &lt;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09480" y="3505320"/>
            <a:ext cx="4191120" cy="2400120"/>
          </a:xfrm>
          <a:custGeom>
            <a:avLst/>
            <a:gdLst/>
            <a:ahLst/>
            <a:rect l="l" t="t" r="r" b="b"/>
            <a:pathLst>
              <a:path w="2640" h="1512">
                <a:moveTo>
                  <a:pt x="0" y="0"/>
                </a:moveTo>
                <a:cubicBezTo>
                  <a:pt x="148" y="36"/>
                  <a:pt x="296" y="72"/>
                  <a:pt x="432" y="96"/>
                </a:cubicBezTo>
                <a:cubicBezTo>
                  <a:pt x="568" y="120"/>
                  <a:pt x="712" y="96"/>
                  <a:pt x="816" y="144"/>
                </a:cubicBezTo>
                <a:cubicBezTo>
                  <a:pt x="920" y="192"/>
                  <a:pt x="952" y="368"/>
                  <a:pt x="1056" y="384"/>
                </a:cubicBezTo>
                <a:cubicBezTo>
                  <a:pt x="1160" y="400"/>
                  <a:pt x="1344" y="296"/>
                  <a:pt x="1440" y="240"/>
                </a:cubicBezTo>
                <a:cubicBezTo>
                  <a:pt x="1536" y="184"/>
                  <a:pt x="1512" y="80"/>
                  <a:pt x="1632" y="48"/>
                </a:cubicBezTo>
                <a:cubicBezTo>
                  <a:pt x="1752" y="16"/>
                  <a:pt x="2040" y="24"/>
                  <a:pt x="2160" y="48"/>
                </a:cubicBezTo>
                <a:cubicBezTo>
                  <a:pt x="2280" y="72"/>
                  <a:pt x="2296" y="168"/>
                  <a:pt x="2352" y="192"/>
                </a:cubicBezTo>
                <a:cubicBezTo>
                  <a:pt x="2408" y="216"/>
                  <a:pt x="2448" y="168"/>
                  <a:pt x="2496" y="192"/>
                </a:cubicBezTo>
                <a:cubicBezTo>
                  <a:pt x="2544" y="216"/>
                  <a:pt x="2640" y="248"/>
                  <a:pt x="2640" y="336"/>
                </a:cubicBezTo>
                <a:cubicBezTo>
                  <a:pt x="2640" y="424"/>
                  <a:pt x="2544" y="640"/>
                  <a:pt x="2496" y="720"/>
                </a:cubicBezTo>
                <a:cubicBezTo>
                  <a:pt x="2448" y="800"/>
                  <a:pt x="2392" y="776"/>
                  <a:pt x="2352" y="816"/>
                </a:cubicBezTo>
                <a:cubicBezTo>
                  <a:pt x="2312" y="856"/>
                  <a:pt x="2288" y="952"/>
                  <a:pt x="2256" y="960"/>
                </a:cubicBezTo>
                <a:cubicBezTo>
                  <a:pt x="2224" y="968"/>
                  <a:pt x="2200" y="880"/>
                  <a:pt x="2160" y="864"/>
                </a:cubicBezTo>
                <a:cubicBezTo>
                  <a:pt x="2120" y="848"/>
                  <a:pt x="2048" y="848"/>
                  <a:pt x="2016" y="864"/>
                </a:cubicBezTo>
                <a:cubicBezTo>
                  <a:pt x="1984" y="880"/>
                  <a:pt x="1960" y="904"/>
                  <a:pt x="1968" y="960"/>
                </a:cubicBezTo>
                <a:cubicBezTo>
                  <a:pt x="1976" y="1016"/>
                  <a:pt x="2032" y="1112"/>
                  <a:pt x="2064" y="1200"/>
                </a:cubicBezTo>
                <a:cubicBezTo>
                  <a:pt x="2096" y="1288"/>
                  <a:pt x="2112" y="1464"/>
                  <a:pt x="2160" y="1488"/>
                </a:cubicBezTo>
                <a:cubicBezTo>
                  <a:pt x="2208" y="1512"/>
                  <a:pt x="2304" y="1392"/>
                  <a:pt x="2352" y="1344"/>
                </a:cubicBezTo>
                <a:cubicBezTo>
                  <a:pt x="2400" y="1296"/>
                  <a:pt x="2424" y="1248"/>
                  <a:pt x="2448" y="120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049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95680" y="51814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4648320"/>
            <a:ext cx="2209680" cy="1218960"/>
          </a:xfrm>
          <a:custGeom>
            <a:avLst/>
            <a:gdLst/>
            <a:ahLst/>
            <a:rect l="l" t="t" r="r" b="b"/>
            <a:pathLst>
              <a:path w="1392" h="768">
                <a:moveTo>
                  <a:pt x="0" y="480"/>
                </a:moveTo>
                <a:cubicBezTo>
                  <a:pt x="92" y="488"/>
                  <a:pt x="184" y="496"/>
                  <a:pt x="240" y="432"/>
                </a:cubicBezTo>
                <a:cubicBezTo>
                  <a:pt x="296" y="368"/>
                  <a:pt x="280" y="168"/>
                  <a:pt x="336" y="96"/>
                </a:cubicBezTo>
                <a:cubicBezTo>
                  <a:pt x="392" y="24"/>
                  <a:pt x="496" y="0"/>
                  <a:pt x="576" y="0"/>
                </a:cubicBezTo>
                <a:cubicBezTo>
                  <a:pt x="656" y="0"/>
                  <a:pt x="752" y="80"/>
                  <a:pt x="816" y="96"/>
                </a:cubicBezTo>
                <a:cubicBezTo>
                  <a:pt x="880" y="112"/>
                  <a:pt x="896" y="88"/>
                  <a:pt x="960" y="96"/>
                </a:cubicBezTo>
                <a:cubicBezTo>
                  <a:pt x="1024" y="104"/>
                  <a:pt x="1152" y="104"/>
                  <a:pt x="1200" y="144"/>
                </a:cubicBezTo>
                <a:cubicBezTo>
                  <a:pt x="1248" y="184"/>
                  <a:pt x="1240" y="272"/>
                  <a:pt x="1248" y="336"/>
                </a:cubicBezTo>
                <a:cubicBezTo>
                  <a:pt x="1256" y="400"/>
                  <a:pt x="1240" y="472"/>
                  <a:pt x="1248" y="528"/>
                </a:cubicBezTo>
                <a:cubicBezTo>
                  <a:pt x="1256" y="584"/>
                  <a:pt x="1272" y="632"/>
                  <a:pt x="1296" y="672"/>
                </a:cubicBezTo>
                <a:cubicBezTo>
                  <a:pt x="1320" y="712"/>
                  <a:pt x="1356" y="740"/>
                  <a:pt x="1392" y="768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04920" y="5105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90920" y="5638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 February 1200 UTC RUC-II 600 hPa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quivalent Potential Vorticit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095800" cy="4498920"/>
          </a:xfrm>
          <a:prstGeom prst="rect">
            <a:avLst/>
          </a:prstGeom>
          <a:ln w="9360">
            <a:solidFill>
              <a:srgbClr val="050507"/>
            </a:solidFill>
            <a:miter/>
          </a:ln>
        </p:spPr>
      </p:pic>
      <p:sp>
        <p:nvSpPr>
          <p:cNvPr id="577" name=""/>
          <p:cNvSpPr/>
          <p:nvPr/>
        </p:nvSpPr>
        <p:spPr>
          <a:xfrm rot="20389800">
            <a:off x="2057400" y="3504960"/>
            <a:ext cx="1298520" cy="9000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38098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EPV &lt;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1320" y="31240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gative EPV returns to the area with the dry air intru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3200400"/>
            <a:ext cx="4191120" cy="1714680"/>
          </a:xfrm>
          <a:custGeom>
            <a:avLst/>
            <a:gdLst/>
            <a:ahLst/>
            <a:rect l="l" t="t" r="r" b="b"/>
            <a:pathLst>
              <a:path w="2640" h="1080">
                <a:moveTo>
                  <a:pt x="0" y="0"/>
                </a:moveTo>
                <a:cubicBezTo>
                  <a:pt x="48" y="24"/>
                  <a:pt x="96" y="48"/>
                  <a:pt x="192" y="96"/>
                </a:cubicBezTo>
                <a:cubicBezTo>
                  <a:pt x="288" y="144"/>
                  <a:pt x="488" y="256"/>
                  <a:pt x="576" y="288"/>
                </a:cubicBezTo>
                <a:cubicBezTo>
                  <a:pt x="664" y="320"/>
                  <a:pt x="656" y="280"/>
                  <a:pt x="720" y="288"/>
                </a:cubicBezTo>
                <a:cubicBezTo>
                  <a:pt x="784" y="296"/>
                  <a:pt x="888" y="336"/>
                  <a:pt x="960" y="336"/>
                </a:cubicBezTo>
                <a:cubicBezTo>
                  <a:pt x="1032" y="336"/>
                  <a:pt x="1104" y="304"/>
                  <a:pt x="1152" y="288"/>
                </a:cubicBezTo>
                <a:cubicBezTo>
                  <a:pt x="1200" y="272"/>
                  <a:pt x="1192" y="248"/>
                  <a:pt x="1248" y="240"/>
                </a:cubicBezTo>
                <a:cubicBezTo>
                  <a:pt x="1304" y="232"/>
                  <a:pt x="1424" y="232"/>
                  <a:pt x="1488" y="240"/>
                </a:cubicBezTo>
                <a:cubicBezTo>
                  <a:pt x="1552" y="248"/>
                  <a:pt x="1592" y="272"/>
                  <a:pt x="1632" y="288"/>
                </a:cubicBezTo>
                <a:cubicBezTo>
                  <a:pt x="1672" y="304"/>
                  <a:pt x="1696" y="328"/>
                  <a:pt x="1728" y="336"/>
                </a:cubicBezTo>
                <a:cubicBezTo>
                  <a:pt x="1760" y="344"/>
                  <a:pt x="1792" y="320"/>
                  <a:pt x="1824" y="336"/>
                </a:cubicBezTo>
                <a:cubicBezTo>
                  <a:pt x="1856" y="352"/>
                  <a:pt x="1904" y="392"/>
                  <a:pt x="1920" y="432"/>
                </a:cubicBezTo>
                <a:cubicBezTo>
                  <a:pt x="1936" y="472"/>
                  <a:pt x="1920" y="536"/>
                  <a:pt x="1920" y="576"/>
                </a:cubicBezTo>
                <a:cubicBezTo>
                  <a:pt x="1920" y="616"/>
                  <a:pt x="1920" y="632"/>
                  <a:pt x="1920" y="672"/>
                </a:cubicBezTo>
                <a:cubicBezTo>
                  <a:pt x="1920" y="712"/>
                  <a:pt x="1896" y="776"/>
                  <a:pt x="1920" y="816"/>
                </a:cubicBezTo>
                <a:cubicBezTo>
                  <a:pt x="1944" y="856"/>
                  <a:pt x="2024" y="904"/>
                  <a:pt x="2064" y="912"/>
                </a:cubicBezTo>
                <a:cubicBezTo>
                  <a:pt x="2104" y="920"/>
                  <a:pt x="2112" y="864"/>
                  <a:pt x="2160" y="864"/>
                </a:cubicBezTo>
                <a:cubicBezTo>
                  <a:pt x="2208" y="864"/>
                  <a:pt x="2312" y="880"/>
                  <a:pt x="2352" y="912"/>
                </a:cubicBezTo>
                <a:cubicBezTo>
                  <a:pt x="2392" y="944"/>
                  <a:pt x="2360" y="1032"/>
                  <a:pt x="2400" y="1056"/>
                </a:cubicBezTo>
                <a:cubicBezTo>
                  <a:pt x="2440" y="1080"/>
                  <a:pt x="2552" y="1064"/>
                  <a:pt x="2592" y="1056"/>
                </a:cubicBezTo>
                <a:cubicBezTo>
                  <a:pt x="2632" y="1048"/>
                  <a:pt x="2624" y="1024"/>
                  <a:pt x="2640" y="1008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04920" y="3048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24280" y="44956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30400" y="4419720"/>
            <a:ext cx="2603520" cy="1536480"/>
          </a:xfrm>
          <a:custGeom>
            <a:avLst/>
            <a:gdLst/>
            <a:ahLst/>
            <a:rect l="l" t="t" r="r" b="b"/>
            <a:pathLst>
              <a:path w="1640" h="968">
                <a:moveTo>
                  <a:pt x="152" y="912"/>
                </a:moveTo>
                <a:cubicBezTo>
                  <a:pt x="140" y="928"/>
                  <a:pt x="128" y="944"/>
                  <a:pt x="104" y="912"/>
                </a:cubicBezTo>
                <a:cubicBezTo>
                  <a:pt x="80" y="880"/>
                  <a:pt x="16" y="768"/>
                  <a:pt x="8" y="720"/>
                </a:cubicBezTo>
                <a:cubicBezTo>
                  <a:pt x="0" y="672"/>
                  <a:pt x="8" y="672"/>
                  <a:pt x="56" y="624"/>
                </a:cubicBezTo>
                <a:cubicBezTo>
                  <a:pt x="104" y="576"/>
                  <a:pt x="232" y="488"/>
                  <a:pt x="296" y="432"/>
                </a:cubicBezTo>
                <a:cubicBezTo>
                  <a:pt x="360" y="376"/>
                  <a:pt x="384" y="344"/>
                  <a:pt x="440" y="288"/>
                </a:cubicBezTo>
                <a:cubicBezTo>
                  <a:pt x="496" y="232"/>
                  <a:pt x="576" y="144"/>
                  <a:pt x="632" y="96"/>
                </a:cubicBezTo>
                <a:cubicBezTo>
                  <a:pt x="688" y="48"/>
                  <a:pt x="736" y="0"/>
                  <a:pt x="776" y="0"/>
                </a:cubicBezTo>
                <a:cubicBezTo>
                  <a:pt x="816" y="0"/>
                  <a:pt x="856" y="48"/>
                  <a:pt x="872" y="96"/>
                </a:cubicBezTo>
                <a:cubicBezTo>
                  <a:pt x="888" y="144"/>
                  <a:pt x="880" y="216"/>
                  <a:pt x="872" y="288"/>
                </a:cubicBezTo>
                <a:cubicBezTo>
                  <a:pt x="864" y="360"/>
                  <a:pt x="816" y="456"/>
                  <a:pt x="824" y="528"/>
                </a:cubicBezTo>
                <a:cubicBezTo>
                  <a:pt x="832" y="600"/>
                  <a:pt x="888" y="688"/>
                  <a:pt x="920" y="720"/>
                </a:cubicBezTo>
                <a:cubicBezTo>
                  <a:pt x="952" y="752"/>
                  <a:pt x="992" y="736"/>
                  <a:pt x="1016" y="720"/>
                </a:cubicBezTo>
                <a:cubicBezTo>
                  <a:pt x="1040" y="704"/>
                  <a:pt x="1048" y="656"/>
                  <a:pt x="1064" y="624"/>
                </a:cubicBezTo>
                <a:cubicBezTo>
                  <a:pt x="1080" y="592"/>
                  <a:pt x="1080" y="536"/>
                  <a:pt x="1112" y="528"/>
                </a:cubicBezTo>
                <a:cubicBezTo>
                  <a:pt x="1144" y="520"/>
                  <a:pt x="1224" y="544"/>
                  <a:pt x="1256" y="576"/>
                </a:cubicBezTo>
                <a:cubicBezTo>
                  <a:pt x="1288" y="608"/>
                  <a:pt x="1288" y="680"/>
                  <a:pt x="1304" y="720"/>
                </a:cubicBezTo>
                <a:cubicBezTo>
                  <a:pt x="1320" y="760"/>
                  <a:pt x="1336" y="784"/>
                  <a:pt x="1352" y="816"/>
                </a:cubicBezTo>
                <a:cubicBezTo>
                  <a:pt x="1368" y="848"/>
                  <a:pt x="1368" y="888"/>
                  <a:pt x="1400" y="912"/>
                </a:cubicBezTo>
                <a:cubicBezTo>
                  <a:pt x="1432" y="936"/>
                  <a:pt x="1504" y="952"/>
                  <a:pt x="1544" y="960"/>
                </a:cubicBezTo>
                <a:cubicBezTo>
                  <a:pt x="1584" y="968"/>
                  <a:pt x="1624" y="968"/>
                  <a:pt x="1640" y="96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733920" y="5715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066680" y="57913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200 UTC 26 February RUC-II M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vs. </a:t>
            </a:r>
            <a:r>
              <a:rPr b="0" lang="el-GR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oss-sec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743200" cy="24415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523880" y="3352680"/>
            <a:ext cx="0" cy="838440"/>
          </a:xfrm>
          <a:prstGeom prst="line">
            <a:avLst/>
          </a:prstGeom>
          <a:ln cap="rnd" w="57240">
            <a:solidFill>
              <a:srgbClr val="05050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2971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0507"/>
                </a:solidFill>
                <a:latin typeface="Times New Roman"/>
              </a:rPr>
              <a:t>41.0 ; 9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914400" y="4191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0507"/>
                </a:solidFill>
                <a:latin typeface="Times New Roman"/>
              </a:rPr>
              <a:t>35.0 ; 91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4920" y="53341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mal to 1000-500 hPa thick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3200400" y="1371600"/>
            <a:ext cx="5715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 February 0000 UTC RUC-II 700 hPa Frontogenesi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5105520" cy="4494240"/>
          </a:xfrm>
          <a:prstGeom prst="rect">
            <a:avLst/>
          </a:prstGeom>
          <a:ln w="9360">
            <a:solidFill>
              <a:srgbClr val="050507"/>
            </a:solidFill>
            <a:miter/>
          </a:ln>
        </p:spPr>
      </p:pic>
      <p:sp>
        <p:nvSpPr>
          <p:cNvPr id="595" name=""/>
          <p:cNvSpPr/>
          <p:nvPr/>
        </p:nvSpPr>
        <p:spPr>
          <a:xfrm>
            <a:off x="5791320" y="31240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frontogenesis axis was visible 12-h before the snowfall ev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mportanc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oscale snowbands typically have a width that ranges from 10 to 100 km, while the length ranges from 40 to 400 k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idth of this particular phenomena is usually on the order of a single county, making the forecast of snowband events problemat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26 February 2003 case is a classic example of mesoscale snowbands, which moved from west to east across central Missouri leaving in their wake 2-4 inches of snow. (It does not take much snowfall to cause chaos on the roadways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eight of maximum intensity (1200 UTC) of the initial snowband will be the main focus to illustrate the key processes involv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 February 0600 UTC RUC-II 700 hPa Frontogenesi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121000" cy="4498920"/>
          </a:xfrm>
          <a:prstGeom prst="rect">
            <a:avLst/>
          </a:prstGeom>
          <a:ln w="9360">
            <a:solidFill>
              <a:srgbClr val="050507"/>
            </a:solidFill>
            <a:miter/>
          </a:ln>
        </p:spPr>
      </p:pic>
      <p:sp>
        <p:nvSpPr>
          <p:cNvPr id="598" name=""/>
          <p:cNvSpPr/>
          <p:nvPr/>
        </p:nvSpPr>
        <p:spPr>
          <a:xfrm>
            <a:off x="5791320" y="31240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rontogenesis axis progressed to the sou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 February 1200 UTC RUC-II 700 hPa Frontogenesi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121000" cy="4498920"/>
          </a:xfrm>
          <a:prstGeom prst="rect">
            <a:avLst/>
          </a:prstGeom>
          <a:ln w="9360">
            <a:solidFill>
              <a:srgbClr val="050507"/>
            </a:solidFill>
            <a:miter/>
          </a:ln>
        </p:spPr>
      </p:pic>
      <p:sp>
        <p:nvSpPr>
          <p:cNvPr id="601" name=""/>
          <p:cNvSpPr/>
          <p:nvPr/>
        </p:nvSpPr>
        <p:spPr>
          <a:xfrm>
            <a:off x="5791320" y="2209680"/>
            <a:ext cx="29718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ntire frontogenesis axis weake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ever, the portion of the axis in Missouri is now oriented southwest-northe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 February 0000 UTC RUC-II 700 hPa Vector Frontogenesis (F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 Component and Convergenc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952880" cy="43434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5791320" y="3124080"/>
            <a:ext cx="2971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nvergence axis matches perfectly with the frontogenesis ax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057400" y="3200400"/>
            <a:ext cx="2666880" cy="685800"/>
          </a:xfrm>
          <a:custGeom>
            <a:avLst/>
            <a:gdLst/>
            <a:ahLst/>
            <a:rect l="l" t="t" r="r" b="b"/>
            <a:pathLst>
              <a:path w="1680" h="432">
                <a:moveTo>
                  <a:pt x="0" y="0"/>
                </a:moveTo>
                <a:cubicBezTo>
                  <a:pt x="80" y="64"/>
                  <a:pt x="160" y="128"/>
                  <a:pt x="240" y="192"/>
                </a:cubicBezTo>
                <a:cubicBezTo>
                  <a:pt x="320" y="256"/>
                  <a:pt x="408" y="352"/>
                  <a:pt x="480" y="384"/>
                </a:cubicBezTo>
                <a:cubicBezTo>
                  <a:pt x="552" y="416"/>
                  <a:pt x="600" y="400"/>
                  <a:pt x="672" y="384"/>
                </a:cubicBezTo>
                <a:cubicBezTo>
                  <a:pt x="744" y="368"/>
                  <a:pt x="808" y="296"/>
                  <a:pt x="912" y="288"/>
                </a:cubicBezTo>
                <a:cubicBezTo>
                  <a:pt x="1016" y="280"/>
                  <a:pt x="1168" y="312"/>
                  <a:pt x="1296" y="336"/>
                </a:cubicBezTo>
                <a:cubicBezTo>
                  <a:pt x="1424" y="360"/>
                  <a:pt x="1552" y="396"/>
                  <a:pt x="1680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 February 0600 UTC RUC-II 700 hPa Vector Frontogenesis (F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 Component and Convergenc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95288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8" name=""/>
          <p:cNvSpPr/>
          <p:nvPr/>
        </p:nvSpPr>
        <p:spPr>
          <a:xfrm>
            <a:off x="1981080" y="3581280"/>
            <a:ext cx="1828800" cy="571680"/>
          </a:xfrm>
          <a:custGeom>
            <a:avLst/>
            <a:gdLst/>
            <a:ahLst/>
            <a:rect l="l" t="t" r="r" b="b"/>
            <a:pathLst>
              <a:path w="1152" h="360">
                <a:moveTo>
                  <a:pt x="0" y="0"/>
                </a:moveTo>
                <a:cubicBezTo>
                  <a:pt x="96" y="156"/>
                  <a:pt x="192" y="312"/>
                  <a:pt x="384" y="336"/>
                </a:cubicBezTo>
                <a:cubicBezTo>
                  <a:pt x="576" y="360"/>
                  <a:pt x="864" y="252"/>
                  <a:pt x="1152" y="1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91320" y="3124080"/>
            <a:ext cx="2971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nvergence axis is located over the area of interest 6-h before the height of the ev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 February 0600 UTC RUC-II 700 hPa Vector Frontogenesis (F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 Component and Convergenc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952880" cy="434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2" name=""/>
          <p:cNvSpPr/>
          <p:nvPr/>
        </p:nvSpPr>
        <p:spPr>
          <a:xfrm>
            <a:off x="1905120" y="2895480"/>
            <a:ext cx="1371600" cy="1143000"/>
          </a:xfrm>
          <a:custGeom>
            <a:avLst/>
            <a:gdLst/>
            <a:ahLst/>
            <a:rect l="l" t="t" r="r" b="b"/>
            <a:pathLst>
              <a:path w="864" h="720">
                <a:moveTo>
                  <a:pt x="0" y="720"/>
                </a:moveTo>
                <a:cubicBezTo>
                  <a:pt x="96" y="636"/>
                  <a:pt x="192" y="552"/>
                  <a:pt x="336" y="432"/>
                </a:cubicBezTo>
                <a:cubicBezTo>
                  <a:pt x="480" y="312"/>
                  <a:pt x="672" y="156"/>
                  <a:pt x="86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91320" y="3124080"/>
            <a:ext cx="2971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nvergence axis is located over northern Missouri and it remains there at 1200 U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 February 0600 UTC RUC-II 700 hPa Total Vector Frontogenesis (F) and Convergenc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95288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6" name=""/>
          <p:cNvSpPr/>
          <p:nvPr/>
        </p:nvSpPr>
        <p:spPr>
          <a:xfrm>
            <a:off x="5791320" y="3124080"/>
            <a:ext cx="2971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otal F convergence axis in southern Missouri has a strong contribution from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t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981080" y="3581280"/>
            <a:ext cx="1828800" cy="571680"/>
          </a:xfrm>
          <a:custGeom>
            <a:avLst/>
            <a:gdLst/>
            <a:ahLst/>
            <a:rect l="l" t="t" r="r" b="b"/>
            <a:pathLst>
              <a:path w="1152" h="360">
                <a:moveTo>
                  <a:pt x="0" y="0"/>
                </a:moveTo>
                <a:cubicBezTo>
                  <a:pt x="96" y="156"/>
                  <a:pt x="192" y="312"/>
                  <a:pt x="384" y="336"/>
                </a:cubicBezTo>
                <a:cubicBezTo>
                  <a:pt x="576" y="360"/>
                  <a:pt x="864" y="252"/>
                  <a:pt x="1152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 February 1200 UTC RUC-II 700 hPa Vector Frontogenesis (F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 Component and Convergenc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952880" cy="43480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219320" y="342900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0" y="0"/>
                </a:moveTo>
                <a:cubicBezTo>
                  <a:pt x="192" y="168"/>
                  <a:pt x="384" y="336"/>
                  <a:pt x="576" y="384"/>
                </a:cubicBezTo>
                <a:cubicBezTo>
                  <a:pt x="768" y="432"/>
                  <a:pt x="960" y="360"/>
                  <a:pt x="1152" y="2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791320" y="3124080"/>
            <a:ext cx="2971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nvergence axis aligns perfectly with the snowb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oss-section Taken Normal to the Snowban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575320" cy="496116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457200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0507"/>
                </a:solidFill>
                <a:latin typeface="Times New Roman"/>
              </a:rPr>
              <a:t>35.0 ; 9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038480" y="3048120"/>
            <a:ext cx="1219320" cy="16761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352680" y="2666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0507"/>
                </a:solidFill>
                <a:latin typeface="Times New Roman"/>
              </a:rPr>
              <a:t>41.0 ; 9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 February 1200 UTC RUC-II Cross-sectio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267080" cy="351000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1066680" y="53341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ntogenesis and EP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562720" y="5257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ostrophic wind and upward vertical mo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4267440" cy="35593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 rot="228600">
            <a:off x="759960" y="4113360"/>
            <a:ext cx="1905120" cy="2300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371600" y="3962520"/>
            <a:ext cx="2362320" cy="23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3809880"/>
            <a:ext cx="83844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57400" y="3809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6 February 1200 UTC RUC-II Model Sounding and Hodograph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01680" y="1523880"/>
            <a:ext cx="5337000" cy="470556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1828800" y="6324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8.0 N ; 92.0 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6172200" y="838080"/>
            <a:ext cx="2517840" cy="18874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5791320" y="2971800"/>
            <a:ext cx="31240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particular sounding does not favor long-lived mesoscale snowbands (Banacos 2003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col point in the region of maximum frontogen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rong vertical wind shear (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6 February 2003 0000 UTC Surface Analysi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5638680" cy="4616280"/>
          </a:xfrm>
          <a:prstGeom prst="rect">
            <a:avLst/>
          </a:prstGeom>
          <a:ln w="9360">
            <a:solidFill>
              <a:srgbClr val="050507"/>
            </a:solidFill>
            <a:miter/>
          </a:ln>
        </p:spPr>
      </p:pic>
      <p:sp>
        <p:nvSpPr>
          <p:cNvPr id="516" name=""/>
          <p:cNvSpPr/>
          <p:nvPr/>
        </p:nvSpPr>
        <p:spPr>
          <a:xfrm>
            <a:off x="5943600" y="2590920"/>
            <a:ext cx="29718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surface feature of note is an inverted trough from eastern Texas to southern Missou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mited precipitation at this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17897400">
            <a:off x="1004040" y="3997800"/>
            <a:ext cx="3236760" cy="1600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6 February 1200 UTC Composit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52578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066680" y="1371600"/>
            <a:ext cx="228600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nowband is approximately 125 km southeast of the frontogenesis ax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40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umber of processes contributed to the 26 February 2003 snowfall ev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t Streak – not a classic location, but winds are crossing isotachs toward stronger winds, thus an entrance region and the associated upper-level diverg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entropic upglide – weak, but still 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ntogenesis – mesoscale direct thermal circ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-vector – the major contributor to the banded structure of the snowfall was associated with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rted trough – a reflection of lower-tropospheric warm air adv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air intrusion caused the destabilization needed for the initiation of  banded snowf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PS appreciates support from the NOAA-CSTAR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be viewed on the CIPS web si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imes New Roman"/>
                <a:hlinkClick r:id="rId1"/>
              </a:rPr>
              <a:t>http://www.eas.slu.edu/CIPS/Presen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ail: 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Times New Roman"/>
                <a:hlinkClick r:id="rId2"/>
              </a:rPr>
              <a:t>paddockm@eas.slu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estions or Comment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6 February 0600 UTC Surface Analysi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663560"/>
            <a:ext cx="5562720" cy="4587840"/>
          </a:xfrm>
          <a:prstGeom prst="rect">
            <a:avLst/>
          </a:prstGeom>
          <a:ln w="9360">
            <a:solidFill>
              <a:srgbClr val="050507"/>
            </a:solidFill>
            <a:miter/>
          </a:ln>
        </p:spPr>
      </p:pic>
      <p:sp>
        <p:nvSpPr>
          <p:cNvPr id="520" name=""/>
          <p:cNvSpPr/>
          <p:nvPr/>
        </p:nvSpPr>
        <p:spPr>
          <a:xfrm>
            <a:off x="5943600" y="27432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me as 0000 UTC, except for the larger region of precipit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17897400">
            <a:off x="1004040" y="3997800"/>
            <a:ext cx="3236760" cy="1600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6 February 1200 UTC Surface Analysi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5715000" cy="4601880"/>
          </a:xfrm>
          <a:prstGeom prst="rect">
            <a:avLst/>
          </a:prstGeom>
          <a:ln w="9360">
            <a:solidFill>
              <a:srgbClr val="050507"/>
            </a:solidFill>
            <a:miter/>
          </a:ln>
        </p:spPr>
      </p:pic>
      <p:sp>
        <p:nvSpPr>
          <p:cNvPr id="524" name=""/>
          <p:cNvSpPr/>
          <p:nvPr/>
        </p:nvSpPr>
        <p:spPr>
          <a:xfrm rot="17740200">
            <a:off x="909360" y="3838320"/>
            <a:ext cx="3597120" cy="1600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943600" y="1828800"/>
            <a:ext cx="297180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the inverted trough extends into northern Missour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so, a larger region of precipi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lue shaded regions in Missouri and Kansas are the snowbands of inter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8 Hour Snowfall Isohyets Ending 1200 UTC 27 February 2003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334120" cy="50292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5867280" y="28195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two-day total only includes snowfall from these particular snowb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638680" y="59436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 courtesy from NCD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6 February 1200 UTC RUC-II Initialization 1000-500 hPa Mean RH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5410080" cy="43797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86728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nowbands developed within a thick layer of high RH ( &gt; 80%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20389800">
            <a:off x="1825200" y="3581280"/>
            <a:ext cx="137628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6 February 1200 UTC RUC-II 850 hPa Wind Barbs and Isotach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5410080" cy="45720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5867280" y="297180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nowfall was not directly associated with a southerly low-level j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20389800">
            <a:off x="2057400" y="3580920"/>
            <a:ext cx="129708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6 February 1200 UTC RUC-II 300 hPa Wind Barbs and Isotach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5486400" cy="457524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 rot="20389800">
            <a:off x="2057400" y="3580920"/>
            <a:ext cx="1298520" cy="90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867280" y="29718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 located within the classic right-entrance or left-exit regions of an upper-level jet strea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6:39:44Z</dcterms:created>
  <dc:creator> Mike</dc:creator>
  <dc:description/>
  <dc:language>en-US</dc:language>
  <cp:lastModifiedBy> Mike</cp:lastModifiedBy>
  <dcterms:modified xsi:type="dcterms:W3CDTF">2005-04-15T12:54:52Z</dcterms:modified>
  <cp:revision>22</cp:revision>
  <dc:subject/>
  <dc:title>A Diagnostic Analysis of Mesoscale Snowbands, Which Occurred on 26 February 2003</dc:title>
</cp:coreProperties>
</file>