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2.jpeg" ContentType="image/jpeg"/>
  <Override PartName="/ppt/media/image35.jpeg" ContentType="image/jpeg"/>
  <Override PartName="/ppt/media/image10.png" ContentType="image/png"/>
  <Override PartName="/ppt/media/image47.png" ContentType="image/png"/>
  <Override PartName="/ppt/media/image17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3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1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19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7.wmf" ContentType="image/x-wmf"/>
  <Override PartName="/ppt/media/image12.png" ContentType="image/png"/>
  <Override PartName="/ppt/media/image49.png" ContentType="image/png"/>
  <Override PartName="/ppt/media/image30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C6B0-98D6-43F5-A645-6247CC8B3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else?  Seems a little sp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is should be cleaned up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I add more on the surface composites?  Maybe draw a little figure or some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BDF-13DB-4745-9B14-D914E4C3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B99-FDED-4AD4-AD20-C46150B6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09A-5A6D-4E15-A090-7B01AF20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BE7-5E13-46DD-AF91-B8085E6F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A1F-3809-4614-9B99-17808E88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9C7-CB27-4D7A-905A-71EC3186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31A-B8EA-4466-A6AE-54BE78AD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F58-56D8-463A-9727-AE86F6B6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F4F-AE13-483F-86E8-DCFCF4CD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C24-84C0-4A7E-B025-0924A46A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4DF-9565-4C6E-A8B9-75BD17F6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AF9-91C3-4511-B185-999DD5AD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58EC-6BB9-441D-ABDE-B16309589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ld Season Elevated Thunderst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184480"/>
            <a:ext cx="3200400" cy="2774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495320" y="2361960"/>
            <a:ext cx="3962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T.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int Louis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operative Institute for Precipit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5657760"/>
            <a:ext cx="8458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ET-MSC Winter Weather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8 Nov. - 9 Dec.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termine common synoptic and dynamic characteristics of cool-season (October-March) elevated thunderstorms in the Midwest with s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ine the nature of instabilities associated with the development of elevated convection (CSI or PSI, WSS, elevated convective instab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event was included in the study if the following criteria were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Storm total exceeded six inches of snowfall at multiple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vent initiated within ±4 hours of either 0000 UTC or 1200 UTC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a was collected in TTAA/TTAB/PPBB format and interpolated to 33 pressure levels at 25 mb increments from 1000-200 mb, then objectively analyzed to a 3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23 grid using Barnes (1973) objective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11 grid extracted with center chosen near center of heaviest snow band for each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data was then averaged over 19 cases using compositing software developed by Moore et al. (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si-horizontal equivalent potential vorticity (McCann 1995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wo-dimensional frontogenesis (Petterssen 1956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820880" y="2590920"/>
          <a:ext cx="542772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2590920"/>
                    <a:ext cx="542772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362320" y="4419720"/>
          <a:ext cx="411768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419720"/>
                    <a:ext cx="41176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ist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55840" y="1397160"/>
          <a:ext cx="623232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1397160"/>
                    <a:ext cx="6232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523880" y="762120"/>
          <a:ext cx="6400440" cy="5866920"/>
        </p:xfrm>
        <a:graphic>
          <a:graphicData uri="http://schemas.openxmlformats.org/drawingml/2006/table">
            <a:tbl>
              <a:tblPr/>
              <a:tblGrid>
                <a:gridCol w="1599840"/>
                <a:gridCol w="1600560"/>
                <a:gridCol w="1600200"/>
                <a:gridCol w="1599840"/>
              </a:tblGrid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f 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Affec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., L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wf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02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west Misso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5°N, 94.7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—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022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Iow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°N, 93.2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—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0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o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4°N, 94.4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—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030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Misso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7°N, 90.4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—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011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Misso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0°N, 92.5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—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120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Iow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°N, 95.7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—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102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ern Kan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0°N, 95.8 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—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120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ast Kan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0 °N, 95.2 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—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102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Iow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2 °N, 93.0 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—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012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Iow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7 °N, 93.6 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—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0309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Illino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2 °N, 87.5 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—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1109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Dak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8 °N, 97.3 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—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030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Illino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0 °N, 90.0 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—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031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Misso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4 °N, 93.5 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—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120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Kan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8 °N, 97.5 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—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1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Kan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8 °N, 99.6 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—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11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ast Minnes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 °N, 93.2 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—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119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Minnes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2 °N, 94.0 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—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31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ern Misso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6 °N, 90.0 °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—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rface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4 events formed 400-800 km to northeast or northwest of surface low, on cool side of warm front or quasi-stationary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5 events formed behind a cold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 event formed within the interaction between a mid-latitude cyclone and a second cold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50 mb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447920"/>
            <a:ext cx="38098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initiated to northeast of a closed 850 mb height minimum with temperatures between -2</a:t>
            </a:r>
            <a:r>
              <a:rPr b="0" lang="en-US" sz="20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-4</a:t>
            </a:r>
            <a:r>
              <a:rPr b="0" lang="en-US" sz="20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6386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50 mb heights in gpm (solid lines) and isotherms in </a:t>
            </a:r>
            <a:r>
              <a:rPr b="0" lang="en-US" sz="20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(dashed li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850hgtstemp" descr=""/>
          <p:cNvPicPr/>
          <p:nvPr/>
        </p:nvPicPr>
        <p:blipFill>
          <a:blip r:embed="rId1"/>
          <a:srcRect l="25001" t="14003" r="21000" b="19332"/>
          <a:stretch/>
        </p:blipFill>
        <p:spPr>
          <a:xfrm>
            <a:off x="4191120" y="1160640"/>
            <a:ext cx="4724280" cy="43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WNDS85" descr=""/>
          <p:cNvPicPr/>
          <p:nvPr/>
        </p:nvPicPr>
        <p:blipFill>
          <a:blip r:embed="rId1"/>
          <a:srcRect l="26003" t="14003" r="21000" b="15332"/>
          <a:stretch/>
        </p:blipFill>
        <p:spPr>
          <a:xfrm>
            <a:off x="4114800" y="10666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81080" y="304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50 mb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47920"/>
            <a:ext cx="3429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initiated to northeast of a closed 850 mb height minimum with temperatures between -2</a:t>
            </a:r>
            <a:r>
              <a:rPr b="0" lang="en-US" sz="20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-4</a:t>
            </a:r>
            <a:r>
              <a:rPr b="0" lang="en-US" sz="20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left-exit reg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outherly LLJ of &gt; 12 m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76520" y="152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b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MTV85" descr=""/>
          <p:cNvPicPr/>
          <p:nvPr/>
        </p:nvPicPr>
        <p:blipFill>
          <a:blip r:embed="rId1"/>
          <a:srcRect l="26003" t="14003" r="22001" b="19332"/>
          <a:stretch/>
        </p:blipFill>
        <p:spPr>
          <a:xfrm>
            <a:off x="4038480" y="1301760"/>
            <a:ext cx="4648320" cy="4468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1523880"/>
            <a:ext cx="35812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initiated to northeast of a closed 850 mb height minimum with temperatures between -2</a:t>
            </a:r>
            <a:r>
              <a:rPr b="0" lang="en-US" sz="20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-4</a:t>
            </a:r>
            <a:r>
              <a:rPr b="0" lang="en-US" sz="20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left exit region of southerly LLJ of &gt; 12 m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to the northwest of the maximum of M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5867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isture  Transport Vectors (g-m k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50 mb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295280"/>
            <a:ext cx="38098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initiated to northeast of a closed 850 mb height minimum with temperatures between -2</a:t>
            </a:r>
            <a:r>
              <a:rPr b="0" lang="en-US" sz="20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-4</a:t>
            </a:r>
            <a:r>
              <a:rPr b="0" lang="en-US" sz="20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left exit region of southerly LLJ of &gt; 12 m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to the northwest of the maximum of M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4267080"/>
            <a:ext cx="3886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NW of 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d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850theta_e" descr=""/>
          <p:cNvPicPr/>
          <p:nvPr/>
        </p:nvPicPr>
        <p:blipFill>
          <a:blip r:embed="rId1"/>
          <a:stretch/>
        </p:blipFill>
        <p:spPr>
          <a:xfrm>
            <a:off x="4343400" y="1133640"/>
            <a:ext cx="4648320" cy="4340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0" y="5562720"/>
            <a:ext cx="411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0 mb  </a:t>
            </a:r>
            <a:r>
              <a:rPr b="1" lang="en-US" sz="20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1" lang="en-US" sz="2000" spc="-1" strike="noStrike" baseline="-18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50 mb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08040"/>
            <a:ext cx="38102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initiated to northeast of a closed 850 mb height minimum with temperatures between -2</a:t>
            </a:r>
            <a:r>
              <a:rPr b="0" lang="en-US" sz="20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-4</a:t>
            </a:r>
            <a:r>
              <a:rPr b="0" lang="en-US" sz="20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left exit region of southerly LLJ of &gt; 12 m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to the northwest of the maximum of M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495680"/>
            <a:ext cx="3886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NW of 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850thetae_adv" descr=""/>
          <p:cNvPicPr/>
          <p:nvPr/>
        </p:nvPicPr>
        <p:blipFill>
          <a:blip r:embed="rId1"/>
          <a:stretch/>
        </p:blipFill>
        <p:spPr>
          <a:xfrm>
            <a:off x="4114800" y="1198440"/>
            <a:ext cx="4876920" cy="4519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5029200"/>
            <a:ext cx="3733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 of a maximum 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5761080"/>
            <a:ext cx="48006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50 mb 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dvection in 10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K h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.  Solid contours denote positive advection; dashed contours denote negative adv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Definition of an “Elevated Thunderstorm” 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(Colman 1990, MW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levated thunderstorm occurs above a frontal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isolated from surface diabatic effects which are often considered fundamental to thunderstor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man’s criteria inclu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 must lie on the cold side of an analyzed front, showing a clear contrast in temperature, dew point, and 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ion’s temperature, dew point, and wind must be qualitatively similar to immediately surround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rface air on the warm side of the analyzed front must have a higher </a:t>
            </a:r>
            <a:r>
              <a:rPr b="0" lang="en-US" sz="24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n the air on the cold side of the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00 mb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371600"/>
            <a:ext cx="4038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initiated within a wea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700theta_e" descr=""/>
          <p:cNvPicPr/>
          <p:nvPr/>
        </p:nvPicPr>
        <p:blipFill>
          <a:blip r:embed="rId1"/>
          <a:stretch/>
        </p:blipFill>
        <p:spPr>
          <a:xfrm>
            <a:off x="4267080" y="1179360"/>
            <a:ext cx="4724640" cy="4400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95680" y="5562720"/>
            <a:ext cx="4267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0 mb </a:t>
            </a:r>
            <a:r>
              <a:rPr b="1" lang="en-US" sz="20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1" lang="en-US" sz="2000" spc="-1" strike="noStrike" baseline="-18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00 mb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219320"/>
            <a:ext cx="4038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initiated within a wea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981080"/>
            <a:ext cx="4038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gion of maximum positiv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v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700thetae_adv" descr=""/>
          <p:cNvPicPr/>
          <p:nvPr/>
        </p:nvPicPr>
        <p:blipFill>
          <a:blip r:embed="rId1"/>
          <a:stretch/>
        </p:blipFill>
        <p:spPr>
          <a:xfrm>
            <a:off x="4267080" y="1077840"/>
            <a:ext cx="4648320" cy="4316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91120" y="5486400"/>
            <a:ext cx="4647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m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vection 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Solid lines denote positive advection; dashed lines denote negative adv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00 mb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371600"/>
            <a:ext cx="40384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developed downstream of a 500 mb t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east of a maximum in absolute vorticity in area of C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500ht_vort" descr=""/>
          <p:cNvPicPr/>
          <p:nvPr/>
        </p:nvPicPr>
        <p:blipFill>
          <a:blip r:embed="rId1"/>
          <a:stretch/>
        </p:blipFill>
        <p:spPr>
          <a:xfrm>
            <a:off x="4343400" y="1106640"/>
            <a:ext cx="4648320" cy="4348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19720" y="5546880"/>
            <a:ext cx="441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mb heights in gpm (solid lines) and absolute vorticity in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ashed li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00 mb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143000"/>
            <a:ext cx="40388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developed downstream of a 500 mb t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east of a maximum in absolute vorticity in area of C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2666880"/>
            <a:ext cx="38862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region of negativ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vection and destab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south of the initiation region there is differentia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vection with positiv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dvection at 850 mb and negativ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vection at 500 mb – decreasing the convective stabilit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500thetae_adv" descr=""/>
          <p:cNvPicPr/>
          <p:nvPr/>
        </p:nvPicPr>
        <p:blipFill>
          <a:blip r:embed="rId1"/>
          <a:stretch/>
        </p:blipFill>
        <p:spPr>
          <a:xfrm>
            <a:off x="4191120" y="1066680"/>
            <a:ext cx="4800600" cy="4435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267080" y="5562720"/>
            <a:ext cx="457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mb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vection 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Solid lines denote positive advection; dashed lines denote negative adv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0 mb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52388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initiated within exit region of cyclonic ULJ and downstream from a high amplitude long-wave t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7150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mb wind vectors (arrows) and isotachs in m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ashed li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250wnds" descr=""/>
          <p:cNvPicPr/>
          <p:nvPr/>
        </p:nvPicPr>
        <p:blipFill>
          <a:blip r:embed="rId1"/>
          <a:srcRect l="24000" t="14003" r="22001" b="19332"/>
          <a:stretch/>
        </p:blipFill>
        <p:spPr>
          <a:xfrm>
            <a:off x="4114800" y="1160640"/>
            <a:ext cx="480060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0 mb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121932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initiated within exit region of cyclonic ULJ and downstream from a high amplitude long-wave t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274320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 broad region of upper-level di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250div" descr=""/>
          <p:cNvPicPr/>
          <p:nvPr/>
        </p:nvPicPr>
        <p:blipFill>
          <a:blip r:embed="rId1"/>
          <a:stretch/>
        </p:blipFill>
        <p:spPr>
          <a:xfrm>
            <a:off x="4343400" y="1108080"/>
            <a:ext cx="4648320" cy="4329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19720" y="548640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mb divergence 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Solid lines denote regions of divergence; dashed lines denote regions of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site Hodo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00200"/>
            <a:ext cx="36576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antial low-level v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 mid- to upper-level directional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speed shear 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mp_hodo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5105520" cy="3830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4419720" y="518148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hodograph constructed at center of heavy snow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648320" y="3962520"/>
            <a:ext cx="45720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419360" y="3962520"/>
            <a:ext cx="6858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876560" y="373356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105520" y="3429000"/>
            <a:ext cx="3808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mposite Sou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comp_sndg3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5181480" cy="4227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2280" y="18288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level environment is typically moist but statically 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533412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sounding constructed at center of heavy snow band.  Temperature profile is shown with thick solid line; dew point profile is shown with dashed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isture and Stability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55627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Lifted Index in 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LICOLD" descr=""/>
          <p:cNvPicPr/>
          <p:nvPr/>
        </p:nvPicPr>
        <p:blipFill>
          <a:blip r:embed="rId1"/>
          <a:srcRect l="25001" t="15332" r="21000" b="15332"/>
          <a:stretch/>
        </p:blipFill>
        <p:spPr>
          <a:xfrm>
            <a:off x="4114800" y="1008000"/>
            <a:ext cx="4648320" cy="4475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ted Index &gt;&gt; 0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95280" y="152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isture and Stability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mncapecold" descr=""/>
          <p:cNvPicPr/>
          <p:nvPr/>
        </p:nvPicPr>
        <p:blipFill>
          <a:blip r:embed="rId1"/>
          <a:srcRect l="25001" t="15332" r="21000" b="15332"/>
          <a:stretch/>
        </p:blipFill>
        <p:spPr>
          <a:xfrm>
            <a:off x="4114800" y="1008000"/>
            <a:ext cx="4724280" cy="4548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495680" y="55627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mean parcel CAPE in J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1600200"/>
            <a:ext cx="3733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ted Index &gt;&gt; 0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parcel CAPE ~ 0 J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Elevated Thunderstorms (cont.)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(Colman 1990, MW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ld sector MCSs generally fit the Maddo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rontal or meso-hig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 flash flood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ed thunderstorms can occur during any time of year; they usually as associated with heavy rain/snow or hail; nearly all winter-season thunderstorms over the United States east of the Rockies (excluding Florida) are of the elevated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matology of elevated thunderstorms reveals a bimodal variation; primary maximum in April, secondary maximum in Sept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isture and Stability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676520"/>
            <a:ext cx="4038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ted Index &gt;&gt; 0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parcel CAPE ~ 0 J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590920"/>
            <a:ext cx="4191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PE = 10-50 J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5592600"/>
            <a:ext cx="4648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maximu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PE in J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xcapecold" descr=""/>
          <p:cNvPicPr/>
          <p:nvPr/>
        </p:nvPicPr>
        <p:blipFill>
          <a:blip r:embed="rId1"/>
          <a:srcRect l="26003" t="14003" r="21000" b="14003"/>
          <a:stretch/>
        </p:blipFill>
        <p:spPr>
          <a:xfrm>
            <a:off x="4348080" y="990720"/>
            <a:ext cx="45608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isture and Stability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16765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ted Index &gt;&gt; 0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2666880"/>
            <a:ext cx="3886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PE = 10-50 J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3489480"/>
            <a:ext cx="396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of elevated instability (CSI, WSS, or elevated convective instability), typically to the south-southeast of the heavy snow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5562720"/>
            <a:ext cx="518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 horizontal EPV, in PVU, calculated at 700 mb.  Solid lines denote positive EPV; dashed lines denote negative EP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21337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parcel CAPE ~ 0 J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HEPVTS700" descr=""/>
          <p:cNvPicPr/>
          <p:nvPr/>
        </p:nvPicPr>
        <p:blipFill>
          <a:blip r:embed="rId1"/>
          <a:srcRect l="4002" t="15332" r="30000" b="4668"/>
          <a:stretch/>
        </p:blipFill>
        <p:spPr>
          <a:xfrm>
            <a:off x="4114800" y="1143000"/>
            <a:ext cx="4724280" cy="4267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267080" y="1219320"/>
            <a:ext cx="45720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isture and Stability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765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ted Index &gt;&gt; 0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575080"/>
            <a:ext cx="426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PE = 10-75 J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8006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urface-500 mb mean relative humidity (&gt; 7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3048120"/>
            <a:ext cx="411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of elevated instability       (CSI, WSS, or elevated convective instability), typically to the south-southeast of the heavy snow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563868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surface-500 mb mean relative humidity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rhmeancold" descr=""/>
          <p:cNvPicPr/>
          <p:nvPr/>
        </p:nvPicPr>
        <p:blipFill>
          <a:blip r:embed="rId1"/>
          <a:srcRect l="25001" t="15332" r="22001" b="15332"/>
          <a:stretch/>
        </p:blipFill>
        <p:spPr>
          <a:xfrm>
            <a:off x="4343400" y="1150920"/>
            <a:ext cx="4495680" cy="4411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2280" y="21337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parcel CAPE ~0 J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isture and Stability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5238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ted Index &gt;&gt; 0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2438280"/>
            <a:ext cx="4191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PE = 10-50 J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6324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urface-500 mb mean relative humid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539424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pitable water (PW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20% of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5909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971800"/>
            <a:ext cx="411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of elevated instability       (CSI, WSS, or elevated convective instability), typically to the south-southeast of the heavy snow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55627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precipitable water in in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WCOLD" descr=""/>
          <p:cNvPicPr/>
          <p:nvPr/>
        </p:nvPicPr>
        <p:blipFill>
          <a:blip r:embed="rId1"/>
          <a:srcRect l="26003" t="15332" r="21000" b="14003"/>
          <a:stretch/>
        </p:blipFill>
        <p:spPr>
          <a:xfrm>
            <a:off x="4495680" y="12193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8600" y="19810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parcel CAPE ~ 0 J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1 March 2000 Cas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te-winter, surprise heavy snow event occurred during the morning of 11 March 2000.  Forecasters anticipated 3-4 inches of snow, but the system became convective, resulting in heavy snow in a narrow band in Missouri and Illino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wfall occurred mainly during the morning hours (0900—1500 UTC) in east-central Missou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ndersnow” was observed at Spirit of St. Louis (KSUS) and St. Louis International (KSTL) airports for approximately 2 hours, beginning shortly after 1200 U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nowfall would have been recorded but the ground temperature was quite warm, meaning at least a few inches of snow was “lost” due to mel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orm Total Snowfall 11 March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00mar11_snow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6019920" cy="4103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2057400" y="5257800"/>
            <a:ext cx="51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snowfall in Missouri and Illinois in inches, as analyzed by F. H. Glass of KSTL NWS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frared Satellite Loop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alid 0015-0315 UTC; 0715-2315 U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84836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ater Vapor Satellite Loop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alid 0015-0315 UTC; 0715-2315 U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43000" y="1379520"/>
            <a:ext cx="7391520" cy="50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000 UTC 11 March 2000 Surfac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61722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0 UTC surface analysis.  Blue scalloped line denotes region reporting snow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00mar11_00sfc" descr=""/>
          <p:cNvPicPr/>
          <p:nvPr/>
        </p:nvPicPr>
        <p:blipFill>
          <a:blip r:embed="rId1"/>
          <a:stretch/>
        </p:blipFill>
        <p:spPr>
          <a:xfrm>
            <a:off x="1371600" y="993600"/>
            <a:ext cx="6553080" cy="5081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600 UTC 11 March 2000 Surfac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617220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00 UTC surface analysis.  Blue scalloped line denotes region reporting snow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00mar11_06sfc" descr=""/>
          <p:cNvPicPr/>
          <p:nvPr/>
        </p:nvPicPr>
        <p:blipFill>
          <a:blip r:embed="rId1"/>
          <a:stretch/>
        </p:blipFill>
        <p:spPr>
          <a:xfrm>
            <a:off x="1447920" y="870120"/>
            <a:ext cx="6705360" cy="52401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Elevated Thunderstorms Frequenc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8600" y="914400"/>
            <a:ext cx="6553080" cy="5791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0" y="2327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lman,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MW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00 UTC 11 March 2000 Surfac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617220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0 UTC surface analysis.  Blue scalloped line denotes region reporting s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00mar11_12sfc" descr=""/>
          <p:cNvPicPr/>
          <p:nvPr/>
        </p:nvPicPr>
        <p:blipFill>
          <a:blip r:embed="rId1"/>
          <a:stretch/>
        </p:blipFill>
        <p:spPr>
          <a:xfrm>
            <a:off x="1523880" y="1036800"/>
            <a:ext cx="6400800" cy="5038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800 UTC 11 March 2000 Surfac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617220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00 UTC surface analysis.  Blue scalloped line denotes region reporting s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00mar11_18sfc" descr=""/>
          <p:cNvPicPr/>
          <p:nvPr/>
        </p:nvPicPr>
        <p:blipFill>
          <a:blip r:embed="rId1"/>
          <a:stretch/>
        </p:blipFill>
        <p:spPr>
          <a:xfrm>
            <a:off x="1676520" y="1117440"/>
            <a:ext cx="6400800" cy="4981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700te" descr=""/>
          <p:cNvPicPr/>
          <p:nvPr/>
        </p:nvPicPr>
        <p:blipFill>
          <a:blip r:embed="rId1"/>
          <a:srcRect l="6000" t="6003" r="3000" b="6003"/>
          <a:stretch/>
        </p:blipFill>
        <p:spPr>
          <a:xfrm>
            <a:off x="1219320" y="914400"/>
            <a:ext cx="6933960" cy="5029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295280" y="228600"/>
            <a:ext cx="6477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00 mb </a:t>
            </a:r>
            <a:r>
              <a:rPr b="1" lang="en-US" sz="3200" spc="-1" strike="noStrike">
                <a:solidFill>
                  <a:srgbClr val="0000ff"/>
                </a:solidFill>
                <a:latin typeface="WP Greek Century"/>
                <a:ea typeface="WP Greek Century"/>
              </a:rPr>
              <a:t>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700te2" descr=""/>
          <p:cNvPicPr/>
          <p:nvPr/>
        </p:nvPicPr>
        <p:blipFill>
          <a:blip r:embed="rId1"/>
          <a:srcRect l="6000" t="6003" r="3000" b="7332"/>
          <a:stretch/>
        </p:blipFill>
        <p:spPr>
          <a:xfrm>
            <a:off x="1219320" y="914400"/>
            <a:ext cx="6933960" cy="4952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438280" y="228600"/>
            <a:ext cx="426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00 mb </a:t>
            </a:r>
            <a:r>
              <a:rPr b="1" lang="en-US" sz="3200" spc="-1" strike="noStrike">
                <a:solidFill>
                  <a:srgbClr val="0000ff"/>
                </a:solidFill>
                <a:latin typeface="WP Greek Century"/>
                <a:ea typeface="WP Greek Century"/>
              </a:rPr>
              <a:t>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HEPVTS700" descr=""/>
          <p:cNvPicPr/>
          <p:nvPr/>
        </p:nvPicPr>
        <p:blipFill>
          <a:blip r:embed="rId1"/>
          <a:srcRect l="4002" t="15332" r="30000" b="4668"/>
          <a:stretch/>
        </p:blipFill>
        <p:spPr>
          <a:xfrm>
            <a:off x="2057400" y="167652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90720" y="228600"/>
            <a:ext cx="73152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00 mb EPV using </a:t>
            </a:r>
            <a:r>
              <a:rPr b="1" lang="en-US" sz="3200" spc="-1" strike="noStrike">
                <a:solidFill>
                  <a:srgbClr val="0000ff"/>
                </a:solidFill>
                <a:latin typeface="WP Greek Century"/>
                <a:ea typeface="WP Greek Century"/>
              </a:rPr>
              <a:t>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e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for                 00 UTC 11 March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17524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1752480"/>
            <a:ext cx="4724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ability Analysis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(cont.)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000 UTC 11 March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00mar11_00epv700" descr=""/>
          <p:cNvPicPr/>
          <p:nvPr/>
        </p:nvPicPr>
        <p:blipFill>
          <a:blip r:embed="rId1"/>
          <a:stretch/>
        </p:blipFill>
        <p:spPr>
          <a:xfrm>
            <a:off x="1752480" y="1292400"/>
            <a:ext cx="6400800" cy="4404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52480" y="571500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mb HEPV in PVU.  Solid lines denote positive EPV; dashed lines denote negative EPV.  Line  denotes location of cross s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3124080"/>
            <a:ext cx="45720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67080" y="3200400"/>
            <a:ext cx="184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 Narrow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4114800"/>
            <a:ext cx="184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 Narrow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ability Analysis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(cont.)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000 UTC 11 March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mar11_00csec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10480" cy="3121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" y="5105520"/>
            <a:ext cx="8305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K (dashed lines) and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lid lines) at left; relative humidity (%) at r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HEPVTS712" descr=""/>
          <p:cNvPicPr/>
          <p:nvPr/>
        </p:nvPicPr>
        <p:blipFill>
          <a:blip r:embed="rId1"/>
          <a:srcRect l="6000" t="19332" r="13001" b="4668"/>
          <a:stretch/>
        </p:blipFill>
        <p:spPr>
          <a:xfrm>
            <a:off x="1523880" y="1371600"/>
            <a:ext cx="6172200" cy="4343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143000" y="152280"/>
            <a:ext cx="70102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00 mb EPV using </a:t>
            </a:r>
            <a:r>
              <a:rPr b="1" lang="en-US" sz="3200" spc="-1" strike="noStrike">
                <a:solidFill>
                  <a:srgbClr val="0000ff"/>
                </a:solidFill>
                <a:latin typeface="WP Greek Century"/>
                <a:ea typeface="WP Greek Century"/>
              </a:rPr>
              <a:t>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e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for                    12 UTC 11 March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ability Analysis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(cont.)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00 UTC 11 March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00mar11_12epv700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070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905120" y="5486400"/>
            <a:ext cx="556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mb HEPV in PVU.  Solid lines denote positive EPV; dashed lines denote negative EPV.  Line denotes location of cross s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3276720"/>
            <a:ext cx="99072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320040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 Narrow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3733920"/>
            <a:ext cx="18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 Narrow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ability Analysis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(cont.)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00 UTC 11 March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mar11_12csec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3225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57200" y="5410080"/>
            <a:ext cx="8305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K (dashed lines) and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lid lines) at left; relative humidity (%) at r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Elevated Thunderstorms Climat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914400"/>
            <a:ext cx="7124760" cy="594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86960" y="342900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lman,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MW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50-750 mb Average Frontogenesis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0000 UTC 11 March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5851440"/>
            <a:ext cx="63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50-750 mb frontogenesis in 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(100 km · 3 h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Solid blue lines denote frontogenesis; dashed red lines denote fronto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front850-750_00z" descr=""/>
          <p:cNvPicPr/>
          <p:nvPr/>
        </p:nvPicPr>
        <p:blipFill>
          <a:blip r:embed="rId1"/>
          <a:srcRect l="4649" t="5335" r="0" b="3200"/>
          <a:stretch/>
        </p:blipFill>
        <p:spPr>
          <a:xfrm>
            <a:off x="1371600" y="1066680"/>
            <a:ext cx="6477120" cy="46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50-750 mb Average Frontogenesis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00 UTC 11 March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586728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50-750 mb frontogenesis 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(100 km · 3 h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Solid blue lines denote frontogenesis; dashed red lines denote fronto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front850-750_12z" descr=""/>
          <p:cNvPicPr/>
          <p:nvPr/>
        </p:nvPicPr>
        <p:blipFill>
          <a:blip r:embed="rId1"/>
          <a:srcRect l="7998" t="6003" r="1998" b="6003"/>
          <a:stretch/>
        </p:blipFill>
        <p:spPr>
          <a:xfrm>
            <a:off x="1371600" y="990720"/>
            <a:ext cx="662940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grslp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47" name="gromg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48" name="srslp" descr=""/>
          <p:cNvPicPr/>
          <p:nvPr/>
        </p:nvPicPr>
        <p:blipFill>
          <a:blip r:embed="rId3"/>
          <a:stretch/>
        </p:blipFill>
        <p:spPr>
          <a:xfrm>
            <a:off x="3581280" y="57168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49" name="grslp" descr=""/>
          <p:cNvPicPr/>
          <p:nvPr/>
        </p:nvPicPr>
        <p:blipFill>
          <a:blip r:embed="rId4"/>
          <a:srcRect l="6000" t="6003" r="3000" b="4668"/>
          <a:stretch/>
        </p:blipFill>
        <p:spPr>
          <a:xfrm>
            <a:off x="1143000" y="1219320"/>
            <a:ext cx="6934320" cy="51051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3520" y="152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round-Relative Streamlines and Pressure: 292 K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gromg" descr=""/>
          <p:cNvPicPr/>
          <p:nvPr/>
        </p:nvPicPr>
        <p:blipFill>
          <a:blip r:embed="rId1"/>
          <a:srcRect l="7001" t="6998" r="3000" b="4668"/>
          <a:stretch/>
        </p:blipFill>
        <p:spPr>
          <a:xfrm>
            <a:off x="1295280" y="1219320"/>
            <a:ext cx="6858000" cy="5048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76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round-Relative Isentropic Omegas:             292 K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srslp" descr=""/>
          <p:cNvPicPr/>
          <p:nvPr/>
        </p:nvPicPr>
        <p:blipFill>
          <a:blip r:embed="rId1"/>
          <a:srcRect l="4998" t="7332" r="3000" b="4668"/>
          <a:stretch/>
        </p:blipFill>
        <p:spPr>
          <a:xfrm>
            <a:off x="1143000" y="1219320"/>
            <a:ext cx="7010280" cy="5029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8600" y="763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stem-Relative Streamlines and Pressure:        292 K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= 276.3</a:t>
            </a:r>
            <a:r>
              <a:rPr b="1" lang="en-US" sz="24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14.0 m s</a:t>
            </a:r>
            <a:r>
              <a:rPr b="1" lang="en-US" sz="2400" spc="-1" strike="noStrike" baseline="22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sromg" descr=""/>
          <p:cNvPicPr/>
          <p:nvPr/>
        </p:nvPicPr>
        <p:blipFill>
          <a:blip r:embed="rId1"/>
          <a:srcRect l="6000" t="6003" r="3000" b="4668"/>
          <a:stretch/>
        </p:blipFill>
        <p:spPr>
          <a:xfrm>
            <a:off x="1219320" y="1295280"/>
            <a:ext cx="6933960" cy="51055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38080" y="152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stem-Relative Isentropic Omegas:            292 K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lcpcd" descr=""/>
          <p:cNvPicPr/>
          <p:nvPr/>
        </p:nvPicPr>
        <p:blipFill>
          <a:blip r:embed="rId1"/>
          <a:srcRect l="6000" t="6003" r="3000" b="4668"/>
          <a:stretch/>
        </p:blipFill>
        <p:spPr>
          <a:xfrm>
            <a:off x="1219320" y="1143000"/>
            <a:ext cx="6933960" cy="51055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380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ifting Condensation Pressures and Condensation Difference: 292 K Surfac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31240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Nearly 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grmxr" descr=""/>
          <p:cNvPicPr/>
          <p:nvPr/>
        </p:nvPicPr>
        <p:blipFill>
          <a:blip r:embed="rId1"/>
          <a:srcRect l="6000" t="6003" r="1998" b="4668"/>
          <a:stretch/>
        </p:blipFill>
        <p:spPr>
          <a:xfrm>
            <a:off x="1143000" y="114300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round-Relative Streamlines and Mixing Ratio: 292 K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srmxr" descr=""/>
          <p:cNvPicPr/>
          <p:nvPr/>
        </p:nvPicPr>
        <p:blipFill>
          <a:blip r:embed="rId1"/>
          <a:srcRect l="6000" t="6003" r="3000" b="4668"/>
          <a:stretch/>
        </p:blipFill>
        <p:spPr>
          <a:xfrm>
            <a:off x="1219320" y="914400"/>
            <a:ext cx="6933960" cy="51055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5720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stem-Relative Streamlines and Mixing Ratio: 292 K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grmtv" descr=""/>
          <p:cNvPicPr/>
          <p:nvPr/>
        </p:nvPicPr>
        <p:blipFill>
          <a:blip r:embed="rId1"/>
          <a:srcRect l="7001" t="6003" r="3000" b="6003"/>
          <a:stretch/>
        </p:blipFill>
        <p:spPr>
          <a:xfrm>
            <a:off x="990720" y="1219320"/>
            <a:ext cx="7086600" cy="5197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57200" y="1522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round-Relative Moisture Transport Vectors: 292 K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Elevated Thunderstorms Climat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685800"/>
            <a:ext cx="7039080" cy="617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10640" y="342900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lman,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MW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srmtv" descr=""/>
          <p:cNvPicPr/>
          <p:nvPr/>
        </p:nvPicPr>
        <p:blipFill>
          <a:blip r:embed="rId1"/>
          <a:srcRect l="6000" t="6003" r="3000" b="6003"/>
          <a:stretch/>
        </p:blipFill>
        <p:spPr>
          <a:xfrm>
            <a:off x="1219320" y="914400"/>
            <a:ext cx="6933960" cy="50292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80880" y="763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stem-Relative Moisture Transport Vectors: 292 K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cgmap2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29528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00-500 hPa Thic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cgmap1" descr=""/>
          <p:cNvPicPr/>
          <p:nvPr/>
        </p:nvPicPr>
        <p:blipFill>
          <a:blip r:embed="rId1"/>
          <a:srcRect l="0" t="0" r="0" b="2221"/>
          <a:stretch/>
        </p:blipFill>
        <p:spPr>
          <a:xfrm>
            <a:off x="1066680" y="914400"/>
            <a:ext cx="6858000" cy="5029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219320" y="304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ngential Ageostrophic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lightning3-11-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90720" y="609480"/>
            <a:ext cx="4724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oud-Ground Lightning Flashes 9-10 UTC 11 March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urtesy of Phil Both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spclogo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2286000" cy="174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lightning3-11-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838080" y="457200"/>
            <a:ext cx="4876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oud-Ground Lightning Flashes 10-11 UTC 11 March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urtesy of Phil Both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spclogo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2286000" cy="174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lightning3-11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914400" y="609480"/>
            <a:ext cx="4800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oud-Ground Lightning Flashes 11-12 UTC 11 March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urtesy of Phil Both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spclogo" descr=""/>
          <p:cNvPicPr/>
          <p:nvPr/>
        </p:nvPicPr>
        <p:blipFill>
          <a:blip r:embed="rId2"/>
          <a:stretch/>
        </p:blipFill>
        <p:spPr>
          <a:xfrm>
            <a:off x="228600" y="464832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lightning3-11-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219320" y="457200"/>
            <a:ext cx="4876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oud-Ground Lightning Flashes 12-13 UTC 11 March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urtesy of Phil Both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spclogo" descr=""/>
          <p:cNvPicPr/>
          <p:nvPr/>
        </p:nvPicPr>
        <p:blipFill>
          <a:blip r:embed="rId2"/>
          <a:stretch/>
        </p:blipFill>
        <p:spPr>
          <a:xfrm>
            <a:off x="228600" y="457200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lightning3-11-14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143000" y="685800"/>
            <a:ext cx="4724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oud-Ground Lightning Flashes 13-14 UTC 11 March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urtesy of Phil Both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spclogo" descr=""/>
          <p:cNvPicPr/>
          <p:nvPr/>
        </p:nvPicPr>
        <p:blipFill>
          <a:blip r:embed="rId2"/>
          <a:stretch/>
        </p:blipFill>
        <p:spPr>
          <a:xfrm>
            <a:off x="228600" y="4648320"/>
            <a:ext cx="2590920" cy="17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lightning3-11-15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62120" y="762120"/>
            <a:ext cx="4572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oud-Ground Lightning Flashes 14-15 UTC 11 March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urtesy of Phil Both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spclogo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2286000" cy="174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1295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y snow bands accompanied by thunder typically develop under the following con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2514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2057400"/>
            <a:ext cx="830556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-800 km northeast or northwest of a weak surface low and on the cool side of a warm front or quasi-stationary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xit region of a southerly LLJ, in a region of warm-air advection and high positiv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v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s veer significantly through low levels, become southwesterly at middle levels, and are responsible for advecting drier air to destabilize the region and enhance snowfall 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 broad region of upper-level divergence in a coupled ULJ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statically stable environment; however, CSI, WSS, or elevated convective instability typically exists, especially near 700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5303880"/>
            <a:ext cx="84582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-level jet (LLJ) ascends over cool, moist air creating a layer of elevated convective instability (</a:t>
            </a:r>
            <a:r>
              <a:rPr b="1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</a:t>
            </a:r>
            <a:r>
              <a:rPr b="1" lang="en-US" sz="22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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WP MathA"/>
                <a:ea typeface="WP MathA"/>
              </a:rPr>
              <a:t>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z &lt; 0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bove stationary front.  MCS will form when convectively unstable layer is saturat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3244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r and Parsons, 1993; MWR, vol. 121, 1078-10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Maximum Theta-e CA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990720"/>
            <a:ext cx="7086600" cy="578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81680" y="2251080"/>
            <a:ext cx="251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ta-e CA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se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t or abov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al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 air is 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720" y="601992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rket,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at Elevated Thunderstorms can 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219320"/>
            <a:ext cx="815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irst major winter storm of the season developed over the central Rockies as a powerful upper-level jet stream dove into the southern Rockies …. During the early morning hours [26 October 1997], the system went convective with widespread “thundersnow” reported over the southern half of Iowa.  Lightning struck a tree outside of a house in Nevada causing damage to electrical appliances as well as telephone damage in the house.  The “thundersnow” resulted in very heavy snowfall with a band of nine inch or greater snowfall extending from Ringgold County in the south central [part of the state] to Mahaska County in the southeast part of the state .… 13 Iowa counties were declared Federal Disaster Areas .… Clean-up costs for the 13 counties was [sic.] estimated at $5.1 million, ranging from $30,000 in Tama county to $1.84 million in Polk County.” (NCDC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Storm Dat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01:25:11Z</dcterms:created>
  <dc:creator>Jim Moore</dc:creator>
  <dc:description/>
  <dc:language>en-US</dc:language>
  <cp:lastModifiedBy>James Moore</cp:lastModifiedBy>
  <dcterms:modified xsi:type="dcterms:W3CDTF">2005-11-03T02:35:04Z</dcterms:modified>
  <cp:revision>33</cp:revision>
  <dc:subject/>
  <dc:title>Cold Season Elevated Thunderstorms</dc:title>
</cp:coreProperties>
</file>